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87520" y="18720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45480" y="674064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- </a:t>
            </a:r>
            <a:fld id="{C0DD7A78-D5B9-4DE7-93D5-691F069D62A4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55640" y="1160640"/>
            <a:ext cx="6184800" cy="86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DES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89000" y="2790720"/>
            <a:ext cx="5991120" cy="33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sign 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-Oriented Desig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 Interfac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070000" y="101916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volution of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1240" y="316224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65160" y="403848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17800" y="321948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50760" y="407664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6120" y="255276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7600" y="3257640"/>
            <a:ext cx="342720" cy="152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274760" y="3048120"/>
            <a:ext cx="228600" cy="209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1480" y="3086280"/>
            <a:ext cx="20952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208240" y="3809880"/>
            <a:ext cx="38160" cy="266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22480" y="3733920"/>
            <a:ext cx="56880" cy="342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627280" y="3448080"/>
            <a:ext cx="38088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5680" y="4648320"/>
            <a:ext cx="1908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036880" y="4648320"/>
            <a:ext cx="38160" cy="266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65800" y="20764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65800" y="310500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0080" y="30862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08640" y="405756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70240" y="405756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27720" y="501012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89320" y="499104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94640" y="401940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94640" y="31240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80040" y="2666880"/>
            <a:ext cx="1447920" cy="438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08880" y="2666880"/>
            <a:ext cx="1466640" cy="476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551480" y="3657600"/>
            <a:ext cx="571320" cy="41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22800" y="3676680"/>
            <a:ext cx="628560" cy="36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51480" y="462924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70440" y="4648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27960" y="2629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5520" y="371484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7960" y="3695760"/>
            <a:ext cx="146664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532400" y="4648320"/>
            <a:ext cx="1238040" cy="36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70000" y="560700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227560" y="5987880"/>
            <a:ext cx="177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03240" y="1019160"/>
            <a:ext cx="5429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ructure Chart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4240" y="21146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94240" y="31431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08160" y="31240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7080" y="4095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98680" y="4095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6160" y="50482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7760" y="5029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23080" y="40575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23080" y="31622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408480" y="2705040"/>
            <a:ext cx="1447560" cy="438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36960" y="2705040"/>
            <a:ext cx="1467000" cy="476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779560" y="3695760"/>
            <a:ext cx="571680" cy="419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51240" y="3714840"/>
            <a:ext cx="62856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9560" y="466740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8880" y="46864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6040" y="2666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3960" y="375300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6040" y="3733920"/>
            <a:ext cx="146700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760840" y="4686480"/>
            <a:ext cx="123804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198440" y="2133720"/>
            <a:ext cx="3105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198440" y="5600880"/>
            <a:ext cx="1047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89240" y="428616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389240" y="2133720"/>
            <a:ext cx="0" cy="1562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8640" y="379728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265880" y="3625920"/>
            <a:ext cx="781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n-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408720" y="267336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n-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36840" y="57722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47040" y="48769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3720" y="626760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455920" y="6248520"/>
            <a:ext cx="1466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084560" y="610236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351400" y="2762280"/>
            <a:ext cx="93348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475320" y="3772080"/>
            <a:ext cx="685800" cy="209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43120" y="1019160"/>
            <a:ext cx="1949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od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7760" y="19051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7760" y="29336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32040" y="29145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3886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2200" y="3886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79680" y="48387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280" y="48196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46600" y="38480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46600" y="2952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332000" y="2495520"/>
            <a:ext cx="1447560" cy="438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60840" y="2495520"/>
            <a:ext cx="1466640" cy="476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03440" y="3486240"/>
            <a:ext cx="571320" cy="419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74760" y="3505320"/>
            <a:ext cx="62856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3440" y="445788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22400" y="447660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79560" y="24573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27480" y="354348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560" y="3524400"/>
            <a:ext cx="146700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4360" y="4476600"/>
            <a:ext cx="1238040" cy="3621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41920" y="2895480"/>
            <a:ext cx="1104840" cy="62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703920" y="4057560"/>
            <a:ext cx="390600" cy="31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13640" y="4371840"/>
            <a:ext cx="399960" cy="2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113600" y="4371840"/>
            <a:ext cx="390600" cy="2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7113600" y="4057560"/>
            <a:ext cx="399960" cy="2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104240" y="352440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04240" y="467676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56640" y="4067280"/>
            <a:ext cx="1104840" cy="62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94520" y="240048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70720" y="5219640"/>
            <a:ext cx="1104840" cy="2476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51640" y="2133720"/>
            <a:ext cx="1104840" cy="2476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4200" y="436248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408880" y="3819600"/>
            <a:ext cx="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104240" y="3819600"/>
            <a:ext cx="1304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751280" y="2181240"/>
            <a:ext cx="1581120" cy="157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70360" y="4457880"/>
            <a:ext cx="1609920" cy="1009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455840" y="5759280"/>
            <a:ext cx="177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6840" y="5797440"/>
            <a:ext cx="1593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986200" y="619200"/>
            <a:ext cx="3524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odular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84160" y="1457280"/>
            <a:ext cx="75153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three basic types of mod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quent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referenced and executed without apparent inter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can be interrupted by other software prior to completion and restarted at the point of inter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executes concurrently with other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an example, Ada provides features (sometimes independent of the operating system) which directly support the design and coding of these types of mod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dures an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 with entry points tied to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 which may be executed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330280" y="885960"/>
            <a:ext cx="4413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hesion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12920" y="1981080"/>
            <a:ext cx="38088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12920" y="2171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12920" y="2362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22280" y="2543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22280" y="2733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1292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12920" y="3086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22280" y="3267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22280" y="34574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12920" y="36482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12920" y="38386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22280" y="4019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22280" y="42102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12920" y="43718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12920" y="45626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22280" y="4743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22280" y="49338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22280" y="5114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22280" y="5305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5486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32000" y="5676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5838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22280" y="6029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62103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12760" y="1682640"/>
            <a:ext cx="603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170000" y="648324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274840" y="1933560"/>
            <a:ext cx="64483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  -  module performs one distinct procedural ta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quential  -  module performs sequence of procedural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al  -  module performs all tasks on a single area of a data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dural  -  procedural tasks are related and performed in some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mporal  -  All procedural tasks must be performed within a given span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ical  -  All procedures have some logical relationsh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incidental  -  No relationship exists between the tasks in the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438280" y="847800"/>
            <a:ext cx="431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pling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12920" y="1981080"/>
            <a:ext cx="38088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12920" y="2171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12920" y="2362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22280" y="2543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22280" y="2733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1292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12920" y="3086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22280" y="3267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22280" y="34574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12920" y="36482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12920" y="38386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22280" y="4019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22280" y="42102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12920" y="43718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12920" y="45626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22280" y="4743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22280" y="49338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22280" y="5114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22280" y="5305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32000" y="5486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32000" y="5676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22280" y="5838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22280" y="6029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32000" y="62103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112760" y="1682640"/>
            <a:ext cx="603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170000" y="648324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179800" y="1876320"/>
            <a:ext cx="671508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  -  modules make use of data or control info from each other or has branches into middle of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  -  modules commonly reference a global data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rnal  -  modules regularly reference an external environment like I/O or comm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 -  modules regularly pass control info between each other, but data access outside of modules is infrequ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mp  -  All, or part, of data structures passed between modules rather than single-value argu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 -  Simple, single-vallues arguments passed between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direct coupling  -  modules do not communicate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25360" y="870120"/>
            <a:ext cx="6980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rable Attributes of Mod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70040" y="1933560"/>
            <a:ext cx="759132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 In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the isolation of particular functions to particular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he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the binding of a single task to a single module without interaction with or side effects from other modules;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ong Cohe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is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p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a measure of the interconnection between modules;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ose Coup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 usually implemented by exclusive use of interfaces through subprograms, is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209680" y="619200"/>
            <a:ext cx="5073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5120" y="1457280"/>
            <a:ext cx="822024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ocumentation of a design should include the following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data, including the data flow and data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interfaces within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interfaces between the program and other elements in its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each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structure and details of the global data and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pro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ross-reference between the design and the requirements which drove th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776680" y="679320"/>
            <a:ext cx="3830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-MCCR-80012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82720" y="1322280"/>
            <a:ext cx="7310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D-STD-2167A Softwar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98320" y="2505240"/>
            <a:ext cx="802944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liminar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I Overview, including architecture, system states, and memory and processing time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I Design Description, including descriptions of the component CS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aile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 Design and Constraints, including I/O data elements, local data elements, interrupts and signals, algorithms, error handling, data conversion, use of external elements, logical flow, data structures, local data files or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bal CSCI data and 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ments Trac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227240" y="603360"/>
            <a:ext cx="6777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valuation Criteria for De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36480" y="1362240"/>
            <a:ext cx="79153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l 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derstand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ceability to requirements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priate analysis, design, or coding technique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priate allocation of sizing and timing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equacy of requirements allocation for the CSCIs and CS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istency between data definition and data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cy and required precision of constants an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Tools often support the developing of designs by providing automated checking of these and other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587760" y="905040"/>
            <a:ext cx="5024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Life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9400" y="121932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98720" y="22096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18040" y="3124080"/>
            <a:ext cx="1828800" cy="685800"/>
          </a:xfrm>
          <a:prstGeom prst="roundRect">
            <a:avLst/>
          </a:prstGeom>
          <a:solidFill>
            <a:srgbClr val="eaec5e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61040" y="40384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04040" y="49528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23000" y="58672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08200" y="1600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9440" y="160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27520" y="2590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3244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46840" y="3505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5140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89840" y="44197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9440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32840" y="5334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13720" y="5334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60480" y="1284120"/>
            <a:ext cx="1415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7980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398760" y="326556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94400" y="4179960"/>
            <a:ext cx="882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84760" y="5094360"/>
            <a:ext cx="907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904080" y="600876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8280" y="38736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739880" y="790560"/>
            <a:ext cx="59371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Flow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8960" y="2228760"/>
            <a:ext cx="4648320" cy="514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514520" y="1270080"/>
            <a:ext cx="593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Flow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93720" y="2505240"/>
            <a:ext cx="78008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information flow characteristics to derive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two design analysis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 Analysis an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information flow exhibits distinct boundaries between incoming and outgoing data (i.e., input, processing, and output are the three key elements of the data f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action Analysis an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an information item causes the flow to branch along a choice of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 Diagrams (DFD's) are the common graphical means to represent the flow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041480" y="1098720"/>
            <a:ext cx="695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ransform Analysis an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46040" y="2066760"/>
            <a:ext cx="82771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the fundamental syste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and refine the DFD's for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e the transform and transaction characteristics of the DFD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olate the transform center by specifying incoming and outgoing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"first-level factoring" - derive the mapping from the major parts of the DFD to a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"second-level factoring" - map individual bubbles in the DFD into modules in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ine the above "first-cut" program structure - maximize cohesion, minimize coupling, and build a structur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050840" y="984240"/>
            <a:ext cx="7284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ransaction Analysis an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46040" y="2104920"/>
            <a:ext cx="82771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the fundamental syste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and refine the DFD's for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e the transform and transaction characteristics of the DFD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olate the transaction center and the flow characteristics of each actio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p the DFD into a software structure amenable to transac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 and refine the transaction structure and the structure of each actio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ine the above "first-cut" program structure - maximize cohesion, minimize coupling, and build a structur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635200" y="1251000"/>
            <a:ext cx="3957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Heu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12800" y="2600280"/>
            <a:ext cx="7877160" cy="36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coupling and maximize coh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fan-out and strive for fan-in as the depth in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side-effects; keep the scope of the effect of a module within the scope of control of that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e module interfaces to reduce complexity and redundancy; improve consistency of the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 modules whose function is predictable and te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ive for single-entry, single-exit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 softwawre based on design constraints and portability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244520" y="885960"/>
            <a:ext cx="69292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Structure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17400" y="235260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7120" y="2838600"/>
            <a:ext cx="5162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225440" y="1384200"/>
            <a:ext cx="692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Structure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17400" y="2695680"/>
            <a:ext cx="801036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key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ckson System Develop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concentrates on process modeling and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ical Construction of Programs (Warnier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rigorous view of data structure and focus on detailed procedur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Structured System Development (Orr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incorporates data flow analysis with the Logical Construction of Programs and Jackson System Development (JSD to a lesser ext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1970's technology and is not covered in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106720" y="771480"/>
            <a:ext cx="52023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27120" y="3390840"/>
            <a:ext cx="42102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1163520" y="1327320"/>
            <a:ext cx="6673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 (OO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98320" y="2733840"/>
            <a:ext cx="8105760" cy="33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rns itself with creating a model of the real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 represent the information domain, and the operations associated with that information are grouped with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sages (interfaces) provide a means by which operations are inv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ing of objects with their associated operations takes place - data and procedural abstractions are combined in a single program component called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D representations are more prone than others to programming language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925640" y="1270080"/>
            <a:ext cx="4998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erminology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60520" y="2695680"/>
            <a:ext cx="8163000" cy="28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component of the real world that is mapped into the software domain or an informati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hod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processes which act on objects to transform their internal data structure or provide information on their internal 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sag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request to an object to perform one of its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set of objects which share common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nc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n individual object of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652840" y="923760"/>
            <a:ext cx="418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sign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7400" y="1952640"/>
            <a:ext cx="791532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first step in the development phase for any engineer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es a model of the software which is to be cod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6520" y="4203720"/>
            <a:ext cx="8137440" cy="1685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beginning of wisdom for a computer programmer is to recognize the difference between getting a program to work and getting it right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- M.A. Jackson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nciples of Program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19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405080" y="927000"/>
            <a:ext cx="6573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55560" y="1990800"/>
            <a:ext cx="789624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fy the attributes of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the operations that may be applied to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ablish the interfaces of the objects to the outside world (Ada package specifications may be used if Ada is the implementation langu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 the objects (Ada package bodies may be used if Ada is the implementation langu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ical representation may be employed; Booch Diagrams and Object Interaction Diagrams are the recommended diagramming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47800" y="755640"/>
            <a:ext cx="7691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 Interaction Diagrams (OI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5400" y="160020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65400" y="205740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65400" y="30481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65400" y="37339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70120" y="5257800"/>
            <a:ext cx="25146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37200" y="396252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75440" y="632448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275440" y="3962520"/>
            <a:ext cx="761760" cy="2361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094600" y="3962520"/>
            <a:ext cx="762120" cy="2361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7332840" y="5334120"/>
            <a:ext cx="22860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580000" y="53341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427720" y="58672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170160" y="1665360"/>
            <a:ext cx="10224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332080" y="555156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66000" y="4027320"/>
            <a:ext cx="615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170160" y="2046240"/>
            <a:ext cx="1187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94200" y="311292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94200" y="379872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684760" y="547524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37400" y="44956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884920" y="44956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732640" y="50292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989680" y="463716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227320" y="39625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27320" y="39625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27320" y="36576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55920" y="3809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98360" y="3798720"/>
            <a:ext cx="1924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ca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e 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another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218280" y="1589040"/>
            <a:ext cx="256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are th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ly us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s (OID'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2986200" y="927000"/>
            <a:ext cx="3449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IDs -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808600" y="304812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808600" y="327672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808600" y="44956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808600" y="51814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08600" y="38862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361280" y="30369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837400" y="334152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_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837400" y="4027320"/>
            <a:ext cx="679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837400" y="463716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837400" y="532296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89440" y="1905120"/>
            <a:ext cx="228600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89440" y="23623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084560" y="189396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17880" y="2427120"/>
            <a:ext cx="1073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36600" y="38098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4840" y="617220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74840" y="3809880"/>
            <a:ext cx="76176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294000" y="380988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332080" y="387504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79800" y="4114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51200" y="47242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22600" y="54100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770120" y="25909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70120" y="2590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0040" y="37908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08640" y="3905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03800" y="37717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32400" y="3886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037040" y="38862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199120" y="438156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27720" y="4495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32440" y="438156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361040" y="4495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865680" y="449568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03840" y="51433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32440" y="5257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637080" y="52578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41480" y="22860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1674720" y="240048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237200" y="351324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084560" y="410364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875040" y="484668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056200" y="351324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075280" y="412272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703520" y="198900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703520" y="83196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ooch Diagrams -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32360" y="373392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32360" y="396252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32360" y="51814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32360" y="58672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2360" y="45720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485040" y="37227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960800" y="402732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_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960800" y="4713120"/>
            <a:ext cx="679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960800" y="532296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960800" y="600876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32360" y="1847880"/>
            <a:ext cx="228600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32360" y="23050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027840" y="18367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960800" y="2370240"/>
            <a:ext cx="1073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65240" y="177156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3120" y="41338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03120" y="177156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122640" y="177156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160720" y="183672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08440" y="2019240"/>
            <a:ext cx="1104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18040" y="3867120"/>
            <a:ext cx="1714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22360" y="4618080"/>
            <a:ext cx="3613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ch Diagrams use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symbols as OID's, ex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t they show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instead of data flo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s, and (option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sequenc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2241720" y="771480"/>
            <a:ext cx="4971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5280" y="3924360"/>
            <a:ext cx="3067200" cy="495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630520" y="1212840"/>
            <a:ext cx="3932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7400" y="2085840"/>
            <a:ext cx="8086680" cy="29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compasses all aspects of conventional software design while simultaneously introducing timing and sizing constraints; these constraints must be satisfied by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classes of design (architectural, procedural, and data) become more complex due to the response time required by the real-world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hematical modeling and simulation are common tools used for real-tim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460520" y="851040"/>
            <a:ext cx="6269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System Conc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93720" y="1914480"/>
            <a:ext cx="780084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rupt handling and context sw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pons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transfer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PU and system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 allocation and priority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 synchronization and intertask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706840" y="1079640"/>
            <a:ext cx="332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08200" y="2257560"/>
            <a:ext cx="76294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rchitectural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Relationship among major structural components of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a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Transforms the information domain model created during analysis into the data structures required to implement th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cedural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Transforms structural components into a procedural description of th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2560" y="6091200"/>
            <a:ext cx="722772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sign requires all three desig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992240" y="1019160"/>
            <a:ext cx="504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sign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379520" y="2219400"/>
            <a:ext cx="6296040" cy="24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Preliminary Design  -  The transformation of requirements into a data and procedural archite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Detailed Design  -  Refining the architectures developed in preliminary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63480" y="5214960"/>
            <a:ext cx="719460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dea is to transform the structure and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the problem domain to the imple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main sufficient for co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525840" y="1479600"/>
            <a:ext cx="1644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65080" y="2600280"/>
            <a:ext cx="7610400" cy="20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 is the phase w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built into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qualit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an evolving design is identified through a series of formal technical re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53960" y="1098720"/>
            <a:ext cx="6521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uidelines for a Goo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36480" y="2257560"/>
            <a:ext cx="791532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exhibit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erarchical organ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dul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leading to an implementation of strongly cohesive, loosely coupled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contain a distinct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parate repres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data and proced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riv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using a repeatable method driven by information obtained from the requirements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losely with the requirements - there should be a map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003400" y="774720"/>
            <a:ext cx="514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damental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55560" y="1685880"/>
            <a:ext cx="77630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pwise Refin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successive definition of levels of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rchite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hierarchical structure of procedural components and the structure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flow of control between the procedura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ced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processing details of each procedural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logical relationship between element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s of Abstr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expression of a design in terms of the problem space, usually employ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pwise Refin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Hi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suppression of unnecessary details at a particular level of abs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49360" y="714240"/>
            <a:ext cx="6597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agramming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36480" y="1380960"/>
            <a:ext cx="79916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of the diagramming techniques used during requirements analysis may also be used during desig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 Transition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add several more types of diagrams to specifically support software struc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iagrams (also called flow-diagra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diagramming techniques are intended specifically for design and are often language-specific.  These techniques are often used when the implementation language supports object oriented programming such as Ada or C++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Interaction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ch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