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A - </a:t>
            </a:r>
            <a:fld id="{32D5EA00-E02C-4556-9F35-09A603ED823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3800" y="2209680"/>
            <a:ext cx="647712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00200" y="10987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41360" y="2197080"/>
            <a:ext cx="69692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3. After much debate and list modific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list of valid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7800" y="3975120"/>
            <a:ext cx="6461280" cy="143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200 random events and observe alarm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ure display resets on power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phone numbers are entered with 555- prefix, ensure telephone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ia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666880" y="870120"/>
            <a:ext cx="4159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2760" y="1739880"/>
            <a:ext cx="67658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4.  Write complete draft specification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sults of step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27320" y="3085920"/>
            <a:ext cx="4228920" cy="281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865600" y="4102200"/>
            <a:ext cx="29415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70000" y="94608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cepts of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89120" y="1914480"/>
            <a:ext cx="31147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13000" y="2371680"/>
            <a:ext cx="296244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nformation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nformation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Informati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3797280"/>
            <a:ext cx="80373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:  Pictorial representation of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313000" y="4276800"/>
            <a:ext cx="47149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analyst in 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cal point of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fo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08200" y="5854680"/>
            <a:ext cx="6970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ing: Break big problems into littl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793960" y="10224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79480" y="2219400"/>
            <a:ext cx="23526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70400" y="2219400"/>
            <a:ext cx="296244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cu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387520" y="7714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toty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0520" y="1533600"/>
            <a:ext cx="60102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a request for proposal (RFP) or system spec defines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5720" y="28195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0480" y="2806560"/>
            <a:ext cx="21272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in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22600" y="25909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46440" y="50292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51400" y="45720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89840" y="25146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27360" y="2577960"/>
            <a:ext cx="20257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94600" y="2502000"/>
            <a:ext cx="19591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08800" y="4559400"/>
            <a:ext cx="1652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, t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0" y="5016600"/>
            <a:ext cx="22464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 proto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g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352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08600" y="3276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494400" y="396252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132440" y="502920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132440" y="556272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89240" y="5715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12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2400" y="3111480"/>
            <a:ext cx="7048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2400" y="5245200"/>
            <a:ext cx="15526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69920" y="870120"/>
            <a:ext cx="5253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ecification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1920" y="1838160"/>
            <a:ext cx="87534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functionality from implementation - describe what is desired, not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system of which the software is a part and the environment in which the system re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cognitive model rather than a design or implementation model, and keep the perspective of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 the specification as a model, see if it is adequate to determine if a proposed implementation is satisfactory, and tolerate im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ize and loosely couple th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93760" y="717480"/>
            <a:ext cx="8605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 (S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98440" y="1360440"/>
            <a:ext cx="6878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mon Characteristic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hod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6480" y="2600280"/>
            <a:ext cx="791532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perform information dom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have a means to repres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defin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partitioning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represent both the physical and logical views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605040" y="84780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50760" y="619200"/>
            <a:ext cx="759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quirements Analysis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60880" y="1206360"/>
            <a:ext cx="958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03640" y="5410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7840" y="37339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18040" y="1981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65800" y="23623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84920" y="44956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836800" y="50292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36800" y="3276720"/>
            <a:ext cx="1524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4040" y="25909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27920" y="36576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51600" y="57913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5943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960" y="5398920"/>
            <a:ext cx="1860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ojec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70560" y="600876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preliminar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484360" y="5627520"/>
            <a:ext cx="1789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46280" y="3797280"/>
            <a:ext cx="2617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51400" y="2273400"/>
            <a:ext cx="15177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70560" y="2425680"/>
            <a:ext cx="1959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0560" y="4788000"/>
            <a:ext cx="1146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22800" y="3650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5600" y="1914480"/>
            <a:ext cx="88297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unctional domain - what functions are to be per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information domain - what is the flow of information in the system, what is the structure of that information, and what is the content of that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 the problem - what is the hierarchy of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logical view of the requirements - detail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physical view of the requirements - detail the real-world forms of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69516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ic Activities of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14400" y="102240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on Problems Encountere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uring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6480" y="2523960"/>
            <a:ext cx="79916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communications problems, including not understanding the problem, misinterpreting information, and mi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ing pertin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ing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mmodating changes that will occur during and af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70000" y="122868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eginning 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41400" y="2219400"/>
            <a:ext cx="25812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d a meet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82920" y="2908440"/>
            <a:ext cx="5470560" cy="20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     (F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7600" y="373392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54160" y="619200"/>
            <a:ext cx="71848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ample: The SafeHom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9120" y="1685880"/>
            <a:ext cx="76867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icroprocessor-based home security system that protects against a number of undesireable events such as illegal entry, fire, floo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use sensors to detect each situation, can be programmed by the homeow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automatically telephone a monitoring agency when a situation is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1840" y="717480"/>
            <a:ext cx="5276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41400" y="1457280"/>
            <a:ext cx="7305840" cy="8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1. Identify objects, operations, constraints, and performance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1120" y="2603520"/>
            <a:ext cx="2651040" cy="2808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oke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/do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on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lephon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49400" y="4051440"/>
            <a:ext cx="2651040" cy="23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/reset 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it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83120" y="2451240"/>
            <a:ext cx="3260880" cy="17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ess than 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dial to 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8920" y="4356000"/>
            <a:ext cx="3260880" cy="1844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within 1 s of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ize ev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 at least 1 min before dialing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76160" y="8701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1663560"/>
            <a:ext cx="7645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2. Develop "mini"-specification for each entry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ac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87640" y="2527200"/>
            <a:ext cx="5318280" cy="390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nted on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9x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12 key-pad and special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of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user interaction through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to enable and disab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to provide interaction guidance, echo respon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ed to al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