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674225" cy="73977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720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712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4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720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712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3480" y="294840"/>
            <a:ext cx="870624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41280" y="4222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968400" y="2476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055000" y="6800760"/>
            <a:ext cx="111744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B - </a:t>
            </a:r>
            <a:fld id="{D6B16F7B-BE1E-48EB-B2AC-9985745846B0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943440" y="66024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398760" y="2031840"/>
            <a:ext cx="2733840" cy="31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60800" y="2784600"/>
            <a:ext cx="2971800" cy="83808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  <a:tailEnd len="med" type="triangle" w="med"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940040" y="758880"/>
            <a:ext cx="5962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ction Points - Fi Val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79360" y="209880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6060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11368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3696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6080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43716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43676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03696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71312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31332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798984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57320" y="2697120"/>
            <a:ext cx="1098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655720" y="2697120"/>
            <a:ext cx="1162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cid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332240" y="2697120"/>
            <a:ext cx="1111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008760" y="2697120"/>
            <a:ext cx="996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532640" y="2697120"/>
            <a:ext cx="1263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gnific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17400" y="3556080"/>
            <a:ext cx="9058320" cy="46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es the system require reliable backup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8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the master files updated on-lin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data communications required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9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the inputs, outputs, files, or inquiries complex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there distributed processing functions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0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internal processing complex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performance critical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code designed to be reusabl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ll the system run in an existing environment? 12. Are conversion and installation included in desig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es the system require on-line data entry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system designed for multiple installations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es the on-line data entry require the inpu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fferent organization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ransaction to be built over multiple screen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application designed to facilitate change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operations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ase of us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533600" y="835200"/>
            <a:ext cx="6773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ction Points - Compu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26960" y="1727280"/>
            <a:ext cx="882972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ight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ement Parame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era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6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7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6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15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external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10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 -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46600" y="2556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46600" y="2936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46600" y="33177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46600" y="3699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46600" y="4079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113680" y="2556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3680" y="2936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113680" y="33177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113680" y="3699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113680" y="4079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61400" y="4917960"/>
            <a:ext cx="106668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093760" y="5146560"/>
            <a:ext cx="5791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320840" y="5684760"/>
            <a:ext cx="702792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284640" y="911160"/>
            <a:ext cx="3270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eature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901880" y="2087640"/>
            <a:ext cx="5861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unction Point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or Technical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569960" y="3479760"/>
            <a:ext cx="6696000" cy="20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points were originally designed for business information systems appli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tensions call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eature poi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pply to technical software appli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gorithms are a bounded computational problem that is included within a specific computer prog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441440" y="835200"/>
            <a:ext cx="6496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eature Points - Compu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036800" y="1498680"/>
            <a:ext cx="7610400" cy="40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ement Parame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igh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external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gorithm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 -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456080" y="2327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56080" y="2708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456080" y="3089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456080" y="3470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56080" y="3851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351560" y="2327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351560" y="2708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51560" y="3089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351560" y="3470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51560" y="3851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199280" y="5146560"/>
            <a:ext cx="106668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03600" y="537516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456080" y="4232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51560" y="4232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320840" y="5761080"/>
            <a:ext cx="702792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368360" y="911160"/>
            <a:ext cx="68007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s with Function Points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nd Feature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265400" y="2489040"/>
            <a:ext cx="7305840" cy="22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se metrics are based on subjectiv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ameters can be difficult to obtain after-the-fa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 and Feature Points have no direct physical mea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951200" y="835200"/>
            <a:ext cx="5784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ction-Oriented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36640" y="3699000"/>
            <a:ext cx="8001000" cy="289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26960" y="1727280"/>
            <a:ext cx="8753400" cy="45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cus is on "functionality" or "utilit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th Function Points and Feature Points support the derivation of potentially useful data for the comparison of one project to an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16160" indent="-857160">
              <a:lnSpc>
                <a:spcPct val="103000"/>
              </a:lnSpc>
              <a:spcAft>
                <a:spcPts val="1225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tivity = FP / person-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y = defects /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 = $ /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cumentation = pages /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708200" y="911160"/>
            <a:ext cx="611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easuring Software Qu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179800" y="1955880"/>
            <a:ext cx="547704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fore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ective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fter Delivery (most widely u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umber of defects uncovered in the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intainability of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1531800" y="835200"/>
            <a:ext cx="6931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“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fter Delivery” Quality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808200" y="1727280"/>
            <a:ext cx="791532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n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defects/KLOC or defects/FP over a one-year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intainabil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mean-time-to-change (MTTC), which is the time requir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alyze the change reques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ign a modification to the softwa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lement the chang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st the changed software and the system as a whole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tribute the changed system to the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1390680" y="758880"/>
            <a:ext cx="7058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“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fter Delivery” Quality Metrics,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808200" y="2031840"/>
            <a:ext cx="8448840" cy="48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gr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based on threats and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rea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probability that a specific attack will take place within a given period of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cur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probability that the attack of a specific type will be repe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9000"/>
              </a:lnSpc>
              <a:spcAft>
                <a:spcPts val="1321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9000"/>
              </a:lnSpc>
              <a:spcAft>
                <a:spcPts val="132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abil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based on several perceptions of the us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kill required to use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me required to learn the use of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increase in productivity from using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user's attitude towards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219400" y="3963960"/>
            <a:ext cx="523404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2116080" y="682560"/>
            <a:ext cx="5759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lationship of LOC to F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189080" y="1346040"/>
            <a:ext cx="7305840" cy="52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771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relationship of lines of code to feature points is a function of the programming language used and the quality of the desig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771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ugh estimates of the number of lines of code to create on feature point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/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semb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B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TRA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sc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Langua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urth Generation Langua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tomatic Code Genera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546280" y="660240"/>
            <a:ext cx="4896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69960" y="1270080"/>
            <a:ext cx="6848640" cy="54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ing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y Measure Softwa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wo Types of Measu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tegories of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ze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eature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ing Software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ationship of LOC to 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of Productivit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grating Metrics into the Software Engineer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lecting Software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1047600" y="682560"/>
            <a:ext cx="7437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Use of Software Productivity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55560" y="1498680"/>
            <a:ext cx="8296200" cy="468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686120"/>
                <a:tab algn="l" pos="6039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 not  use LOC/person-month or FP/person-month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are one group of developers to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te the performance of an 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686120"/>
                <a:tab algn="l" pos="6039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y factors affect productiv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ximate % Var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ctor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in Produ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ople (number, experienc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9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blem (complexity, number of change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 (language, CAS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 (reliability, environment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ources (CASE, hardware, softwar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417680" y="835200"/>
            <a:ext cx="670068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tegrating Metrics into the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Engineering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960480" y="2336760"/>
            <a:ext cx="77630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historical baseline of metrics data is nee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any, department, or unit should be identified in the scope of this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istance to data collection should be expected in many corporate cul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 least three years of accurate, standardized metric data collection is needed to produce accurate planning estim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797120" y="682560"/>
            <a:ext cx="6091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llecting Software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960480" y="1422360"/>
            <a:ext cx="7686720" cy="25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process of collecting and using software metrics includes the following ste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rics 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following slides show a spreadsheet model for the collection and computation of historical software baseline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55680" y="453708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55680" y="568008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827680" y="461340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27680" y="575640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65360" y="4384800"/>
            <a:ext cx="1600200" cy="685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70280" y="5146560"/>
            <a:ext cx="1600200" cy="685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151160" y="5908680"/>
            <a:ext cx="1600200" cy="685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590840" y="4602240"/>
            <a:ext cx="141588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741320" y="5973840"/>
            <a:ext cx="1060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313320" y="4906800"/>
            <a:ext cx="1162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a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084720" y="6049800"/>
            <a:ext cx="1492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actitio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494160" y="4449600"/>
            <a:ext cx="1200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798720" y="5211720"/>
            <a:ext cx="1504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179960" y="5973840"/>
            <a:ext cx="1251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104940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265400" y="1270080"/>
            <a:ext cx="7229520" cy="56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Data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bor co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person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7,7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bor ye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urs/ye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5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or Metrics 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ease ty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phanumer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staff memb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o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son-hou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psed time to comple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u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urce co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ly develop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ifi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0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us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ive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3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82080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265400" y="1270080"/>
            <a:ext cx="7229520" cy="52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or Metrics Computation, 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chnic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errors to d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itical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vel 1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vel 2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 to d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son-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ifica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5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 corre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265400" y="1270080"/>
            <a:ext cx="7229520" cy="27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Dat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% of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 and specific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ther - Describ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265400" y="1270080"/>
            <a:ext cx="7229520" cy="56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1488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No.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No.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No.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. No.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. No. of ext.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No.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, 4, 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No.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, 5,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No.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, 4, 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. No.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, 10, 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. No. of ext.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, 7, 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265400" y="1270080"/>
            <a:ext cx="7229520" cy="60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771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4228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Data, 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771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ing Complexity Fa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. backup and recovery requir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. data communication requir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. distributed processing func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. performance critica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. heavily utilized operating environmen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. online data entr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. input transaction with multiple screen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8. master files updated on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9. input, output, files, queries comple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. internal processing comple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. code designed to be reusabl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2. conversion/installation included in desig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3. system design for multiple install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4. maintainability/ease of us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973080" y="68256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265400" y="1270080"/>
            <a:ext cx="7229520" cy="52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1488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ze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ivity and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utpu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LOC/p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9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- all co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2,5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- exclude reu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4,0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psed 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hs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/p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pa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7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s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of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err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265400" y="1270080"/>
            <a:ext cx="722952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1488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ivity and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utpu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P/p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- all co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F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psed 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P/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1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/F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s/F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0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2774880" y="758880"/>
            <a:ext cx="4440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easuring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569960" y="1498680"/>
            <a:ext cx="6543720" cy="32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ively measuring software is difficu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t projects use only "lines of code" (LOC) for metr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ch disagreement exists on what and how much to meas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urately measuring software is vitally important to tracking and controlling software develop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46400" y="628956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2550960" y="51465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50960" y="514656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65360" y="51465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379760" y="590868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379760" y="59086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94160" y="590868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655720" y="6354720"/>
            <a:ext cx="5778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179960" y="6354720"/>
            <a:ext cx="1327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246400" y="507060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856120" y="5059440"/>
            <a:ext cx="1898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erent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2228760" y="911160"/>
            <a:ext cx="5380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Why Measure Softw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036800" y="2108160"/>
            <a:ext cx="7610400" cy="38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entify quality of the software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ess productivity of the software develo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ess benefits of using development processes and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m a baseline for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ustify requests for tools an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747800" y="835200"/>
            <a:ext cx="6345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wo Types of Measur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332000" y="1946160"/>
            <a:ext cx="3352680" cy="426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50000"/>
              <a:buFont typeface="Wingdings"/>
              <a:buChar char=""/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rec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execution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binary code siz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memor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sy to 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55520" y="5961240"/>
            <a:ext cx="9540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218200" y="1946160"/>
            <a:ext cx="3352680" cy="426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50000"/>
              <a:buFont typeface="Wingdings"/>
              <a:buChar char=""/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dir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 function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qu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"-ilities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💧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 easy to 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2776680" y="911160"/>
            <a:ext cx="4745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ategories of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03600" y="293688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03600" y="430848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03600" y="568008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98880" y="20224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56280" y="20224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961400" y="20224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93720" y="2544840"/>
            <a:ext cx="206064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ze-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93720" y="3916440"/>
            <a:ext cx="27367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770040" y="5288040"/>
            <a:ext cx="24829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uman-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265560" y="1706400"/>
            <a:ext cx="185724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494320" y="1747800"/>
            <a:ext cx="112860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7323120" y="1747800"/>
            <a:ext cx="15019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2535120" y="835200"/>
            <a:ext cx="4770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ize-Oriented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808200" y="1727280"/>
            <a:ext cx="8067600" cy="46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t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O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= "thousand lines of cod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n we can def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tivity = KLOC / person-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y = defects in code /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 = dollars /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cumentation = pages of documents /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s and costs include all elements of software development (analysis, design, code, test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tc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1189080" y="835200"/>
            <a:ext cx="7311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ize-Oriented Metrics - Exam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344600" y="1882800"/>
            <a:ext cx="6994440" cy="2657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son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 o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h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68,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.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6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40,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7.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2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14,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.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5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332000" y="2631960"/>
            <a:ext cx="7010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223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939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4188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9799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3515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35120" y="4397400"/>
            <a:ext cx="8061480" cy="21452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iv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KLOC/p-month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errors/KLOC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$/LOC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pages/KLO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50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4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3.8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0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43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5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6.1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5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47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6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5.5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1.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22160" y="5146560"/>
            <a:ext cx="8077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8920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9888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0400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4700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835200" y="911160"/>
            <a:ext cx="8021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s with Size-Oriented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884160" y="1727280"/>
            <a:ext cx="791532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ition of "lines of cod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ming language 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nalize well-designed shorter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not easily accommodate non-procedural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fficult to assess LOC before a program is wri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ly known errors can be cou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es, skill levels, and productivity of personnel v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