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1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</p:sldIdLst>
  <p:sldSz cx="9674225" cy="73977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52446E0-6EC8-4260-8AF5-3F8965B7B7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lnSpc>
                <a:spcPct val="100000"/>
              </a:lnSpc>
              <a:spcAft>
                <a:spcPts val="1199"/>
              </a:spcAft>
              <a:buNone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bjectives of Module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resent and discuss the basic concepts of Software Project Managemen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oftware Metr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oftware Cost and Timing Esti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oftware Project Plan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any factors, such as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isk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sourc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ffort (cost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, and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chedul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are difficult to determine in advance without information from previous projec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 this vein, there is an emphasis on collecting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oftware metric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and then using those metrics to make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stimat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which are reasonably clo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ustry has traditionally not been good at collecting software metrics  on its projects becaus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llecting metrics costs money and takes time, both of which have a direct impact on a project, particularly if they were not planned for in adv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llecting metrics can be tedious work -- something that many software practitioners tend to avo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oftware in industry is usually developed under the following situat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s part of a produ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 support of a produ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s an activity of research and 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 the first two cases, budgets are allocated based on the cost estimates.  If software is developed for a customer, the award of a contract may be on a firm, fixed-price basis or on a cost-plus or cost-reimbursable ba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>
              <a:lnSpc>
                <a:spcPct val="100000"/>
              </a:lnSpc>
              <a:spcAft>
                <a:spcPts val="1199"/>
              </a:spcAft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Before starting a development project, we mus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00280" indent="0">
              <a:lnSpc>
                <a:spcPct val="100000"/>
              </a:lnSpc>
              <a:spcAft>
                <a:spcPts val="1199"/>
              </a:spcAft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. Assess the risks invol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00280" indent="0">
              <a:lnSpc>
                <a:spcPct val="100000"/>
              </a:lnSpc>
              <a:spcAft>
                <a:spcPts val="1199"/>
              </a:spcAft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. Develop a strategy for attacking the probl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00280" indent="0">
              <a:lnSpc>
                <a:spcPct val="100000"/>
              </a:lnSpc>
              <a:spcAft>
                <a:spcPts val="1199"/>
              </a:spcAft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3. Establish a mechanism for assessing the pro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00280" indent="0">
              <a:lnSpc>
                <a:spcPct val="100000"/>
              </a:lnSpc>
              <a:spcAft>
                <a:spcPts val="1199"/>
              </a:spcAft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4. Organize people who will be building the pro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>
              <a:lnSpc>
                <a:spcPct val="100000"/>
              </a:lnSpc>
              <a:spcAft>
                <a:spcPts val="1199"/>
              </a:spcAft>
              <a:buNone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egen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Aft>
                <a:spcPts val="1199"/>
              </a:spcAft>
              <a:buNone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:  Analysis and specif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Aft>
                <a:spcPts val="1199"/>
              </a:spcAft>
              <a:buNone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: Re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Aft>
                <a:spcPts val="1199"/>
              </a:spcAft>
              <a:buNone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:  Desig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Aft>
                <a:spcPts val="1199"/>
              </a:spcAft>
              <a:buNone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W:  Walkthroug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Aft>
                <a:spcPts val="1199"/>
              </a:spcAft>
              <a:buNone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:  Cod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Aft>
                <a:spcPts val="1199"/>
              </a:spcAft>
              <a:buNone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:  Te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Aft>
                <a:spcPts val="1199"/>
              </a:spcAft>
              <a:buNone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P: Test plan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Aft>
                <a:spcPts val="1199"/>
              </a:spcAft>
              <a:buNone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Pr: Test proced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Aft>
                <a:spcPts val="1199"/>
              </a:spcAft>
              <a:buNone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T: Integration te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Aft>
                <a:spcPts val="1199"/>
              </a:spcAft>
              <a:buNone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VT: Validation te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870624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3480" y="3971880"/>
            <a:ext cx="870624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44600" y="1730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83480" y="3971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44600" y="3971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280332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27200" y="1730880"/>
            <a:ext cx="280332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71280" y="1730880"/>
            <a:ext cx="280332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83480" y="3971880"/>
            <a:ext cx="280332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27200" y="3971880"/>
            <a:ext cx="280332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71280" y="3971880"/>
            <a:ext cx="280332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83480" y="1730880"/>
            <a:ext cx="8706240" cy="42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8706240" cy="42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4248360" cy="42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44600" y="1730880"/>
            <a:ext cx="4248360" cy="42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83480" y="294840"/>
            <a:ext cx="8706240" cy="572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44600" y="1730880"/>
            <a:ext cx="4248360" cy="42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83480" y="3971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4248360" cy="42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4600" y="1730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44600" y="3971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44600" y="1730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3480" y="3971880"/>
            <a:ext cx="870624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41280" y="422280"/>
            <a:ext cx="8991720" cy="6553080"/>
          </a:xfrm>
          <a:prstGeom prst="round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968400" y="247680"/>
            <a:ext cx="2598840" cy="333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Engineering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8055000" y="6800760"/>
            <a:ext cx="960480" cy="768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 - </a:t>
            </a:r>
            <a:fld id="{3BC38265-6AC3-4DC8-905A-0CA9B224E604}" type="slidenum"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83480" y="1730880"/>
            <a:ext cx="8706240" cy="42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1638360" y="915840"/>
            <a:ext cx="6715080" cy="15969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800" spc="-1" strike="noStrike">
                <a:solidFill>
                  <a:srgbClr val="081d58"/>
                </a:solidFill>
                <a:latin typeface="Arial"/>
                <a:ea typeface="Arial"/>
              </a:rPr>
              <a:t>SOFTWARE PROJECT</a:t>
            </a:r>
            <a:br>
              <a:rPr sz="4800"/>
            </a:br>
            <a:r>
              <a:rPr b="1" lang="en-US" sz="4800" spc="-1" strike="noStrike">
                <a:solidFill>
                  <a:srgbClr val="081d58"/>
                </a:solidFill>
                <a:latin typeface="Arial"/>
                <a:ea typeface="Arial"/>
              </a:rPr>
              <a:t>MANAGEME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1189080" y="3403440"/>
            <a:ext cx="753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  <a:tabLst>
                <a:tab algn="l" pos="3333600"/>
                <a:tab algn="l" pos="3657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verview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Project Esti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  <a:tabLst>
                <a:tab algn="l" pos="3333600"/>
                <a:tab algn="l" pos="3657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Project Metric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Project Pla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535120" y="835200"/>
            <a:ext cx="47703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ize-Oriented Metr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808200" y="1727280"/>
            <a:ext cx="8067600" cy="469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2000"/>
              </a:lnSpc>
              <a:spcAft>
                <a:spcPts val="1225"/>
              </a:spcAft>
              <a:tabLst>
                <a:tab algn="l" pos="3314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et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LO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= "thousand lines of code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  <a:tabLst>
                <a:tab algn="l" pos="3314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n we can def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  <a:tabLst>
                <a:tab algn="l" pos="285768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ductivity = KLOC / person-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  <a:tabLst>
                <a:tab algn="l" pos="285768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ality = defects in code / KLO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  <a:tabLst>
                <a:tab algn="l" pos="285768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st = dollars / KLO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  <a:tabLst>
                <a:tab algn="l" pos="285768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cumentation = pages of documents / KLO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  <a:tabLst>
                <a:tab algn="l" pos="3314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  <a:tabLst>
                <a:tab algn="l" pos="3314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fforts and costs include all elements of software development (analysis, design, code, test,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tc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1189080" y="835200"/>
            <a:ext cx="73119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ize-Oriented Metrics - Examp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344600" y="1882800"/>
            <a:ext cx="6994440" cy="26571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800280"/>
                <a:tab algn="l" pos="2171520"/>
                <a:tab algn="l" pos="3543120"/>
                <a:tab algn="l" pos="4457880"/>
                <a:tab algn="l" pos="58294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jec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rson-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KLO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ages o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rr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800280"/>
                <a:tab algn="l" pos="2171520"/>
                <a:tab algn="l" pos="3543120"/>
                <a:tab algn="l" pos="4457880"/>
                <a:tab algn="l" pos="58294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nth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800280"/>
                <a:tab algn="l" pos="2171520"/>
                <a:tab algn="l" pos="3543120"/>
                <a:tab algn="l" pos="4457880"/>
                <a:tab algn="l" pos="58294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168,00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2.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6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800280"/>
                <a:tab algn="l" pos="2171520"/>
                <a:tab algn="l" pos="3543120"/>
                <a:tab algn="l" pos="4457880"/>
                <a:tab algn="l" pos="58294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6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440,00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7.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22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8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800280"/>
                <a:tab algn="l" pos="2171520"/>
                <a:tab algn="l" pos="3543120"/>
                <a:tab algn="l" pos="4457880"/>
                <a:tab algn="l" pos="58294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314,00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0.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05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6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332000" y="2631960"/>
            <a:ext cx="70102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322360" y="1870200"/>
            <a:ext cx="0" cy="1981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693960" y="1870200"/>
            <a:ext cx="0" cy="1981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141880" y="1870200"/>
            <a:ext cx="0" cy="1981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979960" y="1870200"/>
            <a:ext cx="0" cy="1981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51560" y="1870200"/>
            <a:ext cx="0" cy="1981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735120" y="4397400"/>
            <a:ext cx="8061480" cy="214524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800280"/>
                <a:tab algn="l" pos="3085920"/>
                <a:tab algn="l" pos="491508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jec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ductivit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Qualit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ocu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800280"/>
                <a:tab algn="l" pos="3085920"/>
                <a:tab algn="l" pos="491508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KLOC/p-months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errors/KLOC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$/LOC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pages/KLO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800280"/>
                <a:tab algn="l" pos="3085920"/>
                <a:tab algn="l" pos="491508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.50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4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13.88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0.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800280"/>
                <a:tab algn="l" pos="3085920"/>
                <a:tab algn="l" pos="491508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.439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.5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16.18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5.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800280"/>
                <a:tab algn="l" pos="3085920"/>
                <a:tab algn="l" pos="491508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.47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.67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15.5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51.9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22160" y="5146560"/>
            <a:ext cx="80773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789200" y="4384800"/>
            <a:ext cx="0" cy="1981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998880" y="4384800"/>
            <a:ext cx="0" cy="1981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904000" y="4384800"/>
            <a:ext cx="0" cy="1981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047000" y="4384800"/>
            <a:ext cx="0" cy="1981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835200" y="911160"/>
            <a:ext cx="80215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Problems with Size-Oriented Metr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884160" y="1727280"/>
            <a:ext cx="791532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finition of "lines of code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gramming language depend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enalize well-designed shorter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nnot easily accommodate non-procedural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ifficult to assess LOC before a program is writ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ly known errors can be cou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ypes, skill levels, and productivity of personnel v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940040" y="758880"/>
            <a:ext cx="59626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Function Points - Fi Valu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179360" y="2098800"/>
            <a:ext cx="731520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560600" y="187020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8113680" y="187020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836960" y="187020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60800" y="187020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437160" y="187020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436760" y="1554120"/>
            <a:ext cx="2221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36960" y="1554120"/>
            <a:ext cx="2221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713120" y="1554120"/>
            <a:ext cx="2221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313320" y="1554120"/>
            <a:ext cx="2221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89840" y="1554120"/>
            <a:ext cx="2221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1057320" y="2697120"/>
            <a:ext cx="10987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flu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2655720" y="2697120"/>
            <a:ext cx="11620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ciden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332240" y="2697120"/>
            <a:ext cx="11113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6008760" y="2697120"/>
            <a:ext cx="99684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ve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7532640" y="2697120"/>
            <a:ext cx="12636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ignific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617400" y="3556080"/>
            <a:ext cx="9058320" cy="464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1000"/>
              </a:lnSpc>
              <a:spcAft>
                <a:spcPts val="1199"/>
              </a:spcAft>
              <a:tabLst>
                <a:tab algn="l" pos="3543120"/>
                <a:tab algn="l" pos="3886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oes the system require reliable backup?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8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re the master files updated on-lin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199"/>
              </a:spcAft>
              <a:tabLst>
                <a:tab algn="l" pos="3543120"/>
                <a:tab algn="l" pos="3886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re data communications required?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9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re the inputs, outputs, files, or inquiries complex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199"/>
              </a:spcAft>
              <a:tabLst>
                <a:tab algn="l" pos="3543120"/>
                <a:tab algn="l" pos="3886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3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re there distributed processing functions?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10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s the internal processing complex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199"/>
              </a:spcAft>
              <a:tabLst>
                <a:tab algn="l" pos="3543120"/>
                <a:tab algn="l" pos="3886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4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s performance critical?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11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s the code designed to be reusabl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199"/>
              </a:spcAft>
              <a:tabLst>
                <a:tab algn="l" pos="3543120"/>
                <a:tab algn="l" pos="3886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5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Will the system run in an existing environment? 12. Are conversion and installation included in design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199"/>
              </a:spcAft>
              <a:tabLst>
                <a:tab algn="l" pos="3543120"/>
                <a:tab algn="l" pos="3886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6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oes the system require on-line data entry?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13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s the system designed for multiple installations 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199"/>
              </a:spcAft>
              <a:tabLst>
                <a:tab algn="l" pos="3543120"/>
                <a:tab algn="l" pos="3886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7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oes the on-line data entry require the inpu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ifferent organizations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199"/>
              </a:spcAft>
              <a:tabLst>
                <a:tab algn="l" pos="3543120"/>
                <a:tab algn="l" pos="3886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ransaction to be built over multiple screen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14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s the application designed to facilitate change 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199"/>
              </a:spcAft>
              <a:tabLst>
                <a:tab algn="l" pos="3543120"/>
                <a:tab algn="l" pos="3886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operations?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ease of us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533600" y="835200"/>
            <a:ext cx="6773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Function Points - Compu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26960" y="1727280"/>
            <a:ext cx="8829720" cy="36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eightin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a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asurement Paramet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un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imp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verag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ple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du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umber of user inpu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    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6   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umber of user outpu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    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7   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umber of user inquiri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    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6   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umber of fil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    7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1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15  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umber of external interfac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    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7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10  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unt - To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846600" y="255600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846600" y="293688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846600" y="331776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846600" y="369900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846600" y="407988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8113680" y="255600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8113680" y="293688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8113680" y="331776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8113680" y="369900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8113680" y="407988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961400" y="4917960"/>
            <a:ext cx="106668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093760" y="5146560"/>
            <a:ext cx="57913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1320840" y="5684760"/>
            <a:ext cx="7027920" cy="75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3284640" y="911160"/>
            <a:ext cx="32702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Feature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1901880" y="2087640"/>
            <a:ext cx="586116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Function Point 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for Technical Softwa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1569960" y="3479760"/>
            <a:ext cx="6696000" cy="201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nction points were originally designed for business information systems applica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xtensions calle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eature poin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apply to technical software applica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lgorithms are a bounded computational problem that is included within a specific computer progra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1441440" y="835200"/>
            <a:ext cx="64962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Feature Points - Compu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036800" y="1498680"/>
            <a:ext cx="7610400" cy="402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asurement Paramet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un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eigh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du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umber of user inpu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    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umber of user outpu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    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umber of user inquiri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    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umber of fil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    7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umber of external interfac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    7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lgorithm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    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unt - To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456080" y="232740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456080" y="270828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456080" y="308916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456080" y="347040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456080" y="385128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351560" y="232740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351560" y="270828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351560" y="308916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351560" y="347040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351560" y="385128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199280" y="5146560"/>
            <a:ext cx="106668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703600" y="5375160"/>
            <a:ext cx="43434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456080" y="423216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351560" y="423216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1320840" y="5761080"/>
            <a:ext cx="7027920" cy="75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1368360" y="911160"/>
            <a:ext cx="680076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Problems with Function Points</a:t>
            </a:r>
            <a:br>
              <a:rPr sz="3600"/>
            </a:b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and Feature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1265400" y="2489040"/>
            <a:ext cx="7305840" cy="22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se metrics are based on subjectiv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rameters can be difficult to obtain after-the-fa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unction and Feature Points have no direct physical mea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1951200" y="835200"/>
            <a:ext cx="57848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Function-Oriented Metr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36640" y="3699000"/>
            <a:ext cx="8001000" cy="2895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26960" y="1727280"/>
            <a:ext cx="8753400" cy="45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57200" indent="-45720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ocus is on "functionality" or "utility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th Function Points and Feature Points support the derivation of potentially useful data for the comparison of one project to anoth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316160" indent="-857160">
              <a:lnSpc>
                <a:spcPct val="103000"/>
              </a:lnSpc>
              <a:spcAft>
                <a:spcPts val="1225"/>
              </a:spcAf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316160" indent="-85716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ductivity = FP / person-mon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316160" indent="-85716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ality = defects / F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316160" indent="-85716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st = $ / F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316160" indent="-85716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cumentation = pages / F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1708200" y="911160"/>
            <a:ext cx="6116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Measuring Software Qua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2179800" y="1955880"/>
            <a:ext cx="547704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efore Deliv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gram complex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ffective modula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gram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fter Delivery (most widely us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umber of defects uncovered in the fie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aintainability of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943440" y="660240"/>
            <a:ext cx="17971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TOP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3398760" y="2031840"/>
            <a:ext cx="2733840" cy="318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0" indent="-914400">
              <a:lnSpc>
                <a:spcPct val="104000"/>
              </a:lnSpc>
              <a:spcAft>
                <a:spcPts val="1247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4000"/>
              </a:lnSpc>
              <a:spcAft>
                <a:spcPts val="1247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Metr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4000"/>
              </a:lnSpc>
              <a:spcAft>
                <a:spcPts val="1247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Estim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4000"/>
              </a:lnSpc>
              <a:spcAft>
                <a:spcPts val="1247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Plan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1531800" y="835200"/>
            <a:ext cx="69310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“</a:t>
            </a: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After Delivery” Quality Metr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808200" y="1727280"/>
            <a:ext cx="791532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rrectnes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 defects/KLOC or defects/FP over a one-year peri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aintainabilit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 mean-time-to-change (MTTC), which is the time required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alyze the change request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sign a modification to the softwar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mplement the chang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est the changed software and the system as a whole,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istribute the changed system to the us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1390680" y="758880"/>
            <a:ext cx="705816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“</a:t>
            </a: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After Delivery” Quality Metrics,</a:t>
            </a:r>
            <a:br>
              <a:rPr sz="3600"/>
            </a:b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ontinu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808200" y="2031840"/>
            <a:ext cx="8448840" cy="48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9000"/>
              </a:lnSpc>
              <a:spcAft>
                <a:spcPts val="1321"/>
              </a:spcAft>
              <a:buClr>
                <a:srgbClr val="000000"/>
              </a:buClr>
              <a:buFont typeface="Wingdings"/>
              <a:buChar char=""/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grit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- based on threats and secu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9000"/>
              </a:lnSpc>
              <a:spcAft>
                <a:spcPts val="1321"/>
              </a:spcAft>
              <a:buClr>
                <a:srgbClr val="000000"/>
              </a:buClr>
              <a:buFont typeface="Wingdings"/>
              <a:buChar char=""/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rea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- probability that a specific attack will take place within a given period of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9000"/>
              </a:lnSpc>
              <a:spcAft>
                <a:spcPts val="1321"/>
              </a:spcAft>
              <a:buClr>
                <a:srgbClr val="000000"/>
              </a:buClr>
              <a:buFont typeface="Wingdings"/>
              <a:buChar char=""/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curit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- probability that the attack of a specific type will be repell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9000"/>
              </a:lnSpc>
              <a:spcAft>
                <a:spcPts val="1321"/>
              </a:spcAf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9000"/>
              </a:lnSpc>
              <a:spcAft>
                <a:spcPts val="1321"/>
              </a:spcAf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9000"/>
              </a:lnSpc>
              <a:spcAft>
                <a:spcPts val="1321"/>
              </a:spcAft>
              <a:buClr>
                <a:srgbClr val="000000"/>
              </a:buClr>
              <a:buFont typeface="Wingdings"/>
              <a:buChar char=""/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seabilit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- based on several perceptions of the user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9000"/>
              </a:lnSpc>
              <a:spcAft>
                <a:spcPts val="1321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kill required to use the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9000"/>
              </a:lnSpc>
              <a:spcAft>
                <a:spcPts val="1321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ime required to learn the use of the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9000"/>
              </a:lnSpc>
              <a:spcAft>
                <a:spcPts val="1321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increase in productivity from using the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9000"/>
              </a:lnSpc>
              <a:spcAft>
                <a:spcPts val="1321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user's attitude towards the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2219400" y="3963960"/>
            <a:ext cx="5234040" cy="6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2116080" y="682560"/>
            <a:ext cx="57592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Relationship of LOC to F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1189080" y="1346040"/>
            <a:ext cx="7305840" cy="526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  <a:tabLst>
                <a:tab algn="l" pos="3771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relationship of lines of code to feature points is a function of the programming language used and the quality of the desig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  <a:tabLst>
                <a:tab algn="l" pos="3771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ough estimates of the number of lines of code to create on feature point a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OC/F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ssembl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3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BO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ORTRA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asca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d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7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bject-Oriented Languag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ourth Generation Languag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utomatic Code Generato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1047600" y="682560"/>
            <a:ext cx="74376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Use of Software Productivity 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55560" y="1498680"/>
            <a:ext cx="8296200" cy="468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  <a:tabLst>
                <a:tab algn="l" pos="4686120"/>
                <a:tab algn="l" pos="6039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o not  use LOC/person-month or FP/person-month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  <a:tabLst>
                <a:tab algn="l" pos="4228920"/>
                <a:tab algn="l" pos="5581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pare one group of developers to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  <a:tabLst>
                <a:tab algn="l" pos="4228920"/>
                <a:tab algn="l" pos="5581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ate the performance of an individ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  <a:tabLst>
                <a:tab algn="l" pos="4686120"/>
                <a:tab algn="l" pos="6039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ny factors affect productivit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2000"/>
              </a:lnSpc>
              <a:spcAft>
                <a:spcPts val="1225"/>
              </a:spcAft>
              <a:tabLst>
                <a:tab algn="l" pos="4228920"/>
                <a:tab algn="l" pos="55818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pproximate % Var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2000"/>
              </a:lnSpc>
              <a:spcAft>
                <a:spcPts val="1225"/>
              </a:spcAft>
              <a:tabLst>
                <a:tab algn="l" pos="4228920"/>
                <a:tab algn="l" pos="55818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actor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in Produ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2000"/>
              </a:lnSpc>
              <a:spcAft>
                <a:spcPts val="1225"/>
              </a:spcAft>
              <a:tabLst>
                <a:tab algn="l" pos="4228920"/>
                <a:tab algn="l" pos="5581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ople (number, experience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9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2000"/>
              </a:lnSpc>
              <a:spcAft>
                <a:spcPts val="1225"/>
              </a:spcAft>
              <a:tabLst>
                <a:tab algn="l" pos="4228920"/>
                <a:tab algn="l" pos="5581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blem (complexity, number of changes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4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2000"/>
              </a:lnSpc>
              <a:spcAft>
                <a:spcPts val="1225"/>
              </a:spcAft>
              <a:tabLst>
                <a:tab algn="l" pos="4228920"/>
                <a:tab algn="l" pos="5581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cess (language, CASE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5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2000"/>
              </a:lnSpc>
              <a:spcAft>
                <a:spcPts val="1225"/>
              </a:spcAft>
              <a:tabLst>
                <a:tab algn="l" pos="4228920"/>
                <a:tab algn="l" pos="5581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duct (reliability, environment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4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2000"/>
              </a:lnSpc>
              <a:spcAft>
                <a:spcPts val="1225"/>
              </a:spcAft>
              <a:tabLst>
                <a:tab algn="l" pos="4228920"/>
                <a:tab algn="l" pos="5581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sources (CASE, hardware, software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4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1417680" y="835200"/>
            <a:ext cx="670068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Integrating Metrics into the</a:t>
            </a:r>
            <a:br>
              <a:rPr sz="3600"/>
            </a:b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Engineering Proc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960480" y="2336760"/>
            <a:ext cx="77630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historical baseline of metrics data is need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mpany, department, or unit should be identified in the scope of this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sistance to data collection should be expected in many corporate cul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 least three years of accurate, standardized metric data collection is needed to produce accurate planning estima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1797120" y="682560"/>
            <a:ext cx="60912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ollecting Software Metr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960480" y="1422360"/>
            <a:ext cx="7686720" cy="254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process of collecting and using software metrics includes the following step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a col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rics 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a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following slides show a spreadsheet model for the collection and computation of historical software baseline da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255680" y="4537080"/>
            <a:ext cx="1981080" cy="91440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255680" y="5680080"/>
            <a:ext cx="1981080" cy="91440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827680" y="4613400"/>
            <a:ext cx="1981080" cy="91440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827680" y="5756400"/>
            <a:ext cx="1981080" cy="91440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465360" y="4384800"/>
            <a:ext cx="1600200" cy="6858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770280" y="5146560"/>
            <a:ext cx="1600200" cy="6858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151160" y="5908680"/>
            <a:ext cx="1600200" cy="6858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590840" y="4602240"/>
            <a:ext cx="1415880" cy="86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ngine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1741320" y="5973840"/>
            <a:ext cx="10605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313320" y="4906800"/>
            <a:ext cx="11620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nag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6084720" y="6049800"/>
            <a:ext cx="14922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actition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494160" y="4449600"/>
            <a:ext cx="12002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l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3798720" y="5211720"/>
            <a:ext cx="15048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r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179960" y="5973840"/>
            <a:ext cx="12510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1049400" y="606600"/>
            <a:ext cx="77421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preadsheet Data Collection Mod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1265400" y="1270080"/>
            <a:ext cx="7229520" cy="567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628720"/>
                <a:tab algn="l" pos="468612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cription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nits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ample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  <a:tabLst>
                <a:tab algn="l" pos="3085920"/>
                <a:tab algn="l" pos="514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st Data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62872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bor co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/person-mont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7,7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62872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bor yea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ours/yea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5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  <a:tabLst>
                <a:tab algn="l" pos="3085920"/>
                <a:tab algn="l" pos="514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a for Metrics 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62872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lease typ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lphanumeri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inten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62872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umber of staff membe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op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62872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ffor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rson-hou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8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62872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lapsed time to complet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ou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62872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urce cod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KL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ewly develop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1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ifi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0.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us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0.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liver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3.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820800" y="606600"/>
            <a:ext cx="77421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preadsheet Data Collection Mod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1265400" y="1270080"/>
            <a:ext cx="7229520" cy="526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628720"/>
                <a:tab algn="l" pos="468612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cription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nits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ample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  <a:tabLst>
                <a:tab algn="l" pos="3085920"/>
                <a:tab algn="l" pos="514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a for Metrics Computation, Continu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62872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ocument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echnica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6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s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62872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umber of errors to dat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umer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ritical erro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vel 1 erro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vel 2 erro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ocumentation erro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62872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intenance to dat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rson-ho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ification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5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rror correc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7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973080" y="606600"/>
            <a:ext cx="77421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preadsheet Data Collection Mod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265400" y="1270080"/>
            <a:ext cx="7229520" cy="27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628720"/>
                <a:tab algn="l" pos="468612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cription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nits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ample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  <a:tabLst>
                <a:tab algn="l" pos="3085920"/>
                <a:tab algn="l" pos="514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ject Dat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% of to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62872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alysis and specific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8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62872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ig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62872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din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3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62872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estin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62872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ther - Describ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4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973080" y="606600"/>
            <a:ext cx="77421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preadsheet Data Collection Mod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1265400" y="1270080"/>
            <a:ext cx="7229520" cy="567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857680"/>
                <a:tab algn="l" pos="468612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cription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nits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ample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  <a:tabLst>
                <a:tab algn="l" pos="3314880"/>
                <a:tab algn="l" pos="514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nction-Oriente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85768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formation Do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. No. of user inpu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pu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 No. of user outpu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utpu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. No. of user inquiri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quiri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. No. of fil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il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5. No. of ext. interfac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rfac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85768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eigh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. No. of user inpu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, 4, 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 No. of user outpu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, 5, 7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. No. of user inquiri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, 4, 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. No. of fil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7, 10, 1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5. No. of ext. interfac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5, 7, 1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3701880" y="911160"/>
            <a:ext cx="21286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808200" y="1727280"/>
            <a:ext cx="7991640" cy="388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o successfully manage software development, the project leader must determin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.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cop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of work to be d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isk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to be incur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.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sourc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that will be requi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.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ask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to be accompli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5.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ffor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(cost) that will be expen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6.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chedu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to be follow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project management begins before the technical work star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project management ends when the software is retir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973080" y="606600"/>
            <a:ext cx="77421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preadsheet Data Collection Mod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1265400" y="1270080"/>
            <a:ext cx="7229520" cy="60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3771720"/>
                <a:tab algn="l" pos="468612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cription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nits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ample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  <a:tabLst>
                <a:tab algn="l" pos="4228920"/>
                <a:tab algn="l" pos="514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nction-Oriented Data, Continu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377172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cessing Complexity Facto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-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  <a:tab algn="l" pos="4228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. backup and recovery requir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  <a:tab algn="l" pos="4228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. data communication requir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  <a:tab algn="l" pos="4228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3. distributed processing function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  <a:tab algn="l" pos="4228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4. performance critical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  <a:tab algn="l" pos="4228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5. heavily utilized operating environment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  <a:tab algn="l" pos="4228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6. online data entr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  <a:tab algn="l" pos="4228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7. input transaction with multiple screen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  <a:tab algn="l" pos="4228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8. master files updated on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  <a:tab algn="l" pos="4228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9. input, output, files, queries complex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  <a:tab algn="l" pos="4228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0. internal processing complex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  <a:tab algn="l" pos="4228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1. code designed to be reusabl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  <a:tab algn="l" pos="4228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2. conversion/installation included in design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  <a:tab algn="l" pos="4228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3. system design for multiple installation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  <a:tab algn="l" pos="4228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4. maintainability/ease of us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973080" y="682560"/>
            <a:ext cx="77421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preadsheet Data Collection Mod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1265400" y="1270080"/>
            <a:ext cx="7229520" cy="526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857680"/>
                <a:tab algn="l" pos="468612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cription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nits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ample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  <a:tabLst>
                <a:tab algn="l" pos="3314880"/>
                <a:tab algn="l" pos="514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ize-Oriented Metr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85768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ductivity and C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utpu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KLOC/p-mont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.9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st - all cod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/KLO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22,5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st - exclude reus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/KLO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24,0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lapsed tim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nths/KLO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ocument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ages/KLO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ocument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ages/p-mont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ocument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/pag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7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85768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Qu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fec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rrors/KLO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st of erro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/erro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37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973080" y="606600"/>
            <a:ext cx="77421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preadsheet Data Collection Mod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1265400" y="1270080"/>
            <a:ext cx="7229520" cy="36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857680"/>
                <a:tab algn="l" pos="468612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cription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nits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ample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  <a:tabLst>
                <a:tab algn="l" pos="3314880"/>
                <a:tab algn="l" pos="514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nction-Oriented Metr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85768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ductivity and C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utpu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P/p-mont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7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st - all cod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/F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7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lapsed tim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P/mont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1.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ocument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ages/F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.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85768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Qu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fec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rrors/F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.06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870120" y="812880"/>
            <a:ext cx="7943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PROJECT ESTIM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1265400" y="1650960"/>
            <a:ext cx="7153200" cy="494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85800" indent="-685800">
              <a:lnSpc>
                <a:spcPct val="103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ver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lnSpc>
                <a:spcPct val="103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lnSpc>
                <a:spcPct val="103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composition Techn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lnSpc>
                <a:spcPct val="103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sing LOC or FP to Estimate Ef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lnSpc>
                <a:spcPct val="103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ffort Estimation by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lnSpc>
                <a:spcPct val="103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ffort Estimation by Ta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lnSpc>
                <a:spcPct val="103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mpirical Estimation 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lnSpc>
                <a:spcPct val="103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CO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lnSpc>
                <a:spcPct val="103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utman Estimation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3625920" y="835200"/>
            <a:ext cx="21286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60480" y="1803240"/>
            <a:ext cx="7915320" cy="43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3000"/>
              </a:lnSpc>
              <a:spcAft>
                <a:spcPts val="1225"/>
              </a:spcAft>
              <a:tabLst>
                <a:tab algn="l" pos="571680"/>
                <a:tab algn="l" pos="914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stimation o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3000"/>
              </a:lnSpc>
              <a:spcAft>
                <a:spcPts val="1225"/>
              </a:spcAft>
              <a:tabLst>
                <a:tab algn="l" pos="571680"/>
                <a:tab algn="l" pos="914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3000"/>
              </a:lnSpc>
              <a:spcAft>
                <a:spcPts val="1225"/>
              </a:spcAft>
              <a:tabLst>
                <a:tab algn="l" pos="571680"/>
                <a:tab algn="l" pos="914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3000"/>
              </a:lnSpc>
              <a:spcAft>
                <a:spcPts val="1225"/>
              </a:spcAft>
              <a:tabLst>
                <a:tab algn="l" pos="571680"/>
                <a:tab algn="l" pos="914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che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3000"/>
              </a:lnSpc>
              <a:spcAft>
                <a:spcPts val="1225"/>
              </a:spcAft>
              <a:tabLst>
                <a:tab algn="l" pos="571680"/>
                <a:tab algn="l" pos="914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qui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3000"/>
              </a:lnSpc>
              <a:spcAft>
                <a:spcPts val="1225"/>
              </a:spcAft>
              <a:tabLst>
                <a:tab algn="l" pos="571680"/>
                <a:tab algn="l" pos="914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per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3000"/>
              </a:lnSpc>
              <a:spcAft>
                <a:spcPts val="1225"/>
              </a:spcAft>
              <a:tabLst>
                <a:tab algn="l" pos="571680"/>
                <a:tab algn="l" pos="914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istorical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3000"/>
              </a:lnSpc>
              <a:spcAft>
                <a:spcPts val="1225"/>
              </a:spcAft>
              <a:tabLst>
                <a:tab algn="l" pos="571680"/>
                <a:tab algn="l" pos="914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antitative measures of qualitativ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370240" y="758880"/>
            <a:ext cx="46432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Overview, Continu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4227480" y="1565280"/>
            <a:ext cx="0" cy="22860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227480" y="3851280"/>
            <a:ext cx="2362320" cy="11430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2627280" y="3851280"/>
            <a:ext cx="1600200" cy="12952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3618000" y="2860560"/>
            <a:ext cx="304560" cy="304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922560" y="286056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379760" y="2860560"/>
            <a:ext cx="45720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836960" y="3089160"/>
            <a:ext cx="304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141880" y="3470400"/>
            <a:ext cx="7632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H="1">
            <a:off x="4761000" y="3927600"/>
            <a:ext cx="4572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 flipH="1">
            <a:off x="4303800" y="4384800"/>
            <a:ext cx="457200" cy="759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 flipV="1">
            <a:off x="3922560" y="4308480"/>
            <a:ext cx="381240" cy="1522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3618000" y="3927600"/>
            <a:ext cx="30456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 flipV="1">
            <a:off x="3465360" y="3546360"/>
            <a:ext cx="15264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3465360" y="3165480"/>
            <a:ext cx="15264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408560" y="1477800"/>
            <a:ext cx="23176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gree of structur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finition, vari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6618240" y="4983120"/>
            <a:ext cx="14796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ize of eff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1208160" y="5059440"/>
            <a:ext cx="1339920" cy="86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plex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ased 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ast effo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>
            <a:off x="5522760" y="27846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H="1">
            <a:off x="4761000" y="2784600"/>
            <a:ext cx="761760" cy="76176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084720" y="2620800"/>
            <a:ext cx="191124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ow-risk do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930240" y="2343240"/>
            <a:ext cx="2054160" cy="8636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sti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n be Ris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 txBox="1"/>
          <p:nvPr/>
        </p:nvSpPr>
        <p:spPr>
          <a:xfrm>
            <a:off x="3473280" y="682560"/>
            <a:ext cx="24336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Resour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1722600" y="2641680"/>
            <a:ext cx="6238800" cy="41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3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. Statement of software scope must be boun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3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. Software scope describ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terfa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li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flipH="1" flipV="1">
            <a:off x="4122720" y="4384800"/>
            <a:ext cx="1447920" cy="53316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flipH="1">
            <a:off x="4884840" y="491796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flipH="1">
            <a:off x="4503600" y="4917960"/>
            <a:ext cx="1067040" cy="5335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5627520" y="4678200"/>
            <a:ext cx="2805120" cy="40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valuated toge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701640" y="1581120"/>
            <a:ext cx="2646360" cy="8636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Task 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 Sco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2522520" y="682560"/>
            <a:ext cx="4946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Resources, Continu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701640" y="1352520"/>
            <a:ext cx="2612880" cy="1593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Task 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stimation 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eed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950760" y="6365880"/>
            <a:ext cx="32767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 flipV="1">
            <a:off x="950760" y="4156200"/>
            <a:ext cx="1600200" cy="22096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550960" y="4156200"/>
            <a:ext cx="1676520" cy="22096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712880" y="5299200"/>
            <a:ext cx="1676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1969920" y="4830840"/>
            <a:ext cx="1095480" cy="40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eo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1131840" y="5668920"/>
            <a:ext cx="2906640" cy="76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ardware/softwa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3859200" y="1882800"/>
            <a:ext cx="2879640" cy="20289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3000"/>
              </a:lnSpc>
              <a:spcAft>
                <a:spcPts val="1225"/>
              </a:spcAf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pecif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quired ski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vail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uration of ta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art 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6373800" y="4321080"/>
            <a:ext cx="2803680" cy="20289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3000"/>
              </a:lnSpc>
              <a:spcAft>
                <a:spcPts val="1225"/>
              </a:spcAf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pecif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vail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uration of 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livery 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H="1">
            <a:off x="3008160" y="2860560"/>
            <a:ext cx="838440" cy="18288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>
            <a:off x="3770280" y="5451480"/>
            <a:ext cx="2590920" cy="3049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 txBox="1"/>
          <p:nvPr/>
        </p:nvSpPr>
        <p:spPr>
          <a:xfrm>
            <a:off x="2293920" y="835200"/>
            <a:ext cx="4946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Resources, Continu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236760" y="3089160"/>
            <a:ext cx="3276720" cy="18288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4106880" y="3535200"/>
            <a:ext cx="1450800" cy="76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1208160" y="2544840"/>
            <a:ext cx="21528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Maintenance T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674640" y="3306600"/>
            <a:ext cx="19368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rototyping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imulation T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208160" y="4602240"/>
            <a:ext cx="17463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Integration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esting T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3646440" y="5516640"/>
            <a:ext cx="22543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rogramming T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6618240" y="4983120"/>
            <a:ext cx="15303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nalysis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Design T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7151760" y="4068720"/>
            <a:ext cx="16444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upport T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618240" y="3078000"/>
            <a:ext cx="23302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roject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3265560" y="1782720"/>
            <a:ext cx="19875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Framework T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5932440" y="2087640"/>
            <a:ext cx="21160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Business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la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777960" y="6000840"/>
            <a:ext cx="6913440" cy="4986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SE - Computer-Aided Software Engine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703600" y="2784600"/>
            <a:ext cx="990360" cy="53316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227480" y="2022480"/>
            <a:ext cx="380880" cy="10666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675400" y="2631960"/>
            <a:ext cx="685800" cy="5335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6513480" y="3317760"/>
            <a:ext cx="114300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 flipH="1" flipV="1">
            <a:off x="6208560" y="4537080"/>
            <a:ext cx="60984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4608360" y="4917960"/>
            <a:ext cx="304920" cy="6858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2932200" y="4460760"/>
            <a:ext cx="457200" cy="2286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627280" y="3622680"/>
            <a:ext cx="609480" cy="3049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 flipH="1" flipV="1">
            <a:off x="6513480" y="4156200"/>
            <a:ext cx="685800" cy="7596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2446200" y="758880"/>
            <a:ext cx="4946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Resources, Continu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1189080" y="2413080"/>
            <a:ext cx="7381800" cy="378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wo rul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. If existing software meets requirements, 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 algn="ctr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cquire and use i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 If existing software can meet requirements with some modification, 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 algn="ctr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e careful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cost of modification can exceed the cost of new developmen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396720" y="1504800"/>
            <a:ext cx="3070080" cy="4986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use - A Re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3894120" y="1063800"/>
            <a:ext cx="46432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Overview, Continu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93560" y="1108080"/>
            <a:ext cx="2743200" cy="762120"/>
          </a:xfrm>
          <a:prstGeom prst="round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636560" y="2174760"/>
            <a:ext cx="2743200" cy="762120"/>
          </a:xfrm>
          <a:prstGeom prst="round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08160" y="3241800"/>
            <a:ext cx="2743200" cy="762120"/>
          </a:xfrm>
          <a:prstGeom prst="round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379760" y="4384800"/>
            <a:ext cx="2743200" cy="762120"/>
          </a:xfrm>
          <a:prstGeom prst="round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751360" y="5527800"/>
            <a:ext cx="2743200" cy="762120"/>
          </a:xfrm>
          <a:prstGeom prst="round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598320" y="1173240"/>
            <a:ext cx="21398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t Objectives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co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1741320" y="2239920"/>
            <a:ext cx="22417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dentify Metrics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asur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3112920" y="3306600"/>
            <a:ext cx="23050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stimate Time, Man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ower, Materi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60840" y="4449600"/>
            <a:ext cx="1517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rform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5932440" y="5592600"/>
            <a:ext cx="22924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duct, Track,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trol th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027080" y="187020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027080" y="247968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398680" y="293688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398680" y="362268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693960" y="400356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693960" y="476568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065560" y="514656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065560" y="590868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5425920" y="2114640"/>
            <a:ext cx="3375000" cy="49860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Planning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1811160" y="911160"/>
            <a:ext cx="60642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Decomposition Techniqu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1951200" y="2336760"/>
            <a:ext cx="6010200" cy="14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85800" indent="-685800">
              <a:lnSpc>
                <a:spcPct val="105000"/>
              </a:lnSpc>
              <a:spcAft>
                <a:spcPts val="1273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LOC and FP Estim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lnSpc>
                <a:spcPct val="105000"/>
              </a:lnSpc>
              <a:spcAft>
                <a:spcPts val="1273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Effort Estim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 txBox="1"/>
          <p:nvPr/>
        </p:nvSpPr>
        <p:spPr>
          <a:xfrm>
            <a:off x="554040" y="758880"/>
            <a:ext cx="85788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Decomposition Techniques, Continu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808200" y="2489040"/>
            <a:ext cx="8067600" cy="32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3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idea is that the person planning the software proje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reates a bounded statement of the scope of the soft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composes the scope into smaller sub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stimates LOC or FP for each subf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pplies baseline productivity metrics (e.g., LOC/person-month) to LOC or FP estimates to produce a cost or effort estimate for each subf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bines estimates for each subfunction to derive estimates for the entire pro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701640" y="1581120"/>
            <a:ext cx="3576600" cy="4986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C and FP Esti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 txBox="1"/>
          <p:nvPr/>
        </p:nvSpPr>
        <p:spPr>
          <a:xfrm>
            <a:off x="554040" y="911160"/>
            <a:ext cx="85788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Decomposition Techniques, Continu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1417680" y="3327480"/>
            <a:ext cx="669600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8000"/>
              </a:lnSpc>
              <a:spcAft>
                <a:spcPts val="129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P estimation techniques require less detail than L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8000"/>
              </a:lnSpc>
              <a:spcAft>
                <a:spcPts val="129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OC is estimate directly while FP is estimated indirec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25320" y="2190600"/>
            <a:ext cx="5018040" cy="4986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ifferences Between LOC and F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 txBox="1"/>
          <p:nvPr/>
        </p:nvSpPr>
        <p:spPr>
          <a:xfrm>
            <a:off x="998640" y="682560"/>
            <a:ext cx="76899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Using LOC or FP to Estimate Effo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655560" y="1498680"/>
            <a:ext cx="8372520" cy="471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. Estimate LOC or FP values for each subf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se historical data (or intuition, if necessar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ree estimates: optimistic (o), most likely (m), and pessimistic (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 Calculate expected value for each subf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. Apply productivity data to get effort to be expended; two way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otal expected LOC or FP for all subfunctions and divide this by the expected LOC or FP completed per person-month (estimated from past projects); examp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ffort = 310 expected FP for project/5.5 expected FP per person-mon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= 56 person-mon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ultiply each subfunction LOC or FP by the adjusted productivity value (based on the estimated complexity of the function) and sum the results for all subfunctions in the pro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6178680" y="2708280"/>
            <a:ext cx="188748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 txBox="1"/>
          <p:nvPr/>
        </p:nvSpPr>
        <p:spPr>
          <a:xfrm>
            <a:off x="1593720" y="835200"/>
            <a:ext cx="64962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Effort Estimation by Fun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51000" y="2793960"/>
            <a:ext cx="8906040" cy="337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unction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Optimistic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ost Likely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essimistic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pected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$/Line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ine/Month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st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ont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User interface control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8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4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65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2,34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$1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31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$ 32,76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7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-D geometric analysis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41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52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74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5,38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$2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2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$107,6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24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3-D geometric analysis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46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69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86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6,8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$2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2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$136,0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30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ata structure mgmt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95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34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36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3,35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$18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4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$ 60,3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13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Graphics display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405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49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62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4,95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$2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$108,9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24.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eripheral control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0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1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45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2,14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$28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4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$ 59,92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15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esign analysis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66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85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98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8,4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$18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3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$151,2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28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stimated Effort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33,36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$656,68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44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2835360" y="1657440"/>
            <a:ext cx="3697200" cy="4986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D Program Example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979560" y="6049800"/>
            <a:ext cx="43624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stimated Cost: $ 656,6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stimated Effort:  144.5 person-mon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2114640" y="758880"/>
            <a:ext cx="56088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Effort Estimation by Tas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2835360" y="1657440"/>
            <a:ext cx="3697200" cy="4986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D Program Example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1494000" y="2489040"/>
            <a:ext cx="6696000" cy="40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unction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A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esign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de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est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ot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User interface control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1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2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0.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3.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7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-D geometric analysis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2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0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4.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9.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26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3-D geometric analysis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2.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2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6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1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31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ata structure mgmt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2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6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3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4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15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Graphics display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1.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1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4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0.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27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eripheral control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1.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6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3.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5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16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esign analysis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4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4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5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7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30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otal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4.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61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6.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50.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52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ate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($)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52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48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425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45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st ($)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75,4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92,8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12,62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27,25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708,0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979560" y="6049800"/>
            <a:ext cx="43624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stimated Cost: $ 708,0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stimated Effort:  152.5 person-mon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 txBox="1"/>
          <p:nvPr/>
        </p:nvSpPr>
        <p:spPr>
          <a:xfrm>
            <a:off x="1835280" y="606600"/>
            <a:ext cx="63198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Empirical Estimation Mode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503280" y="1117440"/>
            <a:ext cx="8677440" cy="546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atic single-variable model (example: COCOM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 algn="ctr">
              <a:lnSpc>
                <a:spcPct val="101000"/>
              </a:lnSpc>
              <a:spcAft>
                <a:spcPts val="1225"/>
              </a:spcAf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 is the estimated characteristic (LOC, FP, effort, etc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 and d are constants derived from data collected from past pro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atic multivariable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 algn="ctr">
              <a:lnSpc>
                <a:spcPct val="101000"/>
              </a:lnSpc>
              <a:spcAft>
                <a:spcPts val="1225"/>
              </a:spcAf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, y, ...  and c, d, ... are as abo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ynamic multivariable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ject resource requirements are determined over a series of time ste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oretical (example: Putman Estimation Mode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ses equations derived from hypothesized expenditure cur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" name="" descr=""/>
          <p:cNvPicPr/>
          <p:nvPr/>
        </p:nvPicPr>
        <p:blipFill>
          <a:blip r:embed="rId1"/>
          <a:stretch/>
        </p:blipFill>
        <p:spPr>
          <a:xfrm>
            <a:off x="3219480" y="1608120"/>
            <a:ext cx="2303640" cy="338040"/>
          </a:xfrm>
          <a:prstGeom prst="rect">
            <a:avLst/>
          </a:prstGeom>
          <a:ln w="0">
            <a:noFill/>
          </a:ln>
        </p:spPr>
      </p:pic>
      <p:pic>
        <p:nvPicPr>
          <p:cNvPr id="318" name="" descr=""/>
          <p:cNvPicPr/>
          <p:nvPr/>
        </p:nvPicPr>
        <p:blipFill>
          <a:blip r:embed="rId2"/>
          <a:stretch/>
        </p:blipFill>
        <p:spPr>
          <a:xfrm>
            <a:off x="3083040" y="3805200"/>
            <a:ext cx="2820960" cy="3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3589200" y="682560"/>
            <a:ext cx="22035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OCOM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884160" y="1498680"/>
            <a:ext cx="7915320" cy="41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  <a:tabLst>
                <a:tab algn="l" pos="2171520"/>
                <a:tab algn="l" pos="3085920"/>
                <a:tab algn="l" pos="4000680"/>
                <a:tab algn="l" pos="491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volves basic, intermediate, and advanced mod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  <a:tabLst>
                <a:tab algn="l" pos="2171520"/>
                <a:tab algn="l" pos="3085920"/>
                <a:tab algn="l" pos="4000680"/>
                <a:tab algn="l" pos="491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asic mode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3085920"/>
                <a:tab algn="l" pos="4000680"/>
                <a:tab algn="l" pos="4915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3085920"/>
                <a:tab algn="l" pos="4000680"/>
                <a:tab algn="l" pos="49150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3085920"/>
                <a:tab algn="l" pos="4000680"/>
                <a:tab algn="l" pos="49150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3085920"/>
                <a:tab algn="l" pos="4000680"/>
                <a:tab algn="l" pos="491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(b), b(b), c(b), and d(b) are determined from the tab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3085920"/>
                <a:tab algn="l" pos="4000680"/>
                <a:tab algn="l" pos="491508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Project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(b)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(b)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(b)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(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3085920"/>
                <a:tab algn="l" pos="4000680"/>
                <a:tab algn="l" pos="491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rgani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.0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.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3085920"/>
                <a:tab algn="l" pos="4000680"/>
                <a:tab algn="l" pos="491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midetach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.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.1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.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3085920"/>
                <a:tab algn="l" pos="4000680"/>
                <a:tab algn="l" pos="491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mbedd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.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.2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.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1838160" y="2327400"/>
            <a:ext cx="5589720" cy="457200"/>
          </a:xfrm>
          <a:prstGeom prst="rect">
            <a:avLst/>
          </a:prstGeom>
          <a:ln w="0">
            <a:noFill/>
          </a:ln>
        </p:spPr>
      </p:pic>
      <p:pic>
        <p:nvPicPr>
          <p:cNvPr id="322" name="" descr=""/>
          <p:cNvPicPr/>
          <p:nvPr/>
        </p:nvPicPr>
        <p:blipFill>
          <a:blip r:embed="rId2"/>
          <a:stretch/>
        </p:blipFill>
        <p:spPr>
          <a:xfrm>
            <a:off x="1749600" y="2878200"/>
            <a:ext cx="5602320" cy="43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2332080" y="758880"/>
            <a:ext cx="47181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OCOMO, Continu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722600" y="1574640"/>
            <a:ext cx="631512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xample of COCOMO basic model on the CAD progra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ffort = 3.0 (LOC) ^ 1.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= 3.0 (33.3) ^ 1.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= 152 person-mon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velopment Time = 2.5 (Effort) ^ 0.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= 2.5 (152) ^ 0.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= 14.5 mon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us, estimated number of people N 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 = Effort / Development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= 152 / 14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= 11 peo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2155680" y="758880"/>
            <a:ext cx="56833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Putman Estimation Mod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08200" y="1422360"/>
            <a:ext cx="8067600" cy="12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6000"/>
              </a:lnSpc>
              <a:spcAft>
                <a:spcPts val="1273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a is derived from large pro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 is applicable to smaller projects as w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distribution of effort is described by the Rayleigh-Norden cu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" descr=""/>
          <p:cNvPicPr/>
          <p:nvPr/>
        </p:nvPicPr>
        <p:blipFill>
          <a:blip r:embed="rId1"/>
          <a:stretch/>
        </p:blipFill>
        <p:spPr>
          <a:xfrm>
            <a:off x="1890720" y="4003560"/>
            <a:ext cx="7416720" cy="2486160"/>
          </a:xfrm>
          <a:prstGeom prst="rect">
            <a:avLst/>
          </a:prstGeom>
          <a:ln w="0">
            <a:noFill/>
          </a:ln>
        </p:spPr>
      </p:pic>
      <p:sp>
        <p:nvSpPr>
          <p:cNvPr id="328" name=""/>
          <p:cNvSpPr txBox="1"/>
          <p:nvPr/>
        </p:nvSpPr>
        <p:spPr>
          <a:xfrm>
            <a:off x="1436760" y="4221000"/>
            <a:ext cx="11494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fin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2579760" y="3611520"/>
            <a:ext cx="15048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pec,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4408560" y="3535200"/>
            <a:ext cx="13143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d co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6008760" y="3687840"/>
            <a:ext cx="11620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est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alid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7532640" y="4145040"/>
            <a:ext cx="13017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stal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 flipH="1">
            <a:off x="1255680" y="6518160"/>
            <a:ext cx="792468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V="1">
            <a:off x="1255680" y="3774960"/>
            <a:ext cx="0" cy="274320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598320" y="4221000"/>
            <a:ext cx="7682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n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o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4408560" y="6583320"/>
            <a:ext cx="6285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2546280" y="660240"/>
            <a:ext cx="48960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METR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1569960" y="1270080"/>
            <a:ext cx="6848640" cy="546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asuring Soft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hy Measure Softwar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wo Types of Measur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ategories of Metr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ize-Oriented Metr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nction Po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eature Po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nction-Oriented Metr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asuring Software Qu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lationship of LOC to F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se of Productivity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grating Metrics into the Software Engineering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llecting Software Metr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1238400" y="660240"/>
            <a:ext cx="75121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PROJECT PLAN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2408400" y="1270080"/>
            <a:ext cx="5019840" cy="546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hat Software Project Planning Invol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isk 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isk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isk Monitoring - Project Trac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Project Schedu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ypical Task Net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pproaches to Project Trac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Acqui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Acquisition Decision 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Re-Engine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rganizational Pla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nhancements to a Good Organ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Software Project Plan (SP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1343160" y="682560"/>
            <a:ext cx="700416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What Software Project Planning</a:t>
            </a:r>
            <a:br>
              <a:rPr sz="3600"/>
            </a:b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Invol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960480" y="1955880"/>
            <a:ext cx="7610400" cy="470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1.  Estim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2.  Risk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3.  Schedu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4.  Acquisition Decision Ma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5.  Re-Enginee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6.  Organizational Plan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3156120" y="835200"/>
            <a:ext cx="30686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Risk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 flipV="1">
            <a:off x="2322360" y="1870200"/>
            <a:ext cx="0" cy="350496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2322360" y="5375160"/>
            <a:ext cx="38102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1208160" y="2087640"/>
            <a:ext cx="1111320" cy="86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ched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verr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3494160" y="5364000"/>
            <a:ext cx="23940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ject Cost Overr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855880" y="2860560"/>
            <a:ext cx="76320" cy="38124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2932200" y="3241800"/>
            <a:ext cx="75960" cy="30456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3008160" y="3546360"/>
            <a:ext cx="152640" cy="30492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160800" y="3851280"/>
            <a:ext cx="228600" cy="30492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3389400" y="4156200"/>
            <a:ext cx="304560" cy="30456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3693960" y="4460760"/>
            <a:ext cx="304920" cy="22860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998880" y="4689360"/>
            <a:ext cx="380880" cy="15264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379760" y="4842000"/>
            <a:ext cx="457200" cy="7596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4836960" y="491796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 flipV="1">
            <a:off x="2855880" y="209880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2855880" y="3317760"/>
            <a:ext cx="228600" cy="152280"/>
          </a:xfrm>
          <a:prstGeom prst="ellipse">
            <a:avLst/>
          </a:prstGeom>
          <a:noFill/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3160800" y="2479680"/>
            <a:ext cx="1447560" cy="8380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4637160" y="2163600"/>
            <a:ext cx="36511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ferent Point (Cost/Time Valu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ject Termination Will Occ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2851200" y="682560"/>
            <a:ext cx="39830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Risk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731880" y="1270080"/>
            <a:ext cx="8220240" cy="546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reate risk management and monitoring p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or each risk triplet, define the risk management ste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isk management incurs additional project c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or larger projects, there may be 30-40 risks identifi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1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ssum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isk = High staff turno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ikelihood of occurrence = 7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mpact = Increase project time by 15%, project cost by 12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isk Management steps may b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. Identify high turnover cau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 Reduce causes before project sta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. Develop techniques to assure work continuity in light of turno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 txBox="1"/>
          <p:nvPr/>
        </p:nvSpPr>
        <p:spPr>
          <a:xfrm>
            <a:off x="1152360" y="911160"/>
            <a:ext cx="75391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Risk Monitoring - Project Trac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2027160" y="2336760"/>
            <a:ext cx="5705640" cy="23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termine if predicted risk occ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perly apply risk aversion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llect info for future risk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 txBox="1"/>
          <p:nvPr/>
        </p:nvSpPr>
        <p:spPr>
          <a:xfrm>
            <a:off x="1771560" y="987480"/>
            <a:ext cx="62946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Project Schedu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2408400" y="2031840"/>
            <a:ext cx="5095800" cy="26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eople-work relationsh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ask definition and parallel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ffort distrib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cheduling meth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 ex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1695600" y="758880"/>
            <a:ext cx="62946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Project Schedu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1782720" y="1401840"/>
            <a:ext cx="60148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People-Work Relationshi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1036800" y="2031840"/>
            <a:ext cx="7534440" cy="27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5000"/>
              </a:lnSpc>
              <a:spcAft>
                <a:spcPts val="136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dding people to a project when behind schedule is counterproductive (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dding people to a late project makes it lat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Aft>
                <a:spcPts val="136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sing fewer people over a longer period of time is more beneficial than lots of people for a shorter period of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Aft>
                <a:spcPts val="136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se of small, tightly-knit teams is produ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Aft>
                <a:spcPts val="136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spire creativity and self-motivation within the structure of the pro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 txBox="1"/>
          <p:nvPr/>
        </p:nvSpPr>
        <p:spPr>
          <a:xfrm>
            <a:off x="1619280" y="835200"/>
            <a:ext cx="62946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Project Schedu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1287360" y="1482840"/>
            <a:ext cx="68533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ask Definition and Parallelis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22160" y="3699000"/>
            <a:ext cx="609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874800" y="3851280"/>
            <a:ext cx="609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1027080" y="4003560"/>
            <a:ext cx="609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179360" y="4156200"/>
            <a:ext cx="609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1027080" y="3699000"/>
            <a:ext cx="609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1332000" y="4308480"/>
            <a:ext cx="609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1484280" y="4460760"/>
            <a:ext cx="609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1636560" y="4613400"/>
            <a:ext cx="609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1789200" y="4765680"/>
            <a:ext cx="609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1941480" y="4917960"/>
            <a:ext cx="609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1027080" y="347040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1179360" y="362268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1"/>
          <a:stretch/>
        </p:blipFill>
        <p:spPr>
          <a:xfrm>
            <a:off x="493560" y="2281320"/>
            <a:ext cx="8686800" cy="4313160"/>
          </a:xfrm>
          <a:prstGeom prst="rect">
            <a:avLst/>
          </a:prstGeom>
          <a:ln w="0">
            <a:noFill/>
          </a:ln>
        </p:spPr>
      </p:pic>
      <p:sp>
        <p:nvSpPr>
          <p:cNvPr id="383" name=""/>
          <p:cNvSpPr txBox="1"/>
          <p:nvPr/>
        </p:nvSpPr>
        <p:spPr>
          <a:xfrm>
            <a:off x="446040" y="3078000"/>
            <a:ext cx="99684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1208160" y="3687840"/>
            <a:ext cx="2602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2655720" y="3687840"/>
            <a:ext cx="2602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4484520" y="2239920"/>
            <a:ext cx="31104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5856120" y="2239920"/>
            <a:ext cx="31104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6618240" y="2239920"/>
            <a:ext cx="2350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5170320" y="2239920"/>
            <a:ext cx="2602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3798720" y="2239920"/>
            <a:ext cx="2602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8066160" y="3763800"/>
            <a:ext cx="29844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8751960" y="3763800"/>
            <a:ext cx="3873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522360" y="3687840"/>
            <a:ext cx="2602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1893960" y="3687840"/>
            <a:ext cx="2602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2655720" y="6278400"/>
            <a:ext cx="3873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4484520" y="6278400"/>
            <a:ext cx="4762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P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6389640" y="6278400"/>
            <a:ext cx="2602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4805280" y="3503520"/>
            <a:ext cx="228600" cy="152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1619280" y="758880"/>
            <a:ext cx="62946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Project Schedu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1287360" y="1401840"/>
            <a:ext cx="68533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ask Definition and Parallelis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960480" y="2031840"/>
            <a:ext cx="7763040" cy="432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2000"/>
              </a:lnSpc>
              <a:spcAft>
                <a:spcPts val="1225"/>
              </a:spcAf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itial Sequential 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ilestone 1 Occurs After -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stem analysis and spec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stem requirements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ilestone 2 Occurs After -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stem architecture and data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stem preliminary design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 txBox="1"/>
          <p:nvPr/>
        </p:nvSpPr>
        <p:spPr>
          <a:xfrm>
            <a:off x="1695600" y="682560"/>
            <a:ext cx="62946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Project Schedu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1287360" y="1254240"/>
            <a:ext cx="68533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ask Definition and Parallelis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1646280" y="1955880"/>
            <a:ext cx="6391440" cy="54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2000"/>
              </a:lnSpc>
              <a:spcAft>
                <a:spcPts val="1225"/>
              </a:spcAf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rallel Events for Each Sub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ilestone P1 Occurs After -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cedural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sign walkthrou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ilestone P2 Occurs After -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 walkthrou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ilestone P3 Occurs After -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nit te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2774880" y="758880"/>
            <a:ext cx="44402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Measuring Softwa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1569960" y="1498680"/>
            <a:ext cx="6543720" cy="32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bjectively measuring software is difficul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st projects use only "lines of code" (LOC) for metric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uch disagreement exists on what and how much to meas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2000"/>
              </a:lnSpc>
              <a:spcAft>
                <a:spcPts val="1225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bu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curately measuring software is vitally important to tracking and controlling software develop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246400" y="6289560"/>
            <a:ext cx="388620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550960" y="51465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50960" y="514656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465360" y="51465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379760" y="590868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379760" y="590868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294160" y="590868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2655720" y="6354720"/>
            <a:ext cx="5778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179960" y="6354720"/>
            <a:ext cx="13273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at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2246400" y="507060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5856120" y="5059440"/>
            <a:ext cx="18986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ame Pro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ifferent Metr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1619280" y="682560"/>
            <a:ext cx="62946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Project Schedu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1363680" y="1254240"/>
            <a:ext cx="68533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ask Definition and Parallelis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1112760" y="1955880"/>
            <a:ext cx="7381800" cy="30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2000"/>
              </a:lnSpc>
              <a:spcAft>
                <a:spcPts val="1225"/>
              </a:spcAf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stem Testing Activities Can Be Performed In Parall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esting Milestone (After Unit Testing) -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stem test plan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stem test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stem test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 txBox="1"/>
          <p:nvPr/>
        </p:nvSpPr>
        <p:spPr>
          <a:xfrm>
            <a:off x="1467000" y="987480"/>
            <a:ext cx="62946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Project Schedu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1135080" y="1711440"/>
            <a:ext cx="68533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ask Definition and Parallelis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1227240" y="2641680"/>
            <a:ext cx="7229520" cy="188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tegration Test Milestone - completed after system is assemb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Validation Test Milestone - completed l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 txBox="1"/>
          <p:nvPr/>
        </p:nvSpPr>
        <p:spPr>
          <a:xfrm>
            <a:off x="1924200" y="911160"/>
            <a:ext cx="62946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Project Schedu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3090960" y="1554120"/>
            <a:ext cx="40068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Effort Distrib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3160800" y="2403360"/>
            <a:ext cx="3581280" cy="3352680"/>
          </a:xfrm>
          <a:prstGeom prst="ellipse">
            <a:avLst/>
          </a:prstGeom>
          <a:noFill/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4913280" y="2403360"/>
            <a:ext cx="0" cy="335304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913280" y="4003560"/>
            <a:ext cx="1371600" cy="121932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3494160" y="3230640"/>
            <a:ext cx="10350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40-50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5018040" y="2849400"/>
            <a:ext cx="128916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e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bugg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30-40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4941720" y="4830840"/>
            <a:ext cx="10350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15-20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 txBox="1"/>
          <p:nvPr/>
        </p:nvSpPr>
        <p:spPr>
          <a:xfrm>
            <a:off x="1619280" y="758880"/>
            <a:ext cx="62946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Project Schedu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2430360" y="1325520"/>
            <a:ext cx="45655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cheduling Metho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579600" y="1955880"/>
            <a:ext cx="83725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85800" indent="-685800">
              <a:lnSpc>
                <a:spcPct val="106000"/>
              </a:lnSpc>
              <a:spcAft>
                <a:spcPts val="1273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ERT -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gram Evaluation and Review Techn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lnSpc>
                <a:spcPct val="106000"/>
              </a:lnSpc>
              <a:spcAft>
                <a:spcPts val="1273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PM -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ritical Path Meth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693720" y="3022560"/>
            <a:ext cx="8296200" cy="39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3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ERT and CPM a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sually presented pictor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antitative tools for the planner to determin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ritical pa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ost likely time estim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undary times (earliest task start time, latest task start time, earliest task finish time, latest task finish time, total float tim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 txBox="1"/>
          <p:nvPr/>
        </p:nvSpPr>
        <p:spPr>
          <a:xfrm>
            <a:off x="2382840" y="1216080"/>
            <a:ext cx="47703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Typical Task Netwo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560600" y="3317760"/>
            <a:ext cx="1143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560600" y="3546360"/>
            <a:ext cx="1143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6" name="" descr=""/>
          <p:cNvPicPr/>
          <p:nvPr/>
        </p:nvPicPr>
        <p:blipFill>
          <a:blip r:embed="rId1"/>
          <a:stretch/>
        </p:blipFill>
        <p:spPr>
          <a:xfrm>
            <a:off x="981000" y="2662200"/>
            <a:ext cx="8047080" cy="3855960"/>
          </a:xfrm>
          <a:prstGeom prst="rect">
            <a:avLst/>
          </a:prstGeom>
          <a:ln w="0">
            <a:noFill/>
          </a:ln>
        </p:spPr>
      </p:pic>
      <p:sp>
        <p:nvSpPr>
          <p:cNvPr id="427" name=""/>
          <p:cNvSpPr txBox="1"/>
          <p:nvPr/>
        </p:nvSpPr>
        <p:spPr>
          <a:xfrm>
            <a:off x="1589040" y="3611520"/>
            <a:ext cx="876240" cy="6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ctiv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mple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3036960" y="3611520"/>
            <a:ext cx="776160" cy="6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erfo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esig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4560840" y="2620800"/>
            <a:ext cx="668160" cy="6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egi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rch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esig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4506840" y="4525920"/>
            <a:ext cx="836640" cy="4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esig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nterf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6389640" y="3763800"/>
            <a:ext cx="846000" cy="6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ntegr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rch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7837560" y="3763800"/>
            <a:ext cx="865080" cy="6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e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3036960" y="5821200"/>
            <a:ext cx="974880" cy="6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evelo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est pl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nd sch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4560840" y="5897520"/>
            <a:ext cx="757080" cy="6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eview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e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l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6465960" y="5897520"/>
            <a:ext cx="1063800" cy="6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esig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e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rocedu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1589040" y="4297320"/>
            <a:ext cx="2221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2960640" y="4297320"/>
            <a:ext cx="2221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4560840" y="3306600"/>
            <a:ext cx="2221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4484520" y="5135400"/>
            <a:ext cx="2221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6313320" y="4373640"/>
            <a:ext cx="2221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7761240" y="4373640"/>
            <a:ext cx="2221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2960640" y="6507000"/>
            <a:ext cx="2221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4560840" y="6507000"/>
            <a:ext cx="2221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6389640" y="6507000"/>
            <a:ext cx="3492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1512720" y="3306600"/>
            <a:ext cx="8571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/24/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2960640" y="3382920"/>
            <a:ext cx="8571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/25/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 txBox="1"/>
          <p:nvPr/>
        </p:nvSpPr>
        <p:spPr>
          <a:xfrm>
            <a:off x="4408560" y="2392200"/>
            <a:ext cx="7300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5/2/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4484520" y="4221000"/>
            <a:ext cx="7300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5/2/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6313320" y="3459240"/>
            <a:ext cx="7300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5/8/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7684920" y="3459240"/>
            <a:ext cx="8571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5/15/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2960640" y="5592600"/>
            <a:ext cx="8571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/25/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4484520" y="5592600"/>
            <a:ext cx="8571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/30/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6389640" y="5592600"/>
            <a:ext cx="7300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5/1/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"/>
          <p:cNvSpPr txBox="1"/>
          <p:nvPr/>
        </p:nvSpPr>
        <p:spPr>
          <a:xfrm>
            <a:off x="1263600" y="1063800"/>
            <a:ext cx="70056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Approaches to Project Trac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960480" y="2260440"/>
            <a:ext cx="7610400" cy="36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ducting periodic project status meetings in which each team member reports progress and probl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valuating the results of all reviews conducted throughout the engineering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termining whether formal project milestones have been accomplished by the scheduled 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paring the actual start date to the planned start date for each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eting informally with software engineers to obtain their subjective assessments of the progress to date and problems on the horiz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"/>
          <p:cNvSpPr txBox="1"/>
          <p:nvPr/>
        </p:nvSpPr>
        <p:spPr>
          <a:xfrm>
            <a:off x="2370240" y="835200"/>
            <a:ext cx="46418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Acquis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1646280" y="1727280"/>
            <a:ext cx="639144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5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ke or bu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5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ho will us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5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uy and modif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5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tact outside contractor to buil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cision based 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5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duced c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5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arlier delivery 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5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t enough or properly skilled people to devel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5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etter support outs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 txBox="1"/>
          <p:nvPr/>
        </p:nvSpPr>
        <p:spPr>
          <a:xfrm>
            <a:off x="946080" y="682560"/>
            <a:ext cx="76406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Acqusition Decision Tre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731880" y="1346040"/>
            <a:ext cx="8143920" cy="617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943280"/>
                <a:tab algn="l" pos="4686120"/>
                <a:tab algn="l" pos="605772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pproach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943280"/>
                <a:tab algn="l" pos="468612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uil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imp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38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943280"/>
                <a:tab algn="l" pos="468612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ifficul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45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943280"/>
                <a:tab algn="l" pos="4686120"/>
                <a:tab algn="l" pos="605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943280"/>
                <a:tab algn="l" pos="468612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us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inor chang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275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943280"/>
                <a:tab algn="l" pos="468612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jor chang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imp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31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943280"/>
                <a:tab algn="l" pos="468612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ple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49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943280"/>
                <a:tab algn="l" pos="4686120"/>
                <a:tab algn="l" pos="605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943280"/>
                <a:tab algn="l" pos="468612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u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inor chang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21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943280"/>
                <a:tab algn="l" pos="468612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jor chang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40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943280"/>
                <a:tab algn="l" pos="4686120"/>
                <a:tab algn="l" pos="605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943280"/>
                <a:tab algn="l" pos="468612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trac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ithout chang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35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943280"/>
                <a:tab algn="l" pos="468612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ith chang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50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1865160" y="1870200"/>
            <a:ext cx="10670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246400" y="18702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246400" y="23274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865160" y="3165480"/>
            <a:ext cx="10670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246400" y="31654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246400" y="36226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1865160" y="4765680"/>
            <a:ext cx="10670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2246400" y="47656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246400" y="52228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1865160" y="5985000"/>
            <a:ext cx="10670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246400" y="59850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246400" y="64422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4761000" y="3546360"/>
            <a:ext cx="10666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5141880" y="354636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5141880" y="400356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4151160" y="1946160"/>
            <a:ext cx="29718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4151160" y="2327400"/>
            <a:ext cx="29718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4913280" y="3165480"/>
            <a:ext cx="22860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894360" y="354636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6894360" y="400356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4913280" y="4842000"/>
            <a:ext cx="22860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913280" y="5146560"/>
            <a:ext cx="22860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5065560" y="5985000"/>
            <a:ext cx="20574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5065560" y="6442200"/>
            <a:ext cx="20574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 txBox="1"/>
          <p:nvPr/>
        </p:nvSpPr>
        <p:spPr>
          <a:xfrm>
            <a:off x="1925640" y="987480"/>
            <a:ext cx="55324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Re-Enginee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1074600" y="2108160"/>
            <a:ext cx="7534440" cy="30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or often-used programs, build a controlled database of components for all to 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clude documents, source code, user's guide, maintenance guide, test procedures and data, and a history of use with the compon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 re-engineering may be enhanced by object-oriented design and implem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"/>
          <p:cNvSpPr txBox="1"/>
          <p:nvPr/>
        </p:nvSpPr>
        <p:spPr>
          <a:xfrm>
            <a:off x="2255760" y="682560"/>
            <a:ext cx="53276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Organizational Plan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 txBox="1"/>
          <p:nvPr/>
        </p:nvSpPr>
        <p:spPr>
          <a:xfrm>
            <a:off x="655560" y="1346040"/>
            <a:ext cx="8296200" cy="551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  <a:tabLst>
                <a:tab algn="l" pos="1028880"/>
                <a:tab algn="l" pos="445788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re are lots  of human organizational structures for software 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  <a:tabLst>
                <a:tab algn="l" pos="1028880"/>
                <a:tab algn="l" pos="445788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ossibilities - consider N people working for K years on M different functional ta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028880"/>
                <a:tab algn="l" pos="4457880"/>
                <a:tab algn="l" pos="605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028880"/>
                <a:tab algn="l" pos="445788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vel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028880"/>
                <a:tab algn="l" pos="4457880"/>
                <a:tab algn="l" pos="605772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pproach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raction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ordin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028880"/>
                <a:tab algn="l" pos="445788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 Assign N people to M task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dividua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ject Mg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028880"/>
                <a:tab algn="l" pos="445788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 M &gt; N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028880"/>
                <a:tab algn="l" pos="445788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 Assign N people to M task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eam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ject Mgr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028880"/>
                <a:tab algn="l" pos="445788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 M &lt; N 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eam L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028880"/>
                <a:tab algn="l" pos="445788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 Assign N people to T teams,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orma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ject Mgr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028880"/>
                <a:tab algn="l" pos="445788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ach team resp. for 1 o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eam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eam L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028880"/>
                <a:tab algn="l" pos="445788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re ta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2228760" y="911160"/>
            <a:ext cx="53802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Why Measure Softw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1036800" y="2108160"/>
            <a:ext cx="7610400" cy="38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o -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dentify quality of the software produ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ssess productivity of the software develop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ssess benefits of using development processes and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4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orm a baseline for esti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5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justify requests for tools an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"/>
          <p:cNvSpPr txBox="1"/>
          <p:nvPr/>
        </p:nvSpPr>
        <p:spPr>
          <a:xfrm>
            <a:off x="579600" y="1139760"/>
            <a:ext cx="85294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Enhancements to a Good Organiz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1112760" y="2413080"/>
            <a:ext cx="7610400" cy="157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5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Chief Programmer Te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Software Librari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goless programming with a team 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"/>
          <p:cNvSpPr txBox="1"/>
          <p:nvPr/>
        </p:nvSpPr>
        <p:spPr>
          <a:xfrm>
            <a:off x="1379520" y="682560"/>
            <a:ext cx="70819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The Software Project Plan (SPP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960480" y="1498680"/>
            <a:ext cx="7763040" cy="506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brief document which describes -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scope of the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resources to be u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isks and risk avoidance techn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st and sched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verall approach to software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anagement, technical staff, and customer are the primary reads of the SP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SPP provides a starting point for the rest of the proje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1747800" y="835200"/>
            <a:ext cx="63453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Two Types of Measure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332000" y="1946160"/>
            <a:ext cx="3352680" cy="4267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SzPct val="50000"/>
              <a:buFont typeface="Wingdings"/>
              <a:buChar char=""/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Direct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-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-  LO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-  execution sp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-  binary code siz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-  memory u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💧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sy to ma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55520" y="5961240"/>
            <a:ext cx="95400" cy="3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5218200" y="1946160"/>
            <a:ext cx="3352680" cy="4267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SzPct val="50000"/>
              <a:buFont typeface="Wingdings"/>
              <a:buChar char=""/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Indire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-   functionali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-  quali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-  "-ilities"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💧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t easy to ma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2776680" y="911160"/>
            <a:ext cx="47451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ategories of Metr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703600" y="2936880"/>
            <a:ext cx="617220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703600" y="4308480"/>
            <a:ext cx="617220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03600" y="5680080"/>
            <a:ext cx="617220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998880" y="2022480"/>
            <a:ext cx="0" cy="396252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056280" y="2022480"/>
            <a:ext cx="0" cy="396252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61400" y="2022480"/>
            <a:ext cx="0" cy="396252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93720" y="2544840"/>
            <a:ext cx="2060640" cy="40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ize-Orie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693720" y="3916440"/>
            <a:ext cx="2736720" cy="40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unction-Orie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70040" y="5288040"/>
            <a:ext cx="2482920" cy="40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uman-Orie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3265560" y="1706400"/>
            <a:ext cx="1857240" cy="40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duc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5494320" y="1747800"/>
            <a:ext cx="1128600" cy="40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7323120" y="1747800"/>
            <a:ext cx="1501920" cy="40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echn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