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BF2924C-A517-4B86-AB28-7AAF0F38F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ives of Modu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syntax of the C++ Programming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 and discuss the features of C++ which support object-oriented program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ggested 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nley B. Lippma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++ Prim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T&amp;T Bell Labs, Addison-Wesley Publishing Company, 1989, ISBN 0-201-1648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ee and Mark Atkinson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sing Borland C+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Que Corporation, 1991, ISBN 0-88022-675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 example of a C++ class declaration and defini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elevato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selected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floor_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ialize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elect_floor (int floo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go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B609B80C-5EB7-4423-AC70-7A2896A4F6EC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lize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0; floor_numb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8FE6D1FA-5040-4E74-9174-785A05CC31D4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_floor (int floor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or_selected = floo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elevator</a:t>
            </a:r>
            <a:fld id="{67ECEA64-6B06-4C86-BE7C-DB34E3701B45}" type="datetime11"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go 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floor_number &lt; floor_selected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++floor_number &l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 going up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--floor_number &gt; floor_select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: %d going down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floor %d: stopping\n", floor_number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function overload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 ints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a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b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int 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char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(struct ints *value, int times = 1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int i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 cout &lt;&lt; "Integer: " &lt;&lt; i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char *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 cout &lt;&lt; "String: " &lt;&lt; s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print (struct ints * is, int times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 (int j = 0; j &lt; times; j++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Ints: " &lt;&lt; is-&gt;a &lt;&lt; ", " &lt;&lt; is-&gt;b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C++ is suffering from a lack of standardization today, with many distinct dialects emer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set of course notes reflects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 fac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standard associated with th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rland C++ language, version 3.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.  Borland C++ is quite close to AT&amp;T C++ (cfron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ample of static class memb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#include &lt;iostream.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lass objcounter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har *object_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numb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counter;  </a:t>
            </a:r>
            <a:fld id="{5882E9A8-FE72-4AE3-92A2-9B0E5D8FD565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one copy for all in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ublic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 (char *name);  </a:t>
            </a:r>
            <a:fld id="{309E7E06-B74D-4C5D-A7F0-244BE10793F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constru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whoami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atic int number_of_objects(void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256B0C41-3ED6-46AB-9020-059CA531EAFA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 = 0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</a:t>
            </a:r>
            <a:fld id="{549E1E8C-9E22-484E-B4D3-964C0A45EE15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counter(char *name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bject_name = nam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nter++;  </a:t>
            </a:r>
            <a:fld id="{A299BE97-B2D8-4960-BDBC-34E43477BB1F}" type="datetime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increment static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 =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oid objcounter</a:t>
            </a:r>
            <a:fld id="{4DF8D366-84CF-4628-9478-664A60B92E00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hoami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ut &lt;&lt; "Name: " &lt;&lt; object_name &lt;&lt; ", Number: " &lt;&lt; number &lt;&lt; "\n"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 objcounter</a:t>
            </a:r>
            <a:fld id="{03FA695E-1D77-4DD7-A842-7D62F767878B}" type="datetime11"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umber_of_objects(void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turn counte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ote that the ANSI C++ standard does not yet ex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 the interim, Stroustrup's book is the ANSI Base Docu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rgaret A. Ellis and Bjarne Stroustrup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Annotated C++ Reference Man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, Addison-Wesley Publishing Company, 1990, ISBN 0-201-51459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brings up the concepts of member data and member functions.  Member data is duplicated with each object created under C++.  Member functions are often implemented as inline functions, so their code is often duplicated when cal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976320" cy="93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- </a:t>
            </a:r>
            <a:fld id="{04ACE66A-C890-4F84-B15A-57E0DDF0AB0E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905120" y="700200"/>
            <a:ext cx="6021360" cy="33224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LANGUAG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4800" spc="-1" strike="noStrike">
                <a:solidFill>
                  <a:srgbClr val="081d58"/>
                </a:solidFill>
                <a:latin typeface="Arial"/>
                <a:ea typeface="Arial"/>
              </a:rPr>
              <a:t>-- C++ -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19040" y="3952800"/>
            <a:ext cx="8915400" cy="25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ing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matic 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, 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38320"/>
                <a:tab algn="l" pos="4324320"/>
                <a:tab algn="l" pos="6400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iend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perator Overlo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7644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64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743880" y="402912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074600" y="752400"/>
            <a:ext cx="768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04840" y="2200320"/>
            <a:ext cx="762012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used whenever the compiler would not normally choose the desired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095560" y="3343320"/>
            <a:ext cx="5181480" cy="24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mai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2;    </a:t>
            </a:r>
            <a:fld id="{9E9C2DC7-CCB1-472F-AA2F-341493F46C61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loc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67B5C978-F31B-422B-929E-51D5CE3646C0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4;  </a:t>
            </a:r>
            <a:fld id="{D6D0E52C-C3D1-41BD-82A9-3DE66B217DE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global X is assig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66960" y="3267000"/>
            <a:ext cx="5562720" cy="29718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738440" y="752400"/>
            <a:ext cx="6353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EMBER FUNCTION SC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52560" y="159084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member function may access any other member in the same struct, including both data and other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257480" y="2733840"/>
            <a:ext cx="7162920" cy="283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complex</a:t>
            </a:r>
            <a:fld id="{858E2E3C-5E1C-4BE2-8176-066B59D61C97}" type="datetime11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complex left, complex right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_part = left.real_part + right.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74F99C7A-2558-4103-B92F-F9F00C3921C6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 that the real_part left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EC94C924-5421-407D-9FEE-7412A9588A0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qual size refers to the real_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fld id="{7CC00D3A-349C-4B09-820D-960738A48B7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f the target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_part = left.imag_part + right.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28880" y="2657520"/>
            <a:ext cx="7467480" cy="30481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65440" y="752400"/>
            <a:ext cx="4500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ATA PROT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04840" y="1819440"/>
            <a:ext cx="754380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data and functions within a struct is controlled by the thr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specifi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revents access except by other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except inherited classes also have access (inheritance is 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permits everyone, including end users, to access th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s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ec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can be granted to non-member functions by using th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frie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when declaring the non-member function inside a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11400" y="752400"/>
            <a:ext cx="74106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ublic  AND  private  WITH  frie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76240" y="1438200"/>
            <a:ext cx="8077320" cy="48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SIZE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[SIZE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  </a:t>
            </a:r>
            <a:fld id="{4917C92B-7064-4F06-B149-3A9A8BC96D5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iend void print (int_array);  </a:t>
            </a:r>
            <a:fld id="{4747DFE7-5993-48D4-B557-69CE94CB5B1F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friend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print (int_array x) {  </a:t>
            </a:r>
            <a:fld id="{7CCCAAD5-480B-4ACF-BBD6-D74B907A31C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membe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int i=0; i&lt;SIZE; i++) cout &lt;&lt; x.a[i] &lt;&lt; "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ut &lt;&lt; "\n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280" y="1362240"/>
            <a:ext cx="8077320" cy="5105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784680" y="75240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409760" y="1438200"/>
            <a:ext cx="7162920" cy="24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preferred keyword for defining new types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or the access of its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638360" y="4257720"/>
            <a:ext cx="6324480" cy="212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typename {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typenam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448793D-6441-4058-A322-49D6576EFE5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5225CAB6-1830-448E-93F2-5F1FF309B69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7F86D962-70A5-4F11-879B-DCDB59636FF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ublic membe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fld id="{49EDA477-BD92-4B4C-B41F-46DCAF115D6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rivate 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200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3440" y="4181400"/>
            <a:ext cx="6781680" cy="22860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6480" y="4181400"/>
            <a:ext cx="0" cy="2286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08040" y="752400"/>
            <a:ext cx="861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UTOMATIC  typedef  DECLA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04840" y="1514520"/>
            <a:ext cx="7467480" cy="44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ag nam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se entities are designated as reserved words within their scope automatically (similar to doing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de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), and the form of their declarations and definitions are simi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u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n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4915080" y="3648240"/>
            <a:ext cx="833400" cy="8885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914480" y="752400"/>
            <a:ext cx="60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UNCTION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33440" y="1362240"/>
            <a:ext cx="7238880" cy="53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ws more than one function to be given the same na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long as all these functions have distinct argument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vents name clashes 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le librar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me in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overloading works throug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mang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ere the compiler-generated name for the function includes information on the types of its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s of overloaded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int, char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id print(double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014480" y="752400"/>
            <a:ext cx="7800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AULT FUNCTION 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28880" y="1743120"/>
            <a:ext cx="7772400" cy="29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in a function's argument list when common values are to be automatically generated by the compiler rather than always forcing the programmer to specify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only once,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iling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given default values, and once default values are assigned, they must be assigned to the rest of the remaining arguments as w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14195520" y="23990400"/>
            <a:ext cx="8532720" cy="620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2422440" y="752400"/>
            <a:ext cx="4986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-SAFE  LINK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19280" y="1670040"/>
            <a:ext cx="4762440" cy="88272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was designed in par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liminate problems found in 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28880" y="2809800"/>
            <a:ext cx="7924680" cy="38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requires fu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perform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ong type checking (type-safe linkage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so if the arguments to a function when it is called are not the same types as when it was declared, the compiler will flag this error at compile time -- C doe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 does not always hold you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-safe linkag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cause there are times when you may want to link in code generated by a C compiler; C++ lets you do this through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ternate linkage specif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looks like th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tern "C" {type function_name(arg_types);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933640" y="752400"/>
            <a:ext cx="3962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33440" y="1514520"/>
            <a:ext cx="7238880" cy="47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used to initialize a variable based on a clas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the variable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 that has the same name as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occur automatically at the point the variable is created, and the programmer cannot access the variable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verload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ke other member functions so that various kinds of initialization may be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ault argu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also be used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o long as ambiguities are not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not required by C++, but they are often very conven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408400" y="752400"/>
            <a:ext cx="50133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 C++ 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33440" y="1819440"/>
            <a:ext cx="70866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b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jarne Stroustru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tarting in the early 1980'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d on merging feature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developed in Scandinavia in 196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riginally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ince it involved adding Simula-67'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cept to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 with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as later expanded by simply adding improvements to C 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implement object orientation necessarily), so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xt step after 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C increment operator is ++), ev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4915080" y="23544360"/>
            <a:ext cx="833400" cy="270111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124080" y="752400"/>
            <a:ext cx="3581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28880" y="1666800"/>
            <a:ext cx="7772400" cy="36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used to ensure proper cleanup when a variable is destr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mber function with the same name as the class preceded by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i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ll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utomatic, occurring when a variable goes out of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not have any arg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optional, 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lik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only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cla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4391800" y="18819720"/>
            <a:ext cx="9144000" cy="360"/>
          </a:xfrm>
          <a:prstGeom prst="rect">
            <a:avLst/>
          </a:prstGeom>
          <a:solidFill>
            <a:srgbClr val="fc0128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217520" y="752400"/>
            <a:ext cx="7396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VOIDING THE PREPROCES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952560" y="2124000"/>
            <a:ext cx="7848720" cy="38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places part of the function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#def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eprocessor dir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erforms value substitution, adding type checking and normal expression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placed in front of any variable definition, indicating that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  the value cannot be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  the compiler should try not to allocate storage, keeping the information in the symbol table 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st float pi = 3.14159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7770040" y="13158720"/>
            <a:ext cx="9144000" cy="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03400" y="752400"/>
            <a:ext cx="58230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 IN ANSI C AND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23960" y="1362240"/>
            <a:ext cx="8381880" cy="505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behaves differently in ANSI C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nkage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faults t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n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inkage (loc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ory allocation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ways allocates storage for the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ries to store values in the 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ant expressions (like array definitions)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not be used in constant expressions (e.g., cannot be used in header fi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riables can be used in constant expressions if symbol table storage is possible (i.e., elaborate structures are not involv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4915080" y="3648240"/>
            <a:ext cx="16695720" cy="17699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2800440" y="752400"/>
            <a:ext cx="42292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line 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28880" y="1666800"/>
            <a:ext cx="7772400" cy="44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user can creat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where, when they are called, their code itself is placed at the point of the call rather than a subroutine call i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were created to replac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c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 required in C to perform such code optim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s defined within a class declaration are automatical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lobal functions must us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to becom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ll C++ type checking is performed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, like any oth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totype and function body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are stor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mbol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5748480" y="23937840"/>
            <a:ext cx="9144000" cy="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627280" y="752400"/>
            <a:ext cx="4576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FINING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1160" y="1285920"/>
            <a:ext cx="7391520" cy="558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variables) may be defined any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me variables cannot be initialized until code has been executed, so C++ allows a variable to be defined at any point in a scope;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such a variable extends from that point to the end of the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ggregate initializ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upported extens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orage is reserved at the beginning of a 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cal storage usually comes off the stack, so C++ scans forward when a scope is e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itialization of an object  takes place at the point of definition, even though the space has already been alloc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available until the point of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scope is left before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called,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to's which skip variable initialization are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28880" y="1285920"/>
            <a:ext cx="7772400" cy="560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we have already seen, C++ supports pointers lik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so supports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o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 ty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, which is like a pointer except that the compiler automatically takes the address and dereferences it for you (allowing dot notation instead of arrow not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&amp; fct(float&amp;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nt *i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loat *f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p = fct(*fp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257480" y="1666800"/>
            <a:ext cx="73152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almost exclusively used as function arguments and return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ide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 address of the current object is accessed with the key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ampl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int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in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int() { this-&gt;init()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66960" y="4334040"/>
            <a:ext cx="426708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041560" y="752400"/>
            <a:ext cx="5748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REFERENCES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104840" y="166680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ren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be independent, acting like a normal variable except that they modify storage used by other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i = 10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&amp;ip =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++;  </a:t>
            </a:r>
            <a:fld id="{8A771532-5374-4CBC-A78E-E71B7830EA7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hanges the value of i to 1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0640" y="2657520"/>
            <a:ext cx="6019920" cy="167652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4915080" y="364824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177920" y="752400"/>
            <a:ext cx="74754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TATIC CLASS MEMBERS IN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95360" y="1438200"/>
            <a:ext cx="8763120" cy="484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members (data or functions) that work with the class as a whole rather than individual objects are declared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embers may be accessed by all members of a class, but the name of the static member 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dd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ithin the scope of the class, so nothing outside the class may access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data memb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have one instance for all objects of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ng and initializing static data is performed by a global definition that reserves storage and initializes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so work with the entir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ddress of an object, referred to with the key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is not passed into a static member function, so static member functions can only access static data members or call other static member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c 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only be called with an object or by specify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22069440" y="15898680"/>
            <a:ext cx="6500880" cy="5056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550880" y="752400"/>
            <a:ext cx="67294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YNAMIC OBJECT CRE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181160" y="1819440"/>
            <a:ext cx="7467480" cy="19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is built into the C++ language, through the keyword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ather than being implemented only in library function calls such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ynamic object creation lets the type and lifetime of an object be chosen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2232000" y="752400"/>
            <a:ext cx="5367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 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52560" y="1438200"/>
            <a:ext cx="7924680" cy="45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upports the creation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simulations of systems usually involve many discrete, independently operating ent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authors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ed these entitie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ther than perform actions on objects in a simulation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ula-6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volved the concep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nding messages to ob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nd that's w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(OOP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later proved to be an easy way to think about many other types of problems, so a number of othe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(OOPLs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re developed, most notabl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malltal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OP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rovided many benefits, but the steep learning curve and significant period of limited productivity were drawba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790720" y="752400"/>
            <a:ext cx="4248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malloc()  AND  n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409760" y="1743120"/>
            <a:ext cx="701028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llocates space for an object given its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t initialize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the associat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to initialize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552760" y="4105440"/>
            <a:ext cx="4648320" cy="24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*i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(int *)malloc(sizeof(int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/* done in C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p = new i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27B0C462-7EBF-4BCE-AB0B-51455B08B769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don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47840" y="4029120"/>
            <a:ext cx="5257800" cy="24382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884320" y="752400"/>
            <a:ext cx="40622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free()  AND  de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81160" y="1590840"/>
            <a:ext cx="7315200" cy="167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malloc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eallocates space provided by n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does no cleanup other than freeing th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 a destructor for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38360" y="3495600"/>
            <a:ext cx="662940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th the advent of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ew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le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in C++, there is no reasonable need for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alloc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ree()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 except for compatibility with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915080" y="3711600"/>
            <a:ext cx="25598160" cy="25445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362320" y="752400"/>
            <a:ext cx="51055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TAINER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57480" y="1666800"/>
            <a:ext cx="73152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lso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e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are classes which hold objects created at ru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er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ten hold groups of objects from other classess, making them a form of composit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186000" y="752400"/>
            <a:ext cx="3457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HEADER F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76240" y="1438200"/>
            <a:ext cx="800100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ontain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only, no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clu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decla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thing else that is a part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o a class or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ust b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ul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so the compiler sees its contents only once when compiling a file; preprocessor statements, like those used before for STORABLE.H, should be used to perform this in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essence, these preprocessor statements direct the header file  to be skipped  if it has already been inclu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81160" y="1209600"/>
            <a:ext cx="7620120" cy="56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ws new classes to be built from existing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s code reuse without the need to rew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es not entail modification to the code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quires access to only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eader fi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f the classes on which the new classes are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a new class inherits from a base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ne of the public members of the base class can be public in the new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y combination of th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s of the same name as in the base may now have different mea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313000" y="752400"/>
            <a:ext cx="5205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 SYNTA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19040" y="1819440"/>
            <a:ext cx="89917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derived : [public] base { /* details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448240" y="2962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448240" y="227664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534000" y="2789280"/>
            <a:ext cx="22161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229280" y="4029120"/>
            <a:ext cx="1143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229280" y="2276640"/>
            <a:ext cx="0" cy="17524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619600" y="3855960"/>
            <a:ext cx="32148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public, public member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are automat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blic members i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2247840" y="570564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247840" y="2276640"/>
            <a:ext cx="0" cy="34290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790800" y="5532480"/>
            <a:ext cx="30798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me of new, derived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3162240" y="1514520"/>
            <a:ext cx="13716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62240" y="151452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705200" y="1341360"/>
            <a:ext cx="14428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ngle co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303720" y="752400"/>
            <a:ext cx="3224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NHERIT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04840" y="1743120"/>
            <a:ext cx="7620120" cy="259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quires a lot of design-oriented thought in order to be applied cor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when it makes sense --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 the derived class really an offspring of the base class, and does it make sense that the derived class should inherit capabilities from the base cla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reaking a problem into classes has the effect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ition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398600" y="752400"/>
            <a:ext cx="70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BASE CLASS CON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D DESTRU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028880" y="2124000"/>
            <a:ext cx="769608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was shown in MULTINH.CP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47600" y="301788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</a:t>
            </a:r>
            <a:fld id="{42CF9BF8-A3BD-4FD2-9046-D1C53AD551F9}" type="datetime11"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9:27:30 AM</a:t>
            </a:fld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rived() : base1(), base2() { 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37228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7048440" y="3419640"/>
            <a:ext cx="0" cy="1295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933800" y="4923000"/>
            <a:ext cx="27385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314880" y="3419640"/>
            <a:ext cx="0" cy="243828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886040" y="5989680"/>
            <a:ext cx="29019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2705040" y="752400"/>
            <a:ext cx="441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DERIVED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333440" y="1819440"/>
            <a:ext cx="723888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way C++ call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nsures that all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d class con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n depend on the base class being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on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defined for each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automatically, and all destructors are called for an object, which includes the destructors for its base classes, their base classes, and so 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re is 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equivalent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tru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re called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p dow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the opposite to the order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ca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76240" y="2276640"/>
            <a:ext cx="7924680" cy="27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the only way to create new classes from existing classes in C++;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sometimes said to represent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5486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method of building classes tha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a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bjects of other classes; composition is sometimes said to represent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as-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relatio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 type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ehic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  <a:tabLst>
                <a:tab algn="l" pos="4572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has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g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four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928880" y="752400"/>
            <a:ext cx="5972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AN  OBJECT-ORIENTED 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04840" y="2200320"/>
            <a:ext cx="7696080" cy="23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take advantage of the ease of programming provided by an OO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provide an easy learning path for C program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veloped to fix defects in C which allow certain kinds of bugs to slip through the compiler -- bugs which may go unnoticed until run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070000" y="4460760"/>
            <a:ext cx="5842080" cy="16650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++ allows the programmer to focus o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cep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rather than forcing him to concentrate on the code which implements those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478280" y="3649680"/>
            <a:ext cx="13231800" cy="13143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527200" y="752400"/>
            <a:ext cx="47768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WITH COM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028880" y="2200320"/>
            <a:ext cx="7772400" cy="42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osi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volves creating instances of a class inside anoth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f the objects have constructors which require arguments, those objects must be explicitly initializ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rder of calls in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not necessarily the order in which they appear; instead, the base class constructor is called first, and so on, and the member object constructors are called in the order in which the objects are declared in th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initializer li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nly determines the arguments given to the constructors, not the order of constructor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1052640" y="752400"/>
            <a:ext cx="77248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 INSIDE C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23960" y="1743120"/>
            <a:ext cx="8381880" cy="20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side a class behaves differently from 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outside a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C++ must always be initialized when it is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C++ class declaration is not a definition (it does not reserve storage), so a const  in a class must be given an initial value when the constructor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171520" y="4029120"/>
            <a:ext cx="5562720" cy="20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X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i;  </a:t>
            </a:r>
            <a:fld id="{61B9F94B-B070-4596-9B86-30445BB278B4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 i = 1; not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(int I) : i(I)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019240" y="3952800"/>
            <a:ext cx="5867280" cy="22096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4457880" y="63914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457880" y="5629320"/>
            <a:ext cx="0" cy="762120"/>
          </a:xfrm>
          <a:prstGeom prst="line">
            <a:avLst/>
          </a:prstGeom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543640" y="6218280"/>
            <a:ext cx="194004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 is initialized to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760400" y="752400"/>
            <a:ext cx="63104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nst AND enum, Continu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1160" y="1285920"/>
            <a:ext cx="76201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caus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llocates storage, it can not be used in a constant expression, so the following is inval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 sz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  </a:t>
            </a:r>
            <a:fld id="{73B7189A-3919-4DC6-BD32-8DD9FFD35CA3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not a constant 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BA66086F-79DF-4FC3-BA86-41DC8D1802A0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solution to this problem is to employ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tagged enumer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value as a con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int_arra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um { sz = 100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rray[sz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fld id="{EA2D32B6-C2CC-409A-A7B3-49A8E5F55D6E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866960" y="2048040"/>
            <a:ext cx="6858000" cy="1981080"/>
          </a:xfrm>
          <a:prstGeom prst="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0640" y="4791240"/>
            <a:ext cx="3657600" cy="198108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841400" y="752400"/>
            <a:ext cx="6148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ARLY AND LATE BIN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181160" y="1666800"/>
            <a:ext cx="7543800" cy="333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 linkage between a function call and a function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-time, static, or early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those linkages resolved during the run of the compiler and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un-time, dynamic, or late, bind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linkages are resolved through a table of addresses of possible routines to call; this table is provided, and a particular table entry is selected during execution of th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he particular C++ feature which suppor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22031280" y="20917080"/>
            <a:ext cx="8406000" cy="664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475000" y="752400"/>
            <a:ext cx="4881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VIRTUAL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33440" y="1590840"/>
            <a:ext cx="7315200" cy="37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return_type function_name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in C++ implements late bi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keyword causes a hidden pointer, calle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o be cre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PT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assigned by the constructor to the address of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TA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which in turn contains the addresses of all virtual 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 call consists of code that indexes into the VTABLE through the V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60320" y="752400"/>
            <a:ext cx="831060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REATING EXTENSIBLE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52560" y="1743120"/>
            <a:ext cx="79246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goal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s to identify the essential concepts and activities performed by the system (or program) and to translate them into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umans organize the world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 programmer to organize a program as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ypes in C++ provide models for the real-worl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gram becomes an image, or model, of the problem being sol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 program has a single essential purpose or job it is trying to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738440" y="752400"/>
            <a:ext cx="63532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028880" y="2048040"/>
            <a:ext cx="7924680" cy="426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generally represent the primary concepts of an object-oriented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base classes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representing concepts rather than specific things, so it does not make sense to create objects of a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++ allows an abstract base class to contain pu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 by assigning the function body to z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rtual void f()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 objects can be created of such a class; objects may be created only from classes derived from thi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derived classes contain definitions for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ure virtual 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915080" y="19024560"/>
            <a:ext cx="25128360" cy="12609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043000" y="752400"/>
            <a:ext cx="5743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EXTENDING A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952560" y="1819440"/>
            <a:ext cx="769608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rive a new class from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sired extensions are embodied by redefin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rtual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new data structures and functions as necessary, including new constructor functions which invoke the base constructors as needed in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structor definition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derived class is now taking o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ttribu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ehavi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which distinguish it from the abstract base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code at the point where new objects are created so the constructor for the new derived class is ca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new objects are created and properly initial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0500640" y="17436960"/>
            <a:ext cx="2236680" cy="14235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800360" y="752400"/>
            <a:ext cx="6229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OPERATOR OVERLO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257480" y="1362240"/>
            <a:ext cx="7391520" cy="520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C++, the meaning of almost any operator may be changed when that operator is used with variables of particular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meaning of an operator changes only when an operator is used with the indicated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permits the operators to be used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+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above example, the function "+" is applied to the target object "a" with the argument "b", just like set() below is applied to the target object "A" with the argument "B"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.set(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syntax used for declaring the operator function for the "+" operato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438120"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turn_type  operator+  (type ar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955880" y="752400"/>
            <a:ext cx="59180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E ANSI C++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57480" y="1819440"/>
            <a:ext cx="723888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SI committe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J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was created to produce an international standard for C++, which is still in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st of today's C++  compilers deviate from the standard in one way or another, so portability of code between different C++ compilers on different platforms tends to suffer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is becoming a standard in its own right due to the fact that it is free and it runs on many platforms, including 386 PCs and workstations, but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NU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does not conform to the C++ standard exa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670040" y="752400"/>
            <a:ext cx="648972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HREE WAYS OF USING C+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790640" y="1971720"/>
            <a:ext cx="6172200" cy="326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or C with exten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any C programs may be compiled with a C++ compiler with little or no modifications (mainly in the area of function prototyp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C with enhanced data abstration capabiliti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more sophisticated data structures may be manipulated with greater ease in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ke an OOP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-- all the benefits of contempora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may be achieved through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174680" y="752400"/>
            <a:ext cx="74804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S = STRUCTS + FUN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247840" y="1285920"/>
            <a:ext cx="5486400" cy="83268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yp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is a C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with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52560" y="1971720"/>
            <a:ext cx="792468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/* The C struc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{     </a:t>
            </a:r>
            <a:fld id="{0725BC54-D5E1-4488-92C2-3333F6E14EF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The C++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real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imag_par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();         </a:t>
            </a:r>
            <a:fld id="{ECAB7678-70B9-46DD-8CB6-28CC03A31D22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 constructor (discussed la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add (complex, complex);  </a:t>
            </a:r>
            <a:fld id="{B65B95BD-BCBD-40B0-BD9F-04109C591E3A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es o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048040"/>
            <a:ext cx="5867280" cy="16002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0280" y="4029120"/>
            <a:ext cx="8153280" cy="2514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735200" y="752400"/>
            <a:ext cx="6361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typedef</a:t>
            </a: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  FOR C++  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IS AUTOMAT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714680" y="2276640"/>
            <a:ext cx="685800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 complex a, b;  /* C form is supported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mplex x, y;  </a:t>
            </a:r>
            <a:fld id="{2D1BA0FF-615E-4FF2-943F-DDF711826755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"struct" is not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real_part = 2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.imag_part = 3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real_part = 4.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imag_part = 4.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.add(x, y);   </a:t>
            </a:r>
            <a:fld id="{411300BC-870C-44ED-8902-47F96896C32D}" type="datetime"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7/28/26</a:t>
            </a:fld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y = x +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86080" y="2200320"/>
            <a:ext cx="7086600" cy="3657600"/>
          </a:xfrm>
          <a:prstGeom prst="roundRect">
            <a:avLst/>
          </a:prstGeom>
          <a:noFill/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38320" y="752400"/>
            <a:ext cx="7553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SCOPE RESOLUTION OPER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fld id="{6309A11E-2DA4-44AE-8B33-CC6E9F5018BE}" type="datetime11"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09:27:30 AM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71680" y="1895400"/>
            <a:ext cx="868680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sociated with a struct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clar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a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 prototyp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in the str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en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mber func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 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 their associated struct is specified using 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cope resolution operat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(</a:t>
            </a:r>
            <a:fld id="{D41BC867-E5B4-45BB-9013-2ED86CD26895}" type="datetime11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struct_name</a:t>
            </a:r>
            <a:fld id="{85799A88-41B8-488E-B570-390AC5747E24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mber_function_name() 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s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oid complex</a:t>
            </a:r>
            <a:fld id="{88204D1D-52A3-499B-8A66-7E7E3E4DFA00}" type="datetime11"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09:27:30 AM</a:t>
            </a:fld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(complex left, complex r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{ /* body */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