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4EBCAB-CC69-437F-8379-DC2206D47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SE COURSE NOTES OW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udent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structor Name: 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one:  774-54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il Address:  rconn@ada2.crd.g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9040" y="371520"/>
            <a:ext cx="8991720" cy="6553080"/>
          </a:xfrm>
          <a:prstGeom prst="roundRect">
            <a:avLst/>
          </a:prstGeom>
          <a:noFill/>
          <a:ln w="12600">
            <a:solidFill>
              <a:srgbClr val="fc012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1033560" y="260280"/>
            <a:ext cx="3544920" cy="34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662960" y="6661080"/>
            <a:ext cx="149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 </a:t>
            </a:r>
            <a:fld id="{B64EADE1-56D5-43BA-984C-424EFD34A2F0}" type="slidenum"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419120" y="928800"/>
            <a:ext cx="6994440" cy="1938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OBJECT-ORIENTED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5600" spc="-1" strike="noStrike">
                <a:solidFill>
                  <a:srgbClr val="081d58"/>
                </a:solidFill>
                <a:latin typeface="Arial"/>
                <a:ea typeface="Arial"/>
              </a:rPr>
              <a:t>PROGRAMMING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238720" y="6141960"/>
            <a:ext cx="38512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Prepared by Richard Co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17840" y="3094200"/>
            <a:ext cx="4667400" cy="332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urse Number 20-260-635-9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versity of Cincinn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partment of Electrical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uter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incinnati, O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43040" y="6141960"/>
            <a:ext cx="142092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rch, 19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795760" y="600120"/>
            <a:ext cx="45435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ROADMA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19000" y="1189080"/>
            <a:ext cx="24591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419200" y="2408400"/>
            <a:ext cx="25495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aphical No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5010120" y="3780000"/>
            <a:ext cx="1541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119640" y="4923000"/>
            <a:ext cx="287172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ming Langu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a and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11336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71880" y="235260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357192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58080" y="4791240"/>
            <a:ext cx="2971800" cy="9907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52560" y="6010200"/>
            <a:ext cx="6629400" cy="762120"/>
          </a:xfrm>
          <a:prstGeom prst="round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9920" y="6218280"/>
            <a:ext cx="1560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43480" y="15908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772080" y="15908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43680" y="2886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53160" y="28861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77040" y="41054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81960" y="41054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719440" y="600120"/>
            <a:ext cx="46958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47640" y="1438200"/>
            <a:ext cx="8534520" cy="59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u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itl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ftware and Software Engineer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sign Methodologies and Graphical Not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,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Object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, 2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Based Programming Languages - A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9, 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Programming Languages - C+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, 3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11430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Review and Evalu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562040" y="5781600"/>
            <a:ext cx="64008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 Classes are in Baldwin 862, 9:20-12:00AM, Satur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2617920" y="600120"/>
            <a:ext cx="49006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PROJECT SCHED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104840" y="1514520"/>
            <a:ext cx="7848720" cy="330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hase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am Selection, Analysis Begi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Analysis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r 1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Design Complet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Prototype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1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totype Analysis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2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vised Design Complete (1 week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y 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6400800"/>
                <a:tab algn="l" pos="6629400"/>
                <a:tab algn="l" pos="7315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inal Code with Demonstration (2 week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 1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562200" y="6205680"/>
            <a:ext cx="467352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heckmarks (</a:t>
            </a: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 indicate grad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562200" y="5913360"/>
            <a:ext cx="50925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 are due for each graded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2641680" y="600120"/>
            <a:ext cx="485316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COURSE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990720" y="1857240"/>
            <a:ext cx="7772400" cy="398304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urs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ver -- Roadmap, Schedule, Materials List, Gr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sson Plan and Student Work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 Templates: SDP, SRS, SDD, SUM, IV&amp;V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Ada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orkbook on C++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ctur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xt:  Grady Booch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sign with Applicat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Benjamin/Cummings Publishing Company, 1991, ISBN 0-8053-0091-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28880" y="4867200"/>
            <a:ext cx="769608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936960" y="600120"/>
            <a:ext cx="226224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  <a:ea typeface="Arial"/>
              </a:rPr>
              <a:t>GR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3960" y="1133640"/>
            <a:ext cx="838188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ass Atten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5% Required to Pass Course (negotiab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omework Assign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 Midterm Exam, 40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5 Subprojects and IV&amp;V Re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our Grades (NA=0, SA=5, A=10, E=15 point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cceptable (NA) - Subproject Does Not Meet Minimum Quality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sceptable to Being Made Acceptable (SA) - Subproject Could be Impro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ptable (A) - Subproject is Satisfa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ceptional (E) - Subproject is Above and Beyond the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te Homework Assignments and Subprojects: -10% per 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324480" y="866880"/>
            <a:ext cx="2819520" cy="2946600"/>
          </a:xfrm>
          <a:prstGeom prst="rect">
            <a:avLst/>
          </a:prstGeom>
          <a:noFill/>
          <a:ln w="50760">
            <a:solidFill>
              <a:srgbClr val="fc012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oint Tot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=90-100, B=80-89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idterm Exa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bprojec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V&amp;V Repor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2057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otal Possib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