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242040" y="0"/>
            <a:ext cx="2889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my Steele93101 Xhibition ‘93 6/93 </a:t>
            </a:r>
            <a:fld id="{AB9C96C5-0CDD-404F-BAFA-CAE7DF173549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906720" y="749160"/>
            <a:ext cx="4476600" cy="53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king Advantage Of The Win32 API Today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mmy Steele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ical Evangelist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760320" y="143676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 S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33240" y="4629240"/>
            <a:ext cx="1657440" cy="95256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129120" y="3562200"/>
            <a:ext cx="1676520" cy="201924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63f3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723000" y="990720"/>
            <a:ext cx="1774800" cy="459108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52960" y="3314880"/>
            <a:ext cx="1676520" cy="226692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Is Also A Produ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1080" y="1390680"/>
            <a:ext cx="6981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is distributed in toolk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ensed to tool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D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s automatically licensed to ship DLLs and VxD with their 32-bit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and VxD run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768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S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6480" y="38196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79520" y="2152800"/>
            <a:ext cx="1295280" cy="5335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79520" y="3333600"/>
            <a:ext cx="2057400" cy="53352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63f3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79520" y="5657760"/>
            <a:ext cx="4022640" cy="62856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79520" y="4514760"/>
            <a:ext cx="2914560" cy="5526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41240" y="1352520"/>
            <a:ext cx="9716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57320" y="2209680"/>
            <a:ext cx="4667400" cy="0"/>
          </a:xfrm>
          <a:prstGeom prst="line">
            <a:avLst/>
          </a:prstGeom>
          <a:ln w="12600">
            <a:solidFill>
              <a:srgbClr val="7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67040" y="2324160"/>
            <a:ext cx="4781520" cy="799920"/>
          </a:xfrm>
          <a:prstGeom prst="line">
            <a:avLst/>
          </a:prstGeom>
          <a:ln w="12600">
            <a:solidFill>
              <a:srgbClr val="ff500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776680" y="3143160"/>
            <a:ext cx="3962160" cy="247680"/>
          </a:xfrm>
          <a:prstGeom prst="line">
            <a:avLst/>
          </a:prstGeom>
          <a:ln w="12600">
            <a:solidFill>
              <a:srgbClr val="ff500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28880" y="2514600"/>
            <a:ext cx="4838760" cy="118116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548240" y="4819680"/>
            <a:ext cx="2190600" cy="1066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0280" y="3733920"/>
            <a:ext cx="3257640" cy="87624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6680" y="3619440"/>
            <a:ext cx="3962160" cy="9540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57320" y="2647800"/>
            <a:ext cx="4800600" cy="21528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6680" y="3790800"/>
            <a:ext cx="3962160" cy="1028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48160" y="4800600"/>
            <a:ext cx="31050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756480" y="1236600"/>
            <a:ext cx="1758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607080" y="203832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607080" y="293364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607080" y="350532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07080" y="457200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09640" y="1523880"/>
            <a:ext cx="75247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-compatible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EXE format (P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-compatible with Windows NT on x86, MIP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40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DE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90720" y="228600"/>
            <a:ext cx="7162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Conceptua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647640"/>
            <a:ext cx="716292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240" y="5219640"/>
            <a:ext cx="77151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32 calls are thunked to 16-bit Windows 3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s run unmodified on Windows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98760" y="1790640"/>
            <a:ext cx="2057400" cy="1276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2811600"/>
            <a:ext cx="18097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 D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21080" y="3467160"/>
            <a:ext cx="2038320" cy="142884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c7e73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27200" y="4259160"/>
            <a:ext cx="2028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727360" y="3747960"/>
            <a:ext cx="1606680" cy="399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21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in32s Vx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73480" y="1790640"/>
            <a:ext cx="2076480" cy="131436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3480" y="3276720"/>
            <a:ext cx="2057400" cy="16192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49720" y="3782880"/>
            <a:ext cx="20764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98760" y="3143160"/>
            <a:ext cx="2057400" cy="22860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H="1">
            <a:off x="3962520" y="1219320"/>
            <a:ext cx="152388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43080" y="6019920"/>
            <a:ext cx="8458200" cy="51444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9960" y="5334120"/>
            <a:ext cx="1733400" cy="49536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bd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05080" y="5353200"/>
            <a:ext cx="1771560" cy="49536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10200" y="5334120"/>
            <a:ext cx="15811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91040" y="4191120"/>
            <a:ext cx="129528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010280" y="4191120"/>
            <a:ext cx="198108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ys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162920" y="3200400"/>
            <a:ext cx="16765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86200" y="4191120"/>
            <a:ext cx="9907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09960" y="4191120"/>
            <a:ext cx="7621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71600" y="3200400"/>
            <a:ext cx="236232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16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419720" y="3200400"/>
            <a:ext cx="205740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" y="1905120"/>
            <a:ext cx="251460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Krn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0040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412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15200" y="1905120"/>
            <a:ext cx="167652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029200"/>
            <a:ext cx="7658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2666880"/>
            <a:ext cx="1600560" cy="2591280"/>
          </a:xfrm>
          <a:custGeom>
            <a:avLst/>
            <a:gdLst/>
            <a:ahLst/>
            <a:rect l="0" t="0" r="r" b="b"/>
            <a:pathLst>
              <a:path fill="none" w="4446" h="7198">
                <a:moveTo>
                  <a:pt x="0" y="0"/>
                </a:moveTo>
                <a:lnTo>
                  <a:pt x="0" y="0"/>
                </a:lnTo>
                <a:cubicBezTo>
                  <a:pt x="0" y="1264"/>
                  <a:pt x="205" y="2505"/>
                  <a:pt x="596" y="3599"/>
                </a:cubicBezTo>
                <a:cubicBezTo>
                  <a:pt x="986" y="4693"/>
                  <a:pt x="1547" y="5602"/>
                  <a:pt x="2223" y="6234"/>
                </a:cubicBezTo>
                <a:cubicBezTo>
                  <a:pt x="2899" y="6865"/>
                  <a:pt x="3666" y="7198"/>
                  <a:pt x="4446" y="7198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38098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25909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666880" y="2590920"/>
            <a:ext cx="13716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276720" y="2590920"/>
            <a:ext cx="27432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809880" y="2590920"/>
            <a:ext cx="41148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324480" y="1219320"/>
            <a:ext cx="5040" cy="60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1371600"/>
            <a:ext cx="106704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35053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01000" y="38098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809880"/>
            <a:ext cx="60984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809880"/>
            <a:ext cx="106668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3733920"/>
            <a:ext cx="2133360" cy="304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48006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895480"/>
            <a:ext cx="77724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2280" y="48531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2280" y="111924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2280" y="355752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61960" y="810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tailed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838080"/>
            <a:ext cx="2971800" cy="533520"/>
          </a:xfrm>
          <a:prstGeom prst="rect">
            <a:avLst/>
          </a:prstGeom>
          <a:gradFill rotWithShape="0">
            <a:gsLst>
              <a:gs pos="0">
                <a:srgbClr val="8043ae"/>
              </a:gs>
              <a:gs pos="100000">
                <a:srgbClr val="b760f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73200" y="1066680"/>
            <a:ext cx="779796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tools required to build Win32s-based apps. for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build process or unique link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WinDbg on Windows NT will remotely debug Win32s-based apps. on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Win32s-bas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DK on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vendors will provide 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        Windows 3.1-hoste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Tool Vendo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43440" y="1371600"/>
            <a:ext cx="426708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id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 Li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 inno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others listed in 32-bit tools catalog for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23920" y="1371600"/>
            <a:ext cx="304812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rl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ant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L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14440" y="228600"/>
            <a:ext cx="81154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ipping Win32s-Based Applications For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09640" y="1905120"/>
            <a:ext cx="752472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xD and DLLs approximately 500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vides Win32s setup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 Win32s already inst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Win32 app. and Win32s on Windows 3.1 (running in enhanced m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stall Win32 app. on Windows NT  (not Win32s compon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version checks Win32s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 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(Running on Windows 3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14400" y="1987560"/>
            <a:ext cx="73152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Windows 3.1 running in enhanced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cooperative message-based non-preemptive multit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 input mod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57320" y="1257480"/>
            <a:ext cx="70293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target Win32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rchitecture an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programing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 and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09480" y="352440"/>
            <a:ext cx="3828960" cy="74304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message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724280" y="723960"/>
            <a:ext cx="990720" cy="0"/>
          </a:xfrm>
          <a:prstGeom prst="line">
            <a:avLst/>
          </a:prstGeom>
          <a:ln w="1522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62680" y="266760"/>
            <a:ext cx="1771560" cy="9144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000" y="1182600"/>
            <a:ext cx="1351440" cy="1435320"/>
          </a:xfrm>
          <a:custGeom>
            <a:avLst/>
            <a:gdLst/>
            <a:ahLst/>
            <a:rect l="0" t="0" r="r" b="b"/>
            <a:pathLst>
              <a:path w="3754" h="3987">
                <a:moveTo>
                  <a:pt x="3754" y="0"/>
                </a:moveTo>
                <a:lnTo>
                  <a:pt x="3513" y="0"/>
                </a:lnTo>
                <a:lnTo>
                  <a:pt x="3333" y="69"/>
                </a:lnTo>
                <a:lnTo>
                  <a:pt x="3187" y="125"/>
                </a:lnTo>
                <a:lnTo>
                  <a:pt x="3009" y="207"/>
                </a:lnTo>
                <a:lnTo>
                  <a:pt x="2810" y="307"/>
                </a:lnTo>
                <a:lnTo>
                  <a:pt x="2675" y="399"/>
                </a:lnTo>
                <a:lnTo>
                  <a:pt x="2475" y="522"/>
                </a:lnTo>
                <a:lnTo>
                  <a:pt x="2282" y="648"/>
                </a:lnTo>
                <a:lnTo>
                  <a:pt x="2108" y="773"/>
                </a:lnTo>
                <a:lnTo>
                  <a:pt x="1895" y="936"/>
                </a:lnTo>
                <a:lnTo>
                  <a:pt x="1755" y="1062"/>
                </a:lnTo>
                <a:lnTo>
                  <a:pt x="1580" y="1238"/>
                </a:lnTo>
                <a:lnTo>
                  <a:pt x="1388" y="1432"/>
                </a:lnTo>
                <a:lnTo>
                  <a:pt x="1213" y="1627"/>
                </a:lnTo>
                <a:lnTo>
                  <a:pt x="1090" y="1775"/>
                </a:lnTo>
                <a:lnTo>
                  <a:pt x="967" y="1989"/>
                </a:lnTo>
                <a:lnTo>
                  <a:pt x="877" y="2167"/>
                </a:lnTo>
                <a:lnTo>
                  <a:pt x="808" y="2356"/>
                </a:lnTo>
                <a:lnTo>
                  <a:pt x="756" y="2554"/>
                </a:lnTo>
                <a:lnTo>
                  <a:pt x="748" y="2671"/>
                </a:lnTo>
                <a:lnTo>
                  <a:pt x="756" y="2811"/>
                </a:lnTo>
                <a:lnTo>
                  <a:pt x="774" y="2918"/>
                </a:lnTo>
                <a:lnTo>
                  <a:pt x="791" y="3023"/>
                </a:lnTo>
                <a:lnTo>
                  <a:pt x="825" y="3106"/>
                </a:lnTo>
                <a:lnTo>
                  <a:pt x="0" y="3106"/>
                </a:lnTo>
                <a:lnTo>
                  <a:pt x="209" y="3211"/>
                </a:lnTo>
                <a:lnTo>
                  <a:pt x="450" y="3343"/>
                </a:lnTo>
                <a:lnTo>
                  <a:pt x="688" y="3481"/>
                </a:lnTo>
                <a:lnTo>
                  <a:pt x="911" y="3644"/>
                </a:lnTo>
                <a:lnTo>
                  <a:pt x="1041" y="3767"/>
                </a:lnTo>
                <a:lnTo>
                  <a:pt x="1170" y="3987"/>
                </a:lnTo>
                <a:lnTo>
                  <a:pt x="1354" y="3985"/>
                </a:lnTo>
                <a:lnTo>
                  <a:pt x="1474" y="3807"/>
                </a:lnTo>
                <a:lnTo>
                  <a:pt x="1612" y="3621"/>
                </a:lnTo>
                <a:lnTo>
                  <a:pt x="1809" y="3433"/>
                </a:lnTo>
                <a:lnTo>
                  <a:pt x="2002" y="3282"/>
                </a:lnTo>
                <a:lnTo>
                  <a:pt x="2125" y="3194"/>
                </a:lnTo>
                <a:lnTo>
                  <a:pt x="2325" y="3100"/>
                </a:lnTo>
                <a:lnTo>
                  <a:pt x="1623" y="3100"/>
                </a:lnTo>
                <a:lnTo>
                  <a:pt x="1580" y="2918"/>
                </a:lnTo>
                <a:lnTo>
                  <a:pt x="1563" y="2755"/>
                </a:lnTo>
                <a:lnTo>
                  <a:pt x="1580" y="2567"/>
                </a:lnTo>
                <a:lnTo>
                  <a:pt x="1615" y="2381"/>
                </a:lnTo>
                <a:lnTo>
                  <a:pt x="1686" y="2167"/>
                </a:lnTo>
                <a:lnTo>
                  <a:pt x="1755" y="1976"/>
                </a:lnTo>
                <a:lnTo>
                  <a:pt x="1887" y="1708"/>
                </a:lnTo>
                <a:lnTo>
                  <a:pt x="2019" y="1489"/>
                </a:lnTo>
                <a:lnTo>
                  <a:pt x="2159" y="1294"/>
                </a:lnTo>
                <a:lnTo>
                  <a:pt x="2334" y="1087"/>
                </a:lnTo>
                <a:lnTo>
                  <a:pt x="2417" y="989"/>
                </a:lnTo>
                <a:lnTo>
                  <a:pt x="2492" y="899"/>
                </a:lnTo>
                <a:lnTo>
                  <a:pt x="2569" y="821"/>
                </a:lnTo>
                <a:lnTo>
                  <a:pt x="2649" y="748"/>
                </a:lnTo>
                <a:lnTo>
                  <a:pt x="2790" y="610"/>
                </a:lnTo>
                <a:lnTo>
                  <a:pt x="2908" y="518"/>
                </a:lnTo>
                <a:lnTo>
                  <a:pt x="3000" y="447"/>
                </a:lnTo>
                <a:lnTo>
                  <a:pt x="3095" y="376"/>
                </a:lnTo>
                <a:lnTo>
                  <a:pt x="3195" y="309"/>
                </a:lnTo>
                <a:lnTo>
                  <a:pt x="3281" y="253"/>
                </a:lnTo>
                <a:lnTo>
                  <a:pt x="3384" y="186"/>
                </a:lnTo>
                <a:lnTo>
                  <a:pt x="3510" y="119"/>
                </a:lnTo>
                <a:lnTo>
                  <a:pt x="3631" y="54"/>
                </a:lnTo>
                <a:lnTo>
                  <a:pt x="3754" y="0"/>
                </a:lnTo>
                <a:close/>
              </a:path>
            </a:pathLst>
          </a:custGeom>
          <a:solidFill>
            <a:srgbClr val="00968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1184400"/>
            <a:ext cx="1279800" cy="1433880"/>
          </a:xfrm>
          <a:custGeom>
            <a:avLst/>
            <a:gdLst/>
            <a:ahLst/>
            <a:rect l="0" t="0" r="r" b="b"/>
            <a:pathLst>
              <a:path w="3555" h="3983">
                <a:moveTo>
                  <a:pt x="3555" y="0"/>
                </a:moveTo>
                <a:lnTo>
                  <a:pt x="3354" y="52"/>
                </a:lnTo>
                <a:lnTo>
                  <a:pt x="3194" y="100"/>
                </a:lnTo>
                <a:lnTo>
                  <a:pt x="3059" y="150"/>
                </a:lnTo>
                <a:lnTo>
                  <a:pt x="2904" y="213"/>
                </a:lnTo>
                <a:lnTo>
                  <a:pt x="2692" y="303"/>
                </a:lnTo>
                <a:lnTo>
                  <a:pt x="2500" y="401"/>
                </a:lnTo>
                <a:lnTo>
                  <a:pt x="2302" y="524"/>
                </a:lnTo>
                <a:lnTo>
                  <a:pt x="2113" y="650"/>
                </a:lnTo>
                <a:lnTo>
                  <a:pt x="1941" y="775"/>
                </a:lnTo>
                <a:lnTo>
                  <a:pt x="1734" y="938"/>
                </a:lnTo>
                <a:lnTo>
                  <a:pt x="1596" y="1064"/>
                </a:lnTo>
                <a:lnTo>
                  <a:pt x="1424" y="1240"/>
                </a:lnTo>
                <a:lnTo>
                  <a:pt x="1235" y="1434"/>
                </a:lnTo>
                <a:lnTo>
                  <a:pt x="1063" y="1629"/>
                </a:lnTo>
                <a:lnTo>
                  <a:pt x="943" y="1777"/>
                </a:lnTo>
                <a:lnTo>
                  <a:pt x="822" y="1990"/>
                </a:lnTo>
                <a:lnTo>
                  <a:pt x="736" y="2168"/>
                </a:lnTo>
                <a:lnTo>
                  <a:pt x="667" y="2356"/>
                </a:lnTo>
                <a:lnTo>
                  <a:pt x="616" y="2555"/>
                </a:lnTo>
                <a:lnTo>
                  <a:pt x="607" y="2672"/>
                </a:lnTo>
                <a:lnTo>
                  <a:pt x="616" y="2812"/>
                </a:lnTo>
                <a:lnTo>
                  <a:pt x="633" y="2919"/>
                </a:lnTo>
                <a:lnTo>
                  <a:pt x="650" y="3024"/>
                </a:lnTo>
                <a:lnTo>
                  <a:pt x="685" y="3108"/>
                </a:lnTo>
                <a:lnTo>
                  <a:pt x="0" y="3108"/>
                </a:lnTo>
                <a:lnTo>
                  <a:pt x="214" y="3221"/>
                </a:lnTo>
                <a:lnTo>
                  <a:pt x="412" y="3333"/>
                </a:lnTo>
                <a:lnTo>
                  <a:pt x="667" y="3484"/>
                </a:lnTo>
                <a:lnTo>
                  <a:pt x="874" y="3647"/>
                </a:lnTo>
                <a:lnTo>
                  <a:pt x="1046" y="3795"/>
                </a:lnTo>
                <a:lnTo>
                  <a:pt x="1200" y="3983"/>
                </a:lnTo>
                <a:lnTo>
                  <a:pt x="1321" y="3808"/>
                </a:lnTo>
                <a:lnTo>
                  <a:pt x="1461" y="3624"/>
                </a:lnTo>
                <a:lnTo>
                  <a:pt x="1648" y="3434"/>
                </a:lnTo>
                <a:lnTo>
                  <a:pt x="1838" y="3283"/>
                </a:lnTo>
                <a:lnTo>
                  <a:pt x="1958" y="3195"/>
                </a:lnTo>
                <a:lnTo>
                  <a:pt x="2156" y="3101"/>
                </a:lnTo>
                <a:lnTo>
                  <a:pt x="1467" y="3101"/>
                </a:lnTo>
                <a:lnTo>
                  <a:pt x="1424" y="2919"/>
                </a:lnTo>
                <a:lnTo>
                  <a:pt x="1407" y="2755"/>
                </a:lnTo>
                <a:lnTo>
                  <a:pt x="1424" y="2567"/>
                </a:lnTo>
                <a:lnTo>
                  <a:pt x="1458" y="2381"/>
                </a:lnTo>
                <a:lnTo>
                  <a:pt x="1527" y="2168"/>
                </a:lnTo>
                <a:lnTo>
                  <a:pt x="1596" y="1978"/>
                </a:lnTo>
                <a:lnTo>
                  <a:pt x="1725" y="1708"/>
                </a:lnTo>
                <a:lnTo>
                  <a:pt x="1855" y="1491"/>
                </a:lnTo>
                <a:lnTo>
                  <a:pt x="1993" y="1296"/>
                </a:lnTo>
                <a:lnTo>
                  <a:pt x="2165" y="1090"/>
                </a:lnTo>
                <a:lnTo>
                  <a:pt x="2245" y="990"/>
                </a:lnTo>
                <a:lnTo>
                  <a:pt x="2319" y="900"/>
                </a:lnTo>
                <a:lnTo>
                  <a:pt x="2394" y="823"/>
                </a:lnTo>
                <a:lnTo>
                  <a:pt x="2474" y="750"/>
                </a:lnTo>
                <a:lnTo>
                  <a:pt x="2612" y="612"/>
                </a:lnTo>
                <a:lnTo>
                  <a:pt x="2726" y="520"/>
                </a:lnTo>
                <a:lnTo>
                  <a:pt x="2818" y="449"/>
                </a:lnTo>
                <a:lnTo>
                  <a:pt x="2913" y="378"/>
                </a:lnTo>
                <a:lnTo>
                  <a:pt x="3010" y="311"/>
                </a:lnTo>
                <a:lnTo>
                  <a:pt x="3093" y="255"/>
                </a:lnTo>
                <a:lnTo>
                  <a:pt x="3194" y="188"/>
                </a:lnTo>
                <a:lnTo>
                  <a:pt x="3317" y="121"/>
                </a:lnTo>
                <a:lnTo>
                  <a:pt x="3431" y="56"/>
                </a:lnTo>
                <a:lnTo>
                  <a:pt x="3555" y="0"/>
                </a:lnTo>
                <a:close/>
              </a:path>
            </a:pathLst>
          </a:custGeom>
          <a:solidFill>
            <a:srgbClr val="14d3c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262320" y="1163520"/>
            <a:ext cx="1362240" cy="1435680"/>
            <a:chOff x="3262320" y="1163520"/>
            <a:chExt cx="1362240" cy="1435680"/>
          </a:xfrm>
        </p:grpSpPr>
        <p:sp>
          <p:nvSpPr>
            <p:cNvPr id="155" name=""/>
            <p:cNvSpPr/>
            <p:nvPr/>
          </p:nvSpPr>
          <p:spPr>
            <a:xfrm>
              <a:off x="3262320" y="1163520"/>
              <a:ext cx="1351440" cy="1435320"/>
            </a:xfrm>
            <a:custGeom>
              <a:avLst/>
              <a:gdLst/>
              <a:ahLst/>
              <a:rect l="0" t="0" r="r" b="b"/>
              <a:pathLst>
                <a:path w="3754" h="3987">
                  <a:moveTo>
                    <a:pt x="0" y="0"/>
                  </a:moveTo>
                  <a:lnTo>
                    <a:pt x="240" y="0"/>
                  </a:lnTo>
                  <a:lnTo>
                    <a:pt x="421" y="69"/>
                  </a:lnTo>
                  <a:lnTo>
                    <a:pt x="567" y="125"/>
                  </a:lnTo>
                  <a:lnTo>
                    <a:pt x="745" y="207"/>
                  </a:lnTo>
                  <a:lnTo>
                    <a:pt x="944" y="307"/>
                  </a:lnTo>
                  <a:lnTo>
                    <a:pt x="1078" y="399"/>
                  </a:lnTo>
                  <a:lnTo>
                    <a:pt x="1279" y="522"/>
                  </a:lnTo>
                  <a:lnTo>
                    <a:pt x="1471" y="648"/>
                  </a:lnTo>
                  <a:lnTo>
                    <a:pt x="1646" y="773"/>
                  </a:lnTo>
                  <a:lnTo>
                    <a:pt x="1858" y="936"/>
                  </a:lnTo>
                  <a:lnTo>
                    <a:pt x="1999" y="1062"/>
                  </a:lnTo>
                  <a:lnTo>
                    <a:pt x="2174" y="1238"/>
                  </a:lnTo>
                  <a:lnTo>
                    <a:pt x="2366" y="1432"/>
                  </a:lnTo>
                  <a:lnTo>
                    <a:pt x="2541" y="1627"/>
                  </a:lnTo>
                  <a:lnTo>
                    <a:pt x="2664" y="1775"/>
                  </a:lnTo>
                  <a:lnTo>
                    <a:pt x="2787" y="1989"/>
                  </a:lnTo>
                  <a:lnTo>
                    <a:pt x="2877" y="2167"/>
                  </a:lnTo>
                  <a:lnTo>
                    <a:pt x="2946" y="2356"/>
                  </a:lnTo>
                  <a:lnTo>
                    <a:pt x="2997" y="2554"/>
                  </a:lnTo>
                  <a:lnTo>
                    <a:pt x="3006" y="2671"/>
                  </a:lnTo>
                  <a:lnTo>
                    <a:pt x="2997" y="2811"/>
                  </a:lnTo>
                  <a:lnTo>
                    <a:pt x="2980" y="2918"/>
                  </a:lnTo>
                  <a:lnTo>
                    <a:pt x="2963" y="3023"/>
                  </a:lnTo>
                  <a:lnTo>
                    <a:pt x="2929" y="3106"/>
                  </a:lnTo>
                  <a:lnTo>
                    <a:pt x="3754" y="3106"/>
                  </a:lnTo>
                  <a:lnTo>
                    <a:pt x="3545" y="3211"/>
                  </a:lnTo>
                  <a:lnTo>
                    <a:pt x="3304" y="3343"/>
                  </a:lnTo>
                  <a:lnTo>
                    <a:pt x="3066" y="3481"/>
                  </a:lnTo>
                  <a:lnTo>
                    <a:pt x="2843" y="3644"/>
                  </a:lnTo>
                  <a:lnTo>
                    <a:pt x="2713" y="3767"/>
                  </a:lnTo>
                  <a:lnTo>
                    <a:pt x="2584" y="3987"/>
                  </a:lnTo>
                  <a:lnTo>
                    <a:pt x="2400" y="3985"/>
                  </a:lnTo>
                  <a:lnTo>
                    <a:pt x="2280" y="3807"/>
                  </a:lnTo>
                  <a:lnTo>
                    <a:pt x="2142" y="3621"/>
                  </a:lnTo>
                  <a:lnTo>
                    <a:pt x="1944" y="3433"/>
                  </a:lnTo>
                  <a:lnTo>
                    <a:pt x="1752" y="3282"/>
                  </a:lnTo>
                  <a:lnTo>
                    <a:pt x="1629" y="3194"/>
                  </a:lnTo>
                  <a:lnTo>
                    <a:pt x="1428" y="3100"/>
                  </a:lnTo>
                  <a:lnTo>
                    <a:pt x="2131" y="3100"/>
                  </a:lnTo>
                  <a:lnTo>
                    <a:pt x="2174" y="2918"/>
                  </a:lnTo>
                  <a:lnTo>
                    <a:pt x="2191" y="2755"/>
                  </a:lnTo>
                  <a:lnTo>
                    <a:pt x="2174" y="2567"/>
                  </a:lnTo>
                  <a:lnTo>
                    <a:pt x="2139" y="2381"/>
                  </a:lnTo>
                  <a:lnTo>
                    <a:pt x="2067" y="2167"/>
                  </a:lnTo>
                  <a:lnTo>
                    <a:pt x="1999" y="1976"/>
                  </a:lnTo>
                  <a:lnTo>
                    <a:pt x="1867" y="1708"/>
                  </a:lnTo>
                  <a:lnTo>
                    <a:pt x="1735" y="1489"/>
                  </a:lnTo>
                  <a:lnTo>
                    <a:pt x="1594" y="1294"/>
                  </a:lnTo>
                  <a:lnTo>
                    <a:pt x="1420" y="1087"/>
                  </a:lnTo>
                  <a:lnTo>
                    <a:pt x="1336" y="989"/>
                  </a:lnTo>
                  <a:lnTo>
                    <a:pt x="1262" y="899"/>
                  </a:lnTo>
                  <a:lnTo>
                    <a:pt x="1184" y="821"/>
                  </a:lnTo>
                  <a:lnTo>
                    <a:pt x="1104" y="748"/>
                  </a:lnTo>
                  <a:lnTo>
                    <a:pt x="964" y="610"/>
                  </a:lnTo>
                  <a:lnTo>
                    <a:pt x="845" y="518"/>
                  </a:lnTo>
                  <a:lnTo>
                    <a:pt x="753" y="447"/>
                  </a:lnTo>
                  <a:lnTo>
                    <a:pt x="659" y="376"/>
                  </a:lnTo>
                  <a:lnTo>
                    <a:pt x="559" y="309"/>
                  </a:lnTo>
                  <a:lnTo>
                    <a:pt x="473" y="253"/>
                  </a:lnTo>
                  <a:lnTo>
                    <a:pt x="369" y="186"/>
                  </a:lnTo>
                  <a:lnTo>
                    <a:pt x="243" y="119"/>
                  </a:lnTo>
                  <a:lnTo>
                    <a:pt x="12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44760" y="1165320"/>
              <a:ext cx="1279800" cy="1433880"/>
            </a:xfrm>
            <a:custGeom>
              <a:avLst/>
              <a:gdLst/>
              <a:ahLst/>
              <a:rect l="0" t="0" r="r" b="b"/>
              <a:pathLst>
                <a:path w="3555" h="3983">
                  <a:moveTo>
                    <a:pt x="0" y="0"/>
                  </a:moveTo>
                  <a:lnTo>
                    <a:pt x="200" y="52"/>
                  </a:lnTo>
                  <a:lnTo>
                    <a:pt x="361" y="100"/>
                  </a:lnTo>
                  <a:lnTo>
                    <a:pt x="495" y="150"/>
                  </a:lnTo>
                  <a:lnTo>
                    <a:pt x="650" y="213"/>
                  </a:lnTo>
                  <a:lnTo>
                    <a:pt x="862" y="303"/>
                  </a:lnTo>
                  <a:lnTo>
                    <a:pt x="1054" y="401"/>
                  </a:lnTo>
                  <a:lnTo>
                    <a:pt x="1252" y="524"/>
                  </a:lnTo>
                  <a:lnTo>
                    <a:pt x="1441" y="650"/>
                  </a:lnTo>
                  <a:lnTo>
                    <a:pt x="1613" y="775"/>
                  </a:lnTo>
                  <a:lnTo>
                    <a:pt x="1821" y="938"/>
                  </a:lnTo>
                  <a:lnTo>
                    <a:pt x="1958" y="1064"/>
                  </a:lnTo>
                  <a:lnTo>
                    <a:pt x="2130" y="1240"/>
                  </a:lnTo>
                  <a:lnTo>
                    <a:pt x="2319" y="1434"/>
                  </a:lnTo>
                  <a:lnTo>
                    <a:pt x="2491" y="1629"/>
                  </a:lnTo>
                  <a:lnTo>
                    <a:pt x="2612" y="1777"/>
                  </a:lnTo>
                  <a:lnTo>
                    <a:pt x="2732" y="1990"/>
                  </a:lnTo>
                  <a:lnTo>
                    <a:pt x="2818" y="2168"/>
                  </a:lnTo>
                  <a:lnTo>
                    <a:pt x="2887" y="2356"/>
                  </a:lnTo>
                  <a:lnTo>
                    <a:pt x="2938" y="2555"/>
                  </a:lnTo>
                  <a:lnTo>
                    <a:pt x="2947" y="2672"/>
                  </a:lnTo>
                  <a:lnTo>
                    <a:pt x="2938" y="2812"/>
                  </a:lnTo>
                  <a:lnTo>
                    <a:pt x="2921" y="2919"/>
                  </a:lnTo>
                  <a:lnTo>
                    <a:pt x="2904" y="3024"/>
                  </a:lnTo>
                  <a:lnTo>
                    <a:pt x="2870" y="3108"/>
                  </a:lnTo>
                  <a:lnTo>
                    <a:pt x="3555" y="3108"/>
                  </a:lnTo>
                  <a:lnTo>
                    <a:pt x="3340" y="3221"/>
                  </a:lnTo>
                  <a:lnTo>
                    <a:pt x="3142" y="3333"/>
                  </a:lnTo>
                  <a:lnTo>
                    <a:pt x="2887" y="3484"/>
                  </a:lnTo>
                  <a:lnTo>
                    <a:pt x="2681" y="3647"/>
                  </a:lnTo>
                  <a:lnTo>
                    <a:pt x="2509" y="3795"/>
                  </a:lnTo>
                  <a:lnTo>
                    <a:pt x="2354" y="3983"/>
                  </a:lnTo>
                  <a:lnTo>
                    <a:pt x="2233" y="3808"/>
                  </a:lnTo>
                  <a:lnTo>
                    <a:pt x="2093" y="3624"/>
                  </a:lnTo>
                  <a:lnTo>
                    <a:pt x="1907" y="3434"/>
                  </a:lnTo>
                  <a:lnTo>
                    <a:pt x="1716" y="3283"/>
                  </a:lnTo>
                  <a:lnTo>
                    <a:pt x="1596" y="3195"/>
                  </a:lnTo>
                  <a:lnTo>
                    <a:pt x="1398" y="3101"/>
                  </a:lnTo>
                  <a:lnTo>
                    <a:pt x="2087" y="3101"/>
                  </a:lnTo>
                  <a:lnTo>
                    <a:pt x="2130" y="2919"/>
                  </a:lnTo>
                  <a:lnTo>
                    <a:pt x="2147" y="2755"/>
                  </a:lnTo>
                  <a:lnTo>
                    <a:pt x="2130" y="2567"/>
                  </a:lnTo>
                  <a:lnTo>
                    <a:pt x="2096" y="2381"/>
                  </a:lnTo>
                  <a:lnTo>
                    <a:pt x="2027" y="2168"/>
                  </a:lnTo>
                  <a:lnTo>
                    <a:pt x="1958" y="1978"/>
                  </a:lnTo>
                  <a:lnTo>
                    <a:pt x="1829" y="1708"/>
                  </a:lnTo>
                  <a:lnTo>
                    <a:pt x="1699" y="1491"/>
                  </a:lnTo>
                  <a:lnTo>
                    <a:pt x="1562" y="1296"/>
                  </a:lnTo>
                  <a:lnTo>
                    <a:pt x="1390" y="1090"/>
                  </a:lnTo>
                  <a:lnTo>
                    <a:pt x="1309" y="990"/>
                  </a:lnTo>
                  <a:lnTo>
                    <a:pt x="1235" y="900"/>
                  </a:lnTo>
                  <a:lnTo>
                    <a:pt x="1160" y="823"/>
                  </a:lnTo>
                  <a:lnTo>
                    <a:pt x="1080" y="750"/>
                  </a:lnTo>
                  <a:lnTo>
                    <a:pt x="943" y="612"/>
                  </a:lnTo>
                  <a:lnTo>
                    <a:pt x="828" y="520"/>
                  </a:lnTo>
                  <a:lnTo>
                    <a:pt x="736" y="449"/>
                  </a:lnTo>
                  <a:lnTo>
                    <a:pt x="642" y="378"/>
                  </a:lnTo>
                  <a:lnTo>
                    <a:pt x="544" y="311"/>
                  </a:lnTo>
                  <a:lnTo>
                    <a:pt x="461" y="255"/>
                  </a:lnTo>
                  <a:lnTo>
                    <a:pt x="361" y="188"/>
                  </a:lnTo>
                  <a:lnTo>
                    <a:pt x="237" y="121"/>
                  </a:lnTo>
                  <a:lnTo>
                    <a:pt x="123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4d3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 txBox="1"/>
          <p:nvPr/>
        </p:nvSpPr>
        <p:spPr>
          <a:xfrm>
            <a:off x="2914560" y="2695680"/>
            <a:ext cx="2057400" cy="12002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path path="rect">
              <a:fillToRect l="0" t="0" r="100000" b="100000"/>
            </a:path>
          </a:gradFill>
          <a:ln w="7632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90720" y="4000680"/>
            <a:ext cx="954360" cy="1539720"/>
            <a:chOff x="990720" y="4000680"/>
            <a:chExt cx="954360" cy="1539720"/>
          </a:xfrm>
        </p:grpSpPr>
        <p:sp>
          <p:nvSpPr>
            <p:cNvPr id="159" name=""/>
            <p:cNvSpPr/>
            <p:nvPr/>
          </p:nvSpPr>
          <p:spPr>
            <a:xfrm>
              <a:off x="990720" y="400068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2651" y="1802"/>
                  </a:moveTo>
                  <a:lnTo>
                    <a:pt x="2645" y="1520"/>
                  </a:lnTo>
                  <a:lnTo>
                    <a:pt x="2635" y="1423"/>
                  </a:lnTo>
                  <a:lnTo>
                    <a:pt x="2615" y="1305"/>
                  </a:lnTo>
                  <a:lnTo>
                    <a:pt x="2599" y="1214"/>
                  </a:lnTo>
                  <a:lnTo>
                    <a:pt x="2575" y="1122"/>
                  </a:lnTo>
                  <a:lnTo>
                    <a:pt x="2548" y="1033"/>
                  </a:lnTo>
                  <a:lnTo>
                    <a:pt x="2518" y="953"/>
                  </a:lnTo>
                  <a:lnTo>
                    <a:pt x="2480" y="856"/>
                  </a:lnTo>
                  <a:lnTo>
                    <a:pt x="2429" y="739"/>
                  </a:lnTo>
                  <a:lnTo>
                    <a:pt x="2379" y="649"/>
                  </a:lnTo>
                  <a:lnTo>
                    <a:pt x="2324" y="560"/>
                  </a:lnTo>
                  <a:lnTo>
                    <a:pt x="2278" y="499"/>
                  </a:lnTo>
                  <a:lnTo>
                    <a:pt x="2225" y="429"/>
                  </a:lnTo>
                  <a:lnTo>
                    <a:pt x="2183" y="378"/>
                  </a:lnTo>
                  <a:lnTo>
                    <a:pt x="2124" y="326"/>
                  </a:lnTo>
                  <a:lnTo>
                    <a:pt x="2070" y="278"/>
                  </a:lnTo>
                  <a:lnTo>
                    <a:pt x="2011" y="229"/>
                  </a:lnTo>
                  <a:lnTo>
                    <a:pt x="1963" y="193"/>
                  </a:lnTo>
                  <a:lnTo>
                    <a:pt x="1896" y="147"/>
                  </a:lnTo>
                  <a:lnTo>
                    <a:pt x="1821" y="102"/>
                  </a:lnTo>
                  <a:lnTo>
                    <a:pt x="1748" y="72"/>
                  </a:lnTo>
                  <a:lnTo>
                    <a:pt x="1684" y="48"/>
                  </a:lnTo>
                  <a:lnTo>
                    <a:pt x="1611" y="26"/>
                  </a:lnTo>
                  <a:lnTo>
                    <a:pt x="1534" y="8"/>
                  </a:lnTo>
                  <a:lnTo>
                    <a:pt x="1435" y="0"/>
                  </a:lnTo>
                  <a:lnTo>
                    <a:pt x="1349" y="6"/>
                  </a:lnTo>
                  <a:lnTo>
                    <a:pt x="1277" y="18"/>
                  </a:lnTo>
                  <a:lnTo>
                    <a:pt x="1204" y="32"/>
                  </a:lnTo>
                  <a:lnTo>
                    <a:pt x="1125" y="58"/>
                  </a:lnTo>
                  <a:lnTo>
                    <a:pt x="1057" y="82"/>
                  </a:lnTo>
                  <a:lnTo>
                    <a:pt x="996" y="114"/>
                  </a:lnTo>
                  <a:lnTo>
                    <a:pt x="917" y="163"/>
                  </a:lnTo>
                  <a:lnTo>
                    <a:pt x="829" y="223"/>
                  </a:lnTo>
                  <a:lnTo>
                    <a:pt x="758" y="286"/>
                  </a:lnTo>
                  <a:lnTo>
                    <a:pt x="699" y="338"/>
                  </a:lnTo>
                  <a:lnTo>
                    <a:pt x="639" y="405"/>
                  </a:lnTo>
                  <a:lnTo>
                    <a:pt x="592" y="469"/>
                  </a:lnTo>
                  <a:lnTo>
                    <a:pt x="538" y="544"/>
                  </a:lnTo>
                  <a:lnTo>
                    <a:pt x="475" y="638"/>
                  </a:lnTo>
                  <a:lnTo>
                    <a:pt x="427" y="729"/>
                  </a:lnTo>
                  <a:lnTo>
                    <a:pt x="374" y="832"/>
                  </a:lnTo>
                  <a:lnTo>
                    <a:pt x="297" y="1044"/>
                  </a:lnTo>
                  <a:lnTo>
                    <a:pt x="249" y="1218"/>
                  </a:lnTo>
                  <a:lnTo>
                    <a:pt x="213" y="1405"/>
                  </a:lnTo>
                  <a:lnTo>
                    <a:pt x="196" y="1557"/>
                  </a:lnTo>
                  <a:lnTo>
                    <a:pt x="184" y="1750"/>
                  </a:lnTo>
                  <a:lnTo>
                    <a:pt x="0" y="1750"/>
                  </a:lnTo>
                  <a:lnTo>
                    <a:pt x="421" y="2395"/>
                  </a:lnTo>
                  <a:lnTo>
                    <a:pt x="847" y="1742"/>
                  </a:lnTo>
                  <a:lnTo>
                    <a:pt x="657" y="1744"/>
                  </a:lnTo>
                  <a:lnTo>
                    <a:pt x="669" y="1550"/>
                  </a:lnTo>
                  <a:lnTo>
                    <a:pt x="693" y="1405"/>
                  </a:lnTo>
                  <a:lnTo>
                    <a:pt x="728" y="1254"/>
                  </a:lnTo>
                  <a:lnTo>
                    <a:pt x="806" y="1044"/>
                  </a:lnTo>
                  <a:lnTo>
                    <a:pt x="857" y="945"/>
                  </a:lnTo>
                  <a:lnTo>
                    <a:pt x="913" y="850"/>
                  </a:lnTo>
                  <a:lnTo>
                    <a:pt x="976" y="771"/>
                  </a:lnTo>
                  <a:lnTo>
                    <a:pt x="1037" y="693"/>
                  </a:lnTo>
                  <a:lnTo>
                    <a:pt x="1097" y="630"/>
                  </a:lnTo>
                  <a:lnTo>
                    <a:pt x="1162" y="578"/>
                  </a:lnTo>
                  <a:lnTo>
                    <a:pt x="1239" y="520"/>
                  </a:lnTo>
                  <a:lnTo>
                    <a:pt x="1330" y="469"/>
                  </a:lnTo>
                  <a:lnTo>
                    <a:pt x="1413" y="433"/>
                  </a:lnTo>
                  <a:lnTo>
                    <a:pt x="1488" y="415"/>
                  </a:lnTo>
                  <a:lnTo>
                    <a:pt x="1583" y="397"/>
                  </a:lnTo>
                  <a:lnTo>
                    <a:pt x="1674" y="395"/>
                  </a:lnTo>
                  <a:lnTo>
                    <a:pt x="1738" y="399"/>
                  </a:lnTo>
                  <a:lnTo>
                    <a:pt x="1805" y="409"/>
                  </a:lnTo>
                  <a:lnTo>
                    <a:pt x="1886" y="433"/>
                  </a:lnTo>
                  <a:lnTo>
                    <a:pt x="1963" y="463"/>
                  </a:lnTo>
                  <a:lnTo>
                    <a:pt x="2037" y="499"/>
                  </a:lnTo>
                  <a:lnTo>
                    <a:pt x="2108" y="548"/>
                  </a:lnTo>
                  <a:lnTo>
                    <a:pt x="2213" y="634"/>
                  </a:lnTo>
                  <a:lnTo>
                    <a:pt x="2282" y="707"/>
                  </a:lnTo>
                  <a:lnTo>
                    <a:pt x="2356" y="802"/>
                  </a:lnTo>
                  <a:lnTo>
                    <a:pt x="2419" y="898"/>
                  </a:lnTo>
                  <a:lnTo>
                    <a:pt x="2459" y="971"/>
                  </a:lnTo>
                  <a:lnTo>
                    <a:pt x="2500" y="1058"/>
                  </a:lnTo>
                  <a:lnTo>
                    <a:pt x="2532" y="1138"/>
                  </a:lnTo>
                  <a:lnTo>
                    <a:pt x="2556" y="1206"/>
                  </a:lnTo>
                  <a:lnTo>
                    <a:pt x="2577" y="1272"/>
                  </a:lnTo>
                  <a:lnTo>
                    <a:pt x="2595" y="1357"/>
                  </a:lnTo>
                  <a:lnTo>
                    <a:pt x="2607" y="1434"/>
                  </a:lnTo>
                  <a:lnTo>
                    <a:pt x="2625" y="1538"/>
                  </a:lnTo>
                  <a:lnTo>
                    <a:pt x="2651" y="180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90720" y="467820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0" y="592"/>
                  </a:moveTo>
                  <a:lnTo>
                    <a:pt x="5" y="874"/>
                  </a:lnTo>
                  <a:lnTo>
                    <a:pt x="15" y="971"/>
                  </a:lnTo>
                  <a:lnTo>
                    <a:pt x="35" y="1090"/>
                  </a:lnTo>
                  <a:lnTo>
                    <a:pt x="51" y="1181"/>
                  </a:lnTo>
                  <a:lnTo>
                    <a:pt x="75" y="1272"/>
                  </a:lnTo>
                  <a:lnTo>
                    <a:pt x="102" y="1361"/>
                  </a:lnTo>
                  <a:lnTo>
                    <a:pt x="132" y="1442"/>
                  </a:lnTo>
                  <a:lnTo>
                    <a:pt x="170" y="1538"/>
                  </a:lnTo>
                  <a:lnTo>
                    <a:pt x="221" y="1655"/>
                  </a:lnTo>
                  <a:lnTo>
                    <a:pt x="271" y="1746"/>
                  </a:lnTo>
                  <a:lnTo>
                    <a:pt x="326" y="1835"/>
                  </a:lnTo>
                  <a:lnTo>
                    <a:pt x="372" y="1895"/>
                  </a:lnTo>
                  <a:lnTo>
                    <a:pt x="425" y="1966"/>
                  </a:lnTo>
                  <a:lnTo>
                    <a:pt x="467" y="2016"/>
                  </a:lnTo>
                  <a:lnTo>
                    <a:pt x="526" y="2068"/>
                  </a:lnTo>
                  <a:lnTo>
                    <a:pt x="580" y="2117"/>
                  </a:lnTo>
                  <a:lnTo>
                    <a:pt x="639" y="2165"/>
                  </a:lnTo>
                  <a:lnTo>
                    <a:pt x="687" y="2201"/>
                  </a:lnTo>
                  <a:lnTo>
                    <a:pt x="754" y="2248"/>
                  </a:lnTo>
                  <a:lnTo>
                    <a:pt x="829" y="2292"/>
                  </a:lnTo>
                  <a:lnTo>
                    <a:pt x="903" y="2322"/>
                  </a:lnTo>
                  <a:lnTo>
                    <a:pt x="966" y="2347"/>
                  </a:lnTo>
                  <a:lnTo>
                    <a:pt x="1039" y="2369"/>
                  </a:lnTo>
                  <a:lnTo>
                    <a:pt x="1117" y="2387"/>
                  </a:lnTo>
                  <a:lnTo>
                    <a:pt x="1216" y="2395"/>
                  </a:lnTo>
                  <a:lnTo>
                    <a:pt x="1301" y="2389"/>
                  </a:lnTo>
                  <a:lnTo>
                    <a:pt x="1373" y="2377"/>
                  </a:lnTo>
                  <a:lnTo>
                    <a:pt x="1446" y="2363"/>
                  </a:lnTo>
                  <a:lnTo>
                    <a:pt x="1526" y="2337"/>
                  </a:lnTo>
                  <a:lnTo>
                    <a:pt x="1593" y="2312"/>
                  </a:lnTo>
                  <a:lnTo>
                    <a:pt x="1654" y="2280"/>
                  </a:lnTo>
                  <a:lnTo>
                    <a:pt x="1734" y="2232"/>
                  </a:lnTo>
                  <a:lnTo>
                    <a:pt x="1821" y="2171"/>
                  </a:lnTo>
                  <a:lnTo>
                    <a:pt x="1892" y="2109"/>
                  </a:lnTo>
                  <a:lnTo>
                    <a:pt x="1952" y="2056"/>
                  </a:lnTo>
                  <a:lnTo>
                    <a:pt x="2011" y="1990"/>
                  </a:lnTo>
                  <a:lnTo>
                    <a:pt x="2058" y="1925"/>
                  </a:lnTo>
                  <a:lnTo>
                    <a:pt x="2112" y="1851"/>
                  </a:lnTo>
                  <a:lnTo>
                    <a:pt x="2175" y="1756"/>
                  </a:lnTo>
                  <a:lnTo>
                    <a:pt x="2223" y="1665"/>
                  </a:lnTo>
                  <a:lnTo>
                    <a:pt x="2276" y="1563"/>
                  </a:lnTo>
                  <a:lnTo>
                    <a:pt x="2354" y="1351"/>
                  </a:lnTo>
                  <a:lnTo>
                    <a:pt x="2401" y="1177"/>
                  </a:lnTo>
                  <a:lnTo>
                    <a:pt x="2437" y="989"/>
                  </a:lnTo>
                  <a:lnTo>
                    <a:pt x="2455" y="838"/>
                  </a:lnTo>
                  <a:lnTo>
                    <a:pt x="2467" y="644"/>
                  </a:lnTo>
                  <a:lnTo>
                    <a:pt x="2651" y="644"/>
                  </a:lnTo>
                  <a:lnTo>
                    <a:pt x="2229" y="0"/>
                  </a:lnTo>
                  <a:lnTo>
                    <a:pt x="1803" y="653"/>
                  </a:lnTo>
                  <a:lnTo>
                    <a:pt x="1993" y="651"/>
                  </a:lnTo>
                  <a:lnTo>
                    <a:pt x="1981" y="844"/>
                  </a:lnTo>
                  <a:lnTo>
                    <a:pt x="1957" y="989"/>
                  </a:lnTo>
                  <a:lnTo>
                    <a:pt x="1922" y="1140"/>
                  </a:lnTo>
                  <a:lnTo>
                    <a:pt x="1845" y="1351"/>
                  </a:lnTo>
                  <a:lnTo>
                    <a:pt x="1793" y="1450"/>
                  </a:lnTo>
                  <a:lnTo>
                    <a:pt x="1738" y="1544"/>
                  </a:lnTo>
                  <a:lnTo>
                    <a:pt x="1674" y="1623"/>
                  </a:lnTo>
                  <a:lnTo>
                    <a:pt x="1613" y="1702"/>
                  </a:lnTo>
                  <a:lnTo>
                    <a:pt x="1553" y="1764"/>
                  </a:lnTo>
                  <a:lnTo>
                    <a:pt x="1488" y="1817"/>
                  </a:lnTo>
                  <a:lnTo>
                    <a:pt x="1411" y="1875"/>
                  </a:lnTo>
                  <a:lnTo>
                    <a:pt x="1321" y="1925"/>
                  </a:lnTo>
                  <a:lnTo>
                    <a:pt x="1237" y="1962"/>
                  </a:lnTo>
                  <a:lnTo>
                    <a:pt x="1162" y="1980"/>
                  </a:lnTo>
                  <a:lnTo>
                    <a:pt x="1067" y="1998"/>
                  </a:lnTo>
                  <a:lnTo>
                    <a:pt x="976" y="2000"/>
                  </a:lnTo>
                  <a:lnTo>
                    <a:pt x="913" y="1996"/>
                  </a:lnTo>
                  <a:lnTo>
                    <a:pt x="845" y="1986"/>
                  </a:lnTo>
                  <a:lnTo>
                    <a:pt x="764" y="1962"/>
                  </a:lnTo>
                  <a:lnTo>
                    <a:pt x="687" y="1931"/>
                  </a:lnTo>
                  <a:lnTo>
                    <a:pt x="614" y="1895"/>
                  </a:lnTo>
                  <a:lnTo>
                    <a:pt x="542" y="1847"/>
                  </a:lnTo>
                  <a:lnTo>
                    <a:pt x="437" y="1760"/>
                  </a:lnTo>
                  <a:lnTo>
                    <a:pt x="368" y="1688"/>
                  </a:lnTo>
                  <a:lnTo>
                    <a:pt x="295" y="1593"/>
                  </a:lnTo>
                  <a:lnTo>
                    <a:pt x="231" y="1496"/>
                  </a:lnTo>
                  <a:lnTo>
                    <a:pt x="192" y="1423"/>
                  </a:lnTo>
                  <a:lnTo>
                    <a:pt x="150" y="1337"/>
                  </a:lnTo>
                  <a:lnTo>
                    <a:pt x="118" y="1256"/>
                  </a:lnTo>
                  <a:lnTo>
                    <a:pt x="95" y="1189"/>
                  </a:lnTo>
                  <a:lnTo>
                    <a:pt x="73" y="1122"/>
                  </a:lnTo>
                  <a:lnTo>
                    <a:pt x="55" y="1038"/>
                  </a:lnTo>
                  <a:lnTo>
                    <a:pt x="43" y="961"/>
                  </a:lnTo>
                  <a:lnTo>
                    <a:pt x="25" y="856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467160" y="4000680"/>
            <a:ext cx="954360" cy="1539720"/>
            <a:chOff x="3467160" y="4000680"/>
            <a:chExt cx="954360" cy="1539720"/>
          </a:xfrm>
        </p:grpSpPr>
        <p:sp>
          <p:nvSpPr>
            <p:cNvPr id="162" name=""/>
            <p:cNvSpPr/>
            <p:nvPr/>
          </p:nvSpPr>
          <p:spPr>
            <a:xfrm>
              <a:off x="3467160" y="400068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2651" y="1802"/>
                  </a:moveTo>
                  <a:lnTo>
                    <a:pt x="2645" y="1520"/>
                  </a:lnTo>
                  <a:lnTo>
                    <a:pt x="2635" y="1423"/>
                  </a:lnTo>
                  <a:lnTo>
                    <a:pt x="2615" y="1305"/>
                  </a:lnTo>
                  <a:lnTo>
                    <a:pt x="2599" y="1214"/>
                  </a:lnTo>
                  <a:lnTo>
                    <a:pt x="2575" y="1122"/>
                  </a:lnTo>
                  <a:lnTo>
                    <a:pt x="2548" y="1033"/>
                  </a:lnTo>
                  <a:lnTo>
                    <a:pt x="2518" y="953"/>
                  </a:lnTo>
                  <a:lnTo>
                    <a:pt x="2480" y="856"/>
                  </a:lnTo>
                  <a:lnTo>
                    <a:pt x="2429" y="739"/>
                  </a:lnTo>
                  <a:lnTo>
                    <a:pt x="2379" y="649"/>
                  </a:lnTo>
                  <a:lnTo>
                    <a:pt x="2324" y="560"/>
                  </a:lnTo>
                  <a:lnTo>
                    <a:pt x="2278" y="499"/>
                  </a:lnTo>
                  <a:lnTo>
                    <a:pt x="2225" y="429"/>
                  </a:lnTo>
                  <a:lnTo>
                    <a:pt x="2183" y="378"/>
                  </a:lnTo>
                  <a:lnTo>
                    <a:pt x="2124" y="326"/>
                  </a:lnTo>
                  <a:lnTo>
                    <a:pt x="2070" y="278"/>
                  </a:lnTo>
                  <a:lnTo>
                    <a:pt x="2011" y="229"/>
                  </a:lnTo>
                  <a:lnTo>
                    <a:pt x="1963" y="193"/>
                  </a:lnTo>
                  <a:lnTo>
                    <a:pt x="1896" y="147"/>
                  </a:lnTo>
                  <a:lnTo>
                    <a:pt x="1821" y="102"/>
                  </a:lnTo>
                  <a:lnTo>
                    <a:pt x="1748" y="72"/>
                  </a:lnTo>
                  <a:lnTo>
                    <a:pt x="1684" y="48"/>
                  </a:lnTo>
                  <a:lnTo>
                    <a:pt x="1611" y="26"/>
                  </a:lnTo>
                  <a:lnTo>
                    <a:pt x="1534" y="8"/>
                  </a:lnTo>
                  <a:lnTo>
                    <a:pt x="1435" y="0"/>
                  </a:lnTo>
                  <a:lnTo>
                    <a:pt x="1349" y="6"/>
                  </a:lnTo>
                  <a:lnTo>
                    <a:pt x="1277" y="18"/>
                  </a:lnTo>
                  <a:lnTo>
                    <a:pt x="1204" y="32"/>
                  </a:lnTo>
                  <a:lnTo>
                    <a:pt x="1125" y="58"/>
                  </a:lnTo>
                  <a:lnTo>
                    <a:pt x="1057" y="82"/>
                  </a:lnTo>
                  <a:lnTo>
                    <a:pt x="996" y="114"/>
                  </a:lnTo>
                  <a:lnTo>
                    <a:pt x="917" y="163"/>
                  </a:lnTo>
                  <a:lnTo>
                    <a:pt x="829" y="223"/>
                  </a:lnTo>
                  <a:lnTo>
                    <a:pt x="758" y="286"/>
                  </a:lnTo>
                  <a:lnTo>
                    <a:pt x="699" y="338"/>
                  </a:lnTo>
                  <a:lnTo>
                    <a:pt x="639" y="405"/>
                  </a:lnTo>
                  <a:lnTo>
                    <a:pt x="592" y="469"/>
                  </a:lnTo>
                  <a:lnTo>
                    <a:pt x="538" y="544"/>
                  </a:lnTo>
                  <a:lnTo>
                    <a:pt x="475" y="638"/>
                  </a:lnTo>
                  <a:lnTo>
                    <a:pt x="427" y="729"/>
                  </a:lnTo>
                  <a:lnTo>
                    <a:pt x="374" y="832"/>
                  </a:lnTo>
                  <a:lnTo>
                    <a:pt x="297" y="1044"/>
                  </a:lnTo>
                  <a:lnTo>
                    <a:pt x="249" y="1218"/>
                  </a:lnTo>
                  <a:lnTo>
                    <a:pt x="213" y="1405"/>
                  </a:lnTo>
                  <a:lnTo>
                    <a:pt x="196" y="1557"/>
                  </a:lnTo>
                  <a:lnTo>
                    <a:pt x="184" y="1750"/>
                  </a:lnTo>
                  <a:lnTo>
                    <a:pt x="0" y="1750"/>
                  </a:lnTo>
                  <a:lnTo>
                    <a:pt x="421" y="2395"/>
                  </a:lnTo>
                  <a:lnTo>
                    <a:pt x="847" y="1742"/>
                  </a:lnTo>
                  <a:lnTo>
                    <a:pt x="657" y="1744"/>
                  </a:lnTo>
                  <a:lnTo>
                    <a:pt x="669" y="1550"/>
                  </a:lnTo>
                  <a:lnTo>
                    <a:pt x="693" y="1405"/>
                  </a:lnTo>
                  <a:lnTo>
                    <a:pt x="728" y="1254"/>
                  </a:lnTo>
                  <a:lnTo>
                    <a:pt x="806" y="1044"/>
                  </a:lnTo>
                  <a:lnTo>
                    <a:pt x="857" y="945"/>
                  </a:lnTo>
                  <a:lnTo>
                    <a:pt x="913" y="850"/>
                  </a:lnTo>
                  <a:lnTo>
                    <a:pt x="976" y="771"/>
                  </a:lnTo>
                  <a:lnTo>
                    <a:pt x="1037" y="693"/>
                  </a:lnTo>
                  <a:lnTo>
                    <a:pt x="1097" y="630"/>
                  </a:lnTo>
                  <a:lnTo>
                    <a:pt x="1162" y="578"/>
                  </a:lnTo>
                  <a:lnTo>
                    <a:pt x="1239" y="520"/>
                  </a:lnTo>
                  <a:lnTo>
                    <a:pt x="1330" y="469"/>
                  </a:lnTo>
                  <a:lnTo>
                    <a:pt x="1413" y="433"/>
                  </a:lnTo>
                  <a:lnTo>
                    <a:pt x="1488" y="415"/>
                  </a:lnTo>
                  <a:lnTo>
                    <a:pt x="1583" y="397"/>
                  </a:lnTo>
                  <a:lnTo>
                    <a:pt x="1674" y="395"/>
                  </a:lnTo>
                  <a:lnTo>
                    <a:pt x="1738" y="399"/>
                  </a:lnTo>
                  <a:lnTo>
                    <a:pt x="1805" y="409"/>
                  </a:lnTo>
                  <a:lnTo>
                    <a:pt x="1886" y="433"/>
                  </a:lnTo>
                  <a:lnTo>
                    <a:pt x="1963" y="463"/>
                  </a:lnTo>
                  <a:lnTo>
                    <a:pt x="2037" y="499"/>
                  </a:lnTo>
                  <a:lnTo>
                    <a:pt x="2108" y="548"/>
                  </a:lnTo>
                  <a:lnTo>
                    <a:pt x="2213" y="634"/>
                  </a:lnTo>
                  <a:lnTo>
                    <a:pt x="2282" y="707"/>
                  </a:lnTo>
                  <a:lnTo>
                    <a:pt x="2356" y="802"/>
                  </a:lnTo>
                  <a:lnTo>
                    <a:pt x="2419" y="898"/>
                  </a:lnTo>
                  <a:lnTo>
                    <a:pt x="2459" y="971"/>
                  </a:lnTo>
                  <a:lnTo>
                    <a:pt x="2500" y="1058"/>
                  </a:lnTo>
                  <a:lnTo>
                    <a:pt x="2532" y="1138"/>
                  </a:lnTo>
                  <a:lnTo>
                    <a:pt x="2556" y="1206"/>
                  </a:lnTo>
                  <a:lnTo>
                    <a:pt x="2577" y="1272"/>
                  </a:lnTo>
                  <a:lnTo>
                    <a:pt x="2595" y="1357"/>
                  </a:lnTo>
                  <a:lnTo>
                    <a:pt x="2607" y="1434"/>
                  </a:lnTo>
                  <a:lnTo>
                    <a:pt x="2625" y="1538"/>
                  </a:lnTo>
                  <a:lnTo>
                    <a:pt x="2651" y="180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467820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0" y="592"/>
                  </a:moveTo>
                  <a:lnTo>
                    <a:pt x="5" y="874"/>
                  </a:lnTo>
                  <a:lnTo>
                    <a:pt x="15" y="971"/>
                  </a:lnTo>
                  <a:lnTo>
                    <a:pt x="35" y="1090"/>
                  </a:lnTo>
                  <a:lnTo>
                    <a:pt x="51" y="1181"/>
                  </a:lnTo>
                  <a:lnTo>
                    <a:pt x="75" y="1272"/>
                  </a:lnTo>
                  <a:lnTo>
                    <a:pt x="102" y="1361"/>
                  </a:lnTo>
                  <a:lnTo>
                    <a:pt x="132" y="1442"/>
                  </a:lnTo>
                  <a:lnTo>
                    <a:pt x="170" y="1538"/>
                  </a:lnTo>
                  <a:lnTo>
                    <a:pt x="221" y="1655"/>
                  </a:lnTo>
                  <a:lnTo>
                    <a:pt x="271" y="1746"/>
                  </a:lnTo>
                  <a:lnTo>
                    <a:pt x="326" y="1835"/>
                  </a:lnTo>
                  <a:lnTo>
                    <a:pt x="372" y="1895"/>
                  </a:lnTo>
                  <a:lnTo>
                    <a:pt x="425" y="1966"/>
                  </a:lnTo>
                  <a:lnTo>
                    <a:pt x="467" y="2016"/>
                  </a:lnTo>
                  <a:lnTo>
                    <a:pt x="526" y="2068"/>
                  </a:lnTo>
                  <a:lnTo>
                    <a:pt x="580" y="2117"/>
                  </a:lnTo>
                  <a:lnTo>
                    <a:pt x="639" y="2165"/>
                  </a:lnTo>
                  <a:lnTo>
                    <a:pt x="687" y="2201"/>
                  </a:lnTo>
                  <a:lnTo>
                    <a:pt x="754" y="2248"/>
                  </a:lnTo>
                  <a:lnTo>
                    <a:pt x="829" y="2292"/>
                  </a:lnTo>
                  <a:lnTo>
                    <a:pt x="903" y="2322"/>
                  </a:lnTo>
                  <a:lnTo>
                    <a:pt x="966" y="2347"/>
                  </a:lnTo>
                  <a:lnTo>
                    <a:pt x="1039" y="2369"/>
                  </a:lnTo>
                  <a:lnTo>
                    <a:pt x="1117" y="2387"/>
                  </a:lnTo>
                  <a:lnTo>
                    <a:pt x="1216" y="2395"/>
                  </a:lnTo>
                  <a:lnTo>
                    <a:pt x="1301" y="2389"/>
                  </a:lnTo>
                  <a:lnTo>
                    <a:pt x="1373" y="2377"/>
                  </a:lnTo>
                  <a:lnTo>
                    <a:pt x="1446" y="2363"/>
                  </a:lnTo>
                  <a:lnTo>
                    <a:pt x="1526" y="2337"/>
                  </a:lnTo>
                  <a:lnTo>
                    <a:pt x="1593" y="2312"/>
                  </a:lnTo>
                  <a:lnTo>
                    <a:pt x="1654" y="2280"/>
                  </a:lnTo>
                  <a:lnTo>
                    <a:pt x="1734" y="2232"/>
                  </a:lnTo>
                  <a:lnTo>
                    <a:pt x="1821" y="2171"/>
                  </a:lnTo>
                  <a:lnTo>
                    <a:pt x="1892" y="2109"/>
                  </a:lnTo>
                  <a:lnTo>
                    <a:pt x="1952" y="2056"/>
                  </a:lnTo>
                  <a:lnTo>
                    <a:pt x="2011" y="1990"/>
                  </a:lnTo>
                  <a:lnTo>
                    <a:pt x="2058" y="1925"/>
                  </a:lnTo>
                  <a:lnTo>
                    <a:pt x="2112" y="1851"/>
                  </a:lnTo>
                  <a:lnTo>
                    <a:pt x="2175" y="1756"/>
                  </a:lnTo>
                  <a:lnTo>
                    <a:pt x="2223" y="1665"/>
                  </a:lnTo>
                  <a:lnTo>
                    <a:pt x="2276" y="1563"/>
                  </a:lnTo>
                  <a:lnTo>
                    <a:pt x="2354" y="1351"/>
                  </a:lnTo>
                  <a:lnTo>
                    <a:pt x="2401" y="1177"/>
                  </a:lnTo>
                  <a:lnTo>
                    <a:pt x="2437" y="989"/>
                  </a:lnTo>
                  <a:lnTo>
                    <a:pt x="2455" y="838"/>
                  </a:lnTo>
                  <a:lnTo>
                    <a:pt x="2467" y="644"/>
                  </a:lnTo>
                  <a:lnTo>
                    <a:pt x="2651" y="644"/>
                  </a:lnTo>
                  <a:lnTo>
                    <a:pt x="2229" y="0"/>
                  </a:lnTo>
                  <a:lnTo>
                    <a:pt x="1803" y="653"/>
                  </a:lnTo>
                  <a:lnTo>
                    <a:pt x="1993" y="651"/>
                  </a:lnTo>
                  <a:lnTo>
                    <a:pt x="1981" y="844"/>
                  </a:lnTo>
                  <a:lnTo>
                    <a:pt x="1957" y="989"/>
                  </a:lnTo>
                  <a:lnTo>
                    <a:pt x="1922" y="1140"/>
                  </a:lnTo>
                  <a:lnTo>
                    <a:pt x="1845" y="1351"/>
                  </a:lnTo>
                  <a:lnTo>
                    <a:pt x="1793" y="1450"/>
                  </a:lnTo>
                  <a:lnTo>
                    <a:pt x="1738" y="1544"/>
                  </a:lnTo>
                  <a:lnTo>
                    <a:pt x="1674" y="1623"/>
                  </a:lnTo>
                  <a:lnTo>
                    <a:pt x="1613" y="1702"/>
                  </a:lnTo>
                  <a:lnTo>
                    <a:pt x="1553" y="1764"/>
                  </a:lnTo>
                  <a:lnTo>
                    <a:pt x="1488" y="1817"/>
                  </a:lnTo>
                  <a:lnTo>
                    <a:pt x="1411" y="1875"/>
                  </a:lnTo>
                  <a:lnTo>
                    <a:pt x="1321" y="1925"/>
                  </a:lnTo>
                  <a:lnTo>
                    <a:pt x="1237" y="1962"/>
                  </a:lnTo>
                  <a:lnTo>
                    <a:pt x="1162" y="1980"/>
                  </a:lnTo>
                  <a:lnTo>
                    <a:pt x="1067" y="1998"/>
                  </a:lnTo>
                  <a:lnTo>
                    <a:pt x="976" y="2000"/>
                  </a:lnTo>
                  <a:lnTo>
                    <a:pt x="913" y="1996"/>
                  </a:lnTo>
                  <a:lnTo>
                    <a:pt x="845" y="1986"/>
                  </a:lnTo>
                  <a:lnTo>
                    <a:pt x="764" y="1962"/>
                  </a:lnTo>
                  <a:lnTo>
                    <a:pt x="687" y="1931"/>
                  </a:lnTo>
                  <a:lnTo>
                    <a:pt x="614" y="1895"/>
                  </a:lnTo>
                  <a:lnTo>
                    <a:pt x="542" y="1847"/>
                  </a:lnTo>
                  <a:lnTo>
                    <a:pt x="437" y="1760"/>
                  </a:lnTo>
                  <a:lnTo>
                    <a:pt x="368" y="1688"/>
                  </a:lnTo>
                  <a:lnTo>
                    <a:pt x="295" y="1593"/>
                  </a:lnTo>
                  <a:lnTo>
                    <a:pt x="231" y="1496"/>
                  </a:lnTo>
                  <a:lnTo>
                    <a:pt x="192" y="1423"/>
                  </a:lnTo>
                  <a:lnTo>
                    <a:pt x="150" y="1337"/>
                  </a:lnTo>
                  <a:lnTo>
                    <a:pt x="118" y="1256"/>
                  </a:lnTo>
                  <a:lnTo>
                    <a:pt x="95" y="1189"/>
                  </a:lnTo>
                  <a:lnTo>
                    <a:pt x="73" y="1122"/>
                  </a:lnTo>
                  <a:lnTo>
                    <a:pt x="55" y="1038"/>
                  </a:lnTo>
                  <a:lnTo>
                    <a:pt x="43" y="961"/>
                  </a:lnTo>
                  <a:lnTo>
                    <a:pt x="25" y="856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 txBox="1"/>
          <p:nvPr/>
        </p:nvSpPr>
        <p:spPr>
          <a:xfrm>
            <a:off x="5149800" y="2244600"/>
            <a:ext cx="38862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npreemptive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tasking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3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38120" y="2695680"/>
            <a:ext cx="2057400" cy="12002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path path="rect">
              <a:fillToRect l="0" t="0" r="100000" b="100000"/>
            </a:path>
          </a:gradFill>
          <a:ln w="7632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5648400"/>
            <a:ext cx="2324160" cy="6094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972266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81360" y="5648400"/>
            <a:ext cx="2324160" cy="6094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972266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(Running on Windows 3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1790640"/>
            <a:ext cx="7315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tection from other processes (16 or 3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shared DLL data (no instance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and memory usage of each process affects every othe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3 FAT fil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ong filenames, async file I/O or AC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relies on Windows 3.1 G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aths, advanced transforms or bezier cu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icod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85640" y="228600"/>
            <a:ext cx="8172360" cy="15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                                  </a:t>
            </a: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14520" y="1847880"/>
            <a:ext cx="61149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flat address space (512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 memory (VirtualAllo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management (HeapAllo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ocal Storage (TL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228600"/>
            <a:ext cx="8172360" cy="15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                               </a:t>
            </a: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14520" y="1847880"/>
            <a:ext cx="61149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ificant Performance gains run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message seman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 (SE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8640" y="819000"/>
            <a:ext cx="81723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33360" y="232416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14280" y="228600"/>
            <a:ext cx="8515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90720" y="171468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/except and try/fin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handling of divide by 0, stack under/overflow, wild pointers, application-defined exception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exception handling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Win32s API Features (Version 1.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82600" y="1924200"/>
            <a:ext cx="677880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simultaneously with Windows NT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1.0 features plu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ed by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apanese Suppor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-J For Windows 3.1-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90720" y="2286000"/>
            <a:ext cx="71629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with Beta 1 of the Windows NT-J SD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the creation of a DBCS application that will run on both Windows NT-J and Windows 3.1-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85640" y="228600"/>
            <a:ext cx="817236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40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52400" y="2019240"/>
            <a:ext cx="7639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177156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9200" y="228600"/>
            <a:ext cx="89866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emptive Multitasking Impact 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unning on Windows 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95320" y="1619280"/>
            <a:ext cx="73533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ng DLL resources with critical sections (EnterCriticalSe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with other processes must be synchron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processing is not atomic during 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to test Win32 applications on BOTH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05040" y="228600"/>
            <a:ext cx="733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es On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47760" y="1123920"/>
            <a:ext cx="664848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nd Win32 processes       coexist seamles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s see Win32 apps. as other Win16 ap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see Win16 applications as other Win32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s may be loa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s can link to a Win32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Goals Of Win3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76200" y="1523880"/>
            <a:ext cx="659124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on ease of porting existing 32-bi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of porting existing 16-bit Windows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existing Win16 bin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on multiple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04880" y="1714680"/>
            <a:ext cx="77342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e Handling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09640" y="1028880"/>
            <a:ext cx="752472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maps messages transpar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order identical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mess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&lt;&gt; Win32: wParam is 0 exten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&lt;&gt; Win16: high-order word of wParam is 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&lt;&gt; Win32: high-order word of wParam is 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aram is unaff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messages such as WM_COMMAND are not aff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2120" y="1790640"/>
            <a:ext cx="76201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95480" y="228600"/>
            <a:ext cx="695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90720" y="129528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nd Win32 applications share virtual address space (2G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has separate 2GB-per-process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 instances do not shar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referenced by multiple Win32 apps. do share code on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85960" y="228600"/>
            <a:ext cx="7372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Memor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95280" y="1447920"/>
            <a:ext cx="65530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parse memory (reserved/committed mem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supports demand paging for efficient EXE lo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executing data as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execute data on s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438280" y="228600"/>
            <a:ext cx="4267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33640" y="1162080"/>
            <a:ext cx="6877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only shared data (no instance dat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mpatibility, DLL data remains shared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 secure systems allow shared memory for apps. run under same user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16-bit style Prolog/Epilog code (DLL function identical to static fun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81120" y="1809720"/>
            <a:ext cx="59817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85760" y="228600"/>
            <a:ext cx="6972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 On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90720" y="123840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. does not directly link to 16-bit printer driver (D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creates thunk for printer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 links to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 gets address to thunk from GetProc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Windows 3.1 DevEscapes thunk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600200" y="1676520"/>
            <a:ext cx="59436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1504800"/>
            <a:ext cx="6858000" cy="33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are translated before being passed to Windows 3.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head depends on function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Blt() -- thunking overhead is minimal (less than 1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Version() -- thunking overhead relatively hig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33320" y="1143000"/>
            <a:ext cx="76770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32-bit enhancements to huge Windows 3.1 installed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dge provided for  Windows 3.1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source compatibility across all Windows platfor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binary compatibility on Windows 3.1 and Windows NT on x8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04720" y="4395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76240" y="1676520"/>
            <a:ext cx="73915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lling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s would experience a 10% degra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apps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32-bit quant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memory or data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calculation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uge or far point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iques For Improving Perform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90720" y="173340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Set Tu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line rather than MoveTo/Lin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variables (stack) variables are faster to pass by reference between the Win32 application and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rew Schulman’s article April Microsoft Systems Journal discusses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95160" y="1828800"/>
            <a:ext cx="77533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213372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428840" y="1390680"/>
            <a:ext cx="62866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32 application calling into a 16-bit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Win32s applications to use 16-bit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16-bit scanner d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a 16-bit routine to callback to a 32-bit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85640" y="228600"/>
            <a:ext cx="817236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 Using A Win32 Service DLL On Windows NT Or Windows 3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959120" y="2390760"/>
            <a:ext cx="522756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0520" y="254160"/>
            <a:ext cx="909468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00280" y="1200240"/>
            <a:ext cx="75438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translate 32-bit linear pointer to shared memory to a 16:16 segmented pointer for the 16-bit UTFunc rou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ally destroy thunk and Free 16-bit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UTUnRegister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Win32 app termin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IMPORTA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The Universal Thunk is provided as a stepping st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ggested Action I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4840" y="1047600"/>
            <a:ext cx="8194680" cy="56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current 32-bit applications to Win32 API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32s for products with Windows 3.1 support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dows NT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graphic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lient-server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on critica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-critical applications running on MP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-Engin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Win32 apps.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908600" y="2517840"/>
            <a:ext cx="2781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m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96840" y="171468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222800" y="2449440"/>
            <a:ext cx="3924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96840" y="171468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76120" y="228600"/>
            <a:ext cx="8591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Windows Platfor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23960" y="1428840"/>
            <a:ext cx="76960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applications will continue to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OS code converted to 32-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pplications run faster and use memory more efficiently in Windows (now and in the futu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in32s-based application will be a great “Chicago”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24080" y="1257480"/>
            <a:ext cx="64962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Win32 versions of your application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/API features determine the platform you deplo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have the performance and feature advantages on all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63600" y="1371600"/>
            <a:ext cx="661824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platform -- Win32s product is shipping 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 install base to sell into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+ million copies of Windows installed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1 million shipped each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276200"/>
            <a:ext cx="716292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/capacity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have linear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gments (0:3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based applications run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 is fully compatible subset of Win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run as native Win32 apps. on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fines An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57160" y="1276200"/>
            <a:ext cx="742968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API stretched to 32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Win32 API that is compatible with Win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equivalents for Windows 3.1 APIs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several powerful Windows NT features for Win32 apps.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