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005520" y="0"/>
            <a:ext cx="31258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’93 (3rd talk) 6/93 </a:t>
            </a:r>
            <a:fld id="{95A5DE4F-0F4C-4B0D-A8AA-188D8E99C865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133640"/>
            <a:ext cx="81723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TCP/IP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ologies And Strategies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sues Introduced With LAN Manager And B-nod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33320" y="2098800"/>
            <a:ext cx="76770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s only LAN Manager domains which span routed sub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group “multicasts” are implemented as IP broadcasts and do not pass ro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s server announcements, DC pulses, logon requests, and messaging (as these are implemented as NetBIOS group multica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Extensions for LAN Manager offer relief in routed doma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1160" y="228600"/>
            <a:ext cx="8583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Extensions For LAN Mana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5600" y="4664160"/>
            <a:ext cx="809316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ssues a net logon request (NetBIOS multicast to domain resulting in IP broadcas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Request is picked up by local node service and forwarded to the hub over a TCP connec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ef9100"/>
                </a:solidFill>
                <a:latin typeface="Times New Roman"/>
                <a:ea typeface="Times New Roman"/>
              </a:rPr>
              <a:t>Hub distributes request to all other nodes within the dom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Receiving nodes rebroadcast request, caching name/address mapping from the incoming pack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on remote subnet attempts to resolve client name/address mapping  via b-node (local broadcas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de (local to DC) “proxies” response on behalf of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establishes secure channel with client for authentic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166760"/>
            <a:ext cx="8134200" cy="31384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5160" y="1609560"/>
            <a:ext cx="2292480" cy="119232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52360" y="244476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808600" y="1652760"/>
            <a:ext cx="2335320" cy="112860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4160" y="2987640"/>
            <a:ext cx="2077920" cy="102888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75000" y="2666880"/>
            <a:ext cx="730080" cy="700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781760" y="221616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71600" y="2801880"/>
            <a:ext cx="0" cy="6796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71600" y="3552840"/>
            <a:ext cx="1222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5280" y="2781360"/>
            <a:ext cx="0" cy="6490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572080" y="3487680"/>
            <a:ext cx="94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17600" y="3376440"/>
            <a:ext cx="297000" cy="3668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681280" y="133020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37000" y="1773360"/>
            <a:ext cx="1043280" cy="686160"/>
          </a:xfrm>
          <a:custGeom>
            <a:avLst/>
            <a:gdLst/>
            <a:ahLst/>
            <a:rect l="0" t="0" r="r" b="b"/>
            <a:pathLst>
              <a:path fill="none" w="2898" h="1906">
                <a:moveTo>
                  <a:pt x="2898" y="1906"/>
                </a:moveTo>
                <a:lnTo>
                  <a:pt x="2898" y="1906"/>
                </a:lnTo>
                <a:lnTo>
                  <a:pt x="2898" y="1906"/>
                </a:lnTo>
                <a:cubicBezTo>
                  <a:pt x="2898" y="1571"/>
                  <a:pt x="2764" y="1243"/>
                  <a:pt x="2510" y="953"/>
                </a:cubicBezTo>
                <a:cubicBezTo>
                  <a:pt x="2255" y="663"/>
                  <a:pt x="1890" y="423"/>
                  <a:pt x="1449" y="255"/>
                </a:cubicBezTo>
                <a:cubicBezTo>
                  <a:pt x="1008" y="88"/>
                  <a:pt x="509" y="0"/>
                  <a:pt x="0" y="0"/>
                </a:cubicBezTo>
              </a:path>
            </a:pathLst>
          </a:custGeom>
          <a:ln w="12600">
            <a:solidFill>
              <a:srgbClr val="3365fb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712960" y="2046240"/>
            <a:ext cx="72072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4400" y="303228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777080" y="294012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10200" y="332748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4400" y="1809720"/>
            <a:ext cx="1397520" cy="681480"/>
          </a:xfrm>
          <a:custGeom>
            <a:avLst/>
            <a:gdLst/>
            <a:ahLst/>
            <a:rect l="0" t="0" r="r" b="b"/>
            <a:pathLst>
              <a:path fill="none" w="3882" h="1893">
                <a:moveTo>
                  <a:pt x="0" y="1893"/>
                </a:moveTo>
                <a:lnTo>
                  <a:pt x="0" y="1704"/>
                </a:lnTo>
                <a:lnTo>
                  <a:pt x="4" y="1488"/>
                </a:lnTo>
                <a:lnTo>
                  <a:pt x="4" y="1310"/>
                </a:lnTo>
                <a:lnTo>
                  <a:pt x="4" y="1129"/>
                </a:lnTo>
                <a:lnTo>
                  <a:pt x="4" y="834"/>
                </a:lnTo>
                <a:lnTo>
                  <a:pt x="4" y="596"/>
                </a:lnTo>
                <a:lnTo>
                  <a:pt x="4" y="414"/>
                </a:lnTo>
                <a:lnTo>
                  <a:pt x="17" y="238"/>
                </a:lnTo>
                <a:lnTo>
                  <a:pt x="110" y="97"/>
                </a:lnTo>
                <a:lnTo>
                  <a:pt x="268" y="0"/>
                </a:lnTo>
                <a:lnTo>
                  <a:pt x="793" y="0"/>
                </a:lnTo>
                <a:lnTo>
                  <a:pt x="1032" y="0"/>
                </a:lnTo>
                <a:lnTo>
                  <a:pt x="1271" y="0"/>
                </a:lnTo>
                <a:lnTo>
                  <a:pt x="1584" y="0"/>
                </a:lnTo>
                <a:lnTo>
                  <a:pt x="1822" y="0"/>
                </a:lnTo>
                <a:lnTo>
                  <a:pt x="2060" y="0"/>
                </a:lnTo>
                <a:lnTo>
                  <a:pt x="2377" y="0"/>
                </a:lnTo>
                <a:lnTo>
                  <a:pt x="2690" y="0"/>
                </a:lnTo>
                <a:lnTo>
                  <a:pt x="2930" y="0"/>
                </a:lnTo>
                <a:lnTo>
                  <a:pt x="3247" y="4"/>
                </a:lnTo>
                <a:lnTo>
                  <a:pt x="3450" y="0"/>
                </a:lnTo>
                <a:lnTo>
                  <a:pt x="3613" y="44"/>
                </a:lnTo>
                <a:lnTo>
                  <a:pt x="3732" y="141"/>
                </a:lnTo>
                <a:lnTo>
                  <a:pt x="3803" y="211"/>
                </a:lnTo>
                <a:lnTo>
                  <a:pt x="3882" y="392"/>
                </a:lnTo>
                <a:lnTo>
                  <a:pt x="3878" y="1191"/>
                </a:lnTo>
                <a:lnTo>
                  <a:pt x="3878" y="1368"/>
                </a:lnTo>
                <a:lnTo>
                  <a:pt x="3878" y="1554"/>
                </a:lnTo>
                <a:lnTo>
                  <a:pt x="3812" y="1704"/>
                </a:lnTo>
                <a:lnTo>
                  <a:pt x="3714" y="1801"/>
                </a:lnTo>
                <a:lnTo>
                  <a:pt x="3582" y="1871"/>
                </a:lnTo>
                <a:lnTo>
                  <a:pt x="2761" y="1880"/>
                </a:lnTo>
                <a:lnTo>
                  <a:pt x="2399" y="1876"/>
                </a:lnTo>
                <a:lnTo>
                  <a:pt x="2060" y="1880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28880" y="3224160"/>
            <a:ext cx="1543320" cy="643320"/>
          </a:xfrm>
          <a:custGeom>
            <a:avLst/>
            <a:gdLst/>
            <a:ahLst/>
            <a:rect l="0" t="0" r="r" b="b"/>
            <a:pathLst>
              <a:path fill="none" w="4287" h="1787">
                <a:moveTo>
                  <a:pt x="3674" y="0"/>
                </a:moveTo>
                <a:lnTo>
                  <a:pt x="3982" y="0"/>
                </a:lnTo>
                <a:lnTo>
                  <a:pt x="4212" y="101"/>
                </a:lnTo>
                <a:lnTo>
                  <a:pt x="4287" y="304"/>
                </a:lnTo>
                <a:lnTo>
                  <a:pt x="4287" y="459"/>
                </a:lnTo>
                <a:lnTo>
                  <a:pt x="4287" y="662"/>
                </a:lnTo>
                <a:lnTo>
                  <a:pt x="4287" y="971"/>
                </a:lnTo>
                <a:lnTo>
                  <a:pt x="4287" y="1125"/>
                </a:lnTo>
                <a:lnTo>
                  <a:pt x="4287" y="1328"/>
                </a:lnTo>
                <a:lnTo>
                  <a:pt x="4287" y="1527"/>
                </a:lnTo>
                <a:lnTo>
                  <a:pt x="4159" y="1664"/>
                </a:lnTo>
                <a:lnTo>
                  <a:pt x="4013" y="1752"/>
                </a:lnTo>
                <a:lnTo>
                  <a:pt x="3762" y="1787"/>
                </a:lnTo>
                <a:lnTo>
                  <a:pt x="3444" y="1787"/>
                </a:lnTo>
                <a:lnTo>
                  <a:pt x="3215" y="1787"/>
                </a:lnTo>
                <a:lnTo>
                  <a:pt x="2986" y="1787"/>
                </a:lnTo>
                <a:lnTo>
                  <a:pt x="2757" y="1787"/>
                </a:lnTo>
                <a:lnTo>
                  <a:pt x="2527" y="1787"/>
                </a:lnTo>
                <a:lnTo>
                  <a:pt x="2298" y="1787"/>
                </a:lnTo>
                <a:lnTo>
                  <a:pt x="1988" y="1787"/>
                </a:lnTo>
                <a:lnTo>
                  <a:pt x="1684" y="1787"/>
                </a:lnTo>
                <a:lnTo>
                  <a:pt x="1375" y="1787"/>
                </a:lnTo>
                <a:lnTo>
                  <a:pt x="1071" y="1787"/>
                </a:lnTo>
                <a:lnTo>
                  <a:pt x="511" y="1787"/>
                </a:lnTo>
                <a:lnTo>
                  <a:pt x="264" y="1765"/>
                </a:lnTo>
                <a:lnTo>
                  <a:pt x="145" y="1686"/>
                </a:lnTo>
                <a:lnTo>
                  <a:pt x="44" y="1549"/>
                </a:lnTo>
                <a:lnTo>
                  <a:pt x="0" y="1435"/>
                </a:lnTo>
                <a:lnTo>
                  <a:pt x="0" y="1173"/>
                </a:lnTo>
                <a:lnTo>
                  <a:pt x="0" y="1019"/>
                </a:lnTo>
                <a:lnTo>
                  <a:pt x="0" y="869"/>
                </a:lnTo>
                <a:lnTo>
                  <a:pt x="0" y="534"/>
                </a:lnTo>
                <a:lnTo>
                  <a:pt x="52" y="343"/>
                </a:lnTo>
                <a:lnTo>
                  <a:pt x="176" y="176"/>
                </a:lnTo>
                <a:lnTo>
                  <a:pt x="317" y="79"/>
                </a:lnTo>
                <a:lnTo>
                  <a:pt x="485" y="0"/>
                </a:lnTo>
                <a:lnTo>
                  <a:pt x="767" y="0"/>
                </a:lnTo>
                <a:lnTo>
                  <a:pt x="1071" y="0"/>
                </a:lnTo>
                <a:lnTo>
                  <a:pt x="1375" y="0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48440" y="1924200"/>
            <a:ext cx="1671840" cy="663840"/>
          </a:xfrm>
          <a:custGeom>
            <a:avLst/>
            <a:gdLst/>
            <a:ahLst/>
            <a:rect l="0" t="0" r="r" b="b"/>
            <a:pathLst>
              <a:path fill="none" w="4644" h="1844">
                <a:moveTo>
                  <a:pt x="4115" y="1844"/>
                </a:moveTo>
                <a:lnTo>
                  <a:pt x="3912" y="1844"/>
                </a:lnTo>
                <a:lnTo>
                  <a:pt x="3440" y="1844"/>
                </a:lnTo>
                <a:lnTo>
                  <a:pt x="3105" y="1844"/>
                </a:lnTo>
                <a:lnTo>
                  <a:pt x="2836" y="1844"/>
                </a:lnTo>
                <a:lnTo>
                  <a:pt x="2567" y="1844"/>
                </a:lnTo>
                <a:lnTo>
                  <a:pt x="2364" y="1844"/>
                </a:lnTo>
                <a:lnTo>
                  <a:pt x="2160" y="1844"/>
                </a:lnTo>
                <a:lnTo>
                  <a:pt x="1962" y="1844"/>
                </a:lnTo>
                <a:lnTo>
                  <a:pt x="1693" y="1844"/>
                </a:lnTo>
                <a:lnTo>
                  <a:pt x="467" y="1844"/>
                </a:lnTo>
                <a:lnTo>
                  <a:pt x="326" y="1808"/>
                </a:lnTo>
                <a:lnTo>
                  <a:pt x="194" y="1773"/>
                </a:lnTo>
                <a:lnTo>
                  <a:pt x="105" y="1698"/>
                </a:lnTo>
                <a:lnTo>
                  <a:pt x="30" y="1592"/>
                </a:lnTo>
                <a:lnTo>
                  <a:pt x="8" y="1495"/>
                </a:lnTo>
                <a:lnTo>
                  <a:pt x="8" y="1297"/>
                </a:lnTo>
                <a:lnTo>
                  <a:pt x="8" y="1099"/>
                </a:lnTo>
                <a:lnTo>
                  <a:pt x="8" y="895"/>
                </a:lnTo>
                <a:lnTo>
                  <a:pt x="8" y="648"/>
                </a:lnTo>
                <a:lnTo>
                  <a:pt x="0" y="370"/>
                </a:lnTo>
                <a:lnTo>
                  <a:pt x="8" y="216"/>
                </a:lnTo>
                <a:lnTo>
                  <a:pt x="83" y="70"/>
                </a:lnTo>
                <a:lnTo>
                  <a:pt x="255" y="4"/>
                </a:lnTo>
                <a:lnTo>
                  <a:pt x="546" y="0"/>
                </a:lnTo>
                <a:lnTo>
                  <a:pt x="749" y="0"/>
                </a:lnTo>
                <a:lnTo>
                  <a:pt x="1084" y="0"/>
                </a:lnTo>
                <a:lnTo>
                  <a:pt x="1287" y="0"/>
                </a:lnTo>
                <a:lnTo>
                  <a:pt x="1490" y="0"/>
                </a:lnTo>
                <a:lnTo>
                  <a:pt x="1693" y="0"/>
                </a:lnTo>
                <a:lnTo>
                  <a:pt x="1891" y="0"/>
                </a:lnTo>
                <a:lnTo>
                  <a:pt x="2094" y="0"/>
                </a:lnTo>
                <a:lnTo>
                  <a:pt x="2430" y="0"/>
                </a:lnTo>
                <a:lnTo>
                  <a:pt x="2633" y="0"/>
                </a:lnTo>
                <a:lnTo>
                  <a:pt x="2968" y="0"/>
                </a:lnTo>
                <a:lnTo>
                  <a:pt x="3242" y="0"/>
                </a:lnTo>
                <a:lnTo>
                  <a:pt x="3511" y="0"/>
                </a:lnTo>
                <a:lnTo>
                  <a:pt x="3780" y="0"/>
                </a:lnTo>
                <a:lnTo>
                  <a:pt x="4049" y="0"/>
                </a:lnTo>
                <a:lnTo>
                  <a:pt x="4247" y="0"/>
                </a:lnTo>
                <a:lnTo>
                  <a:pt x="4450" y="0"/>
                </a:lnTo>
                <a:lnTo>
                  <a:pt x="4578" y="26"/>
                </a:lnTo>
                <a:lnTo>
                  <a:pt x="4635" y="119"/>
                </a:lnTo>
                <a:lnTo>
                  <a:pt x="4635" y="348"/>
                </a:lnTo>
                <a:lnTo>
                  <a:pt x="4640" y="608"/>
                </a:lnTo>
                <a:lnTo>
                  <a:pt x="4640" y="798"/>
                </a:lnTo>
                <a:lnTo>
                  <a:pt x="4644" y="927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361120" y="367344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224160" y="370188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2709720" y="267336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666720" y="1852560"/>
            <a:ext cx="452520" cy="420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5538960" y="203040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6996240" y="1415880"/>
            <a:ext cx="452520" cy="422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6346800" y="3333600"/>
            <a:ext cx="297000" cy="3668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637240" y="4152960"/>
            <a:ext cx="2832120" cy="3668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AN Manager Dom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85800" y="1744560"/>
            <a:ext cx="900360" cy="621720"/>
          </a:xfrm>
          <a:custGeom>
            <a:avLst/>
            <a:gdLst/>
            <a:ahLst/>
            <a:rect l="0" t="0" r="r" b="b"/>
            <a:pathLst>
              <a:path fill="none" w="2501" h="1727">
                <a:moveTo>
                  <a:pt x="2501" y="0"/>
                </a:moveTo>
                <a:lnTo>
                  <a:pt x="2501" y="0"/>
                </a:lnTo>
                <a:cubicBezTo>
                  <a:pt x="2062" y="0"/>
                  <a:pt x="1631" y="80"/>
                  <a:pt x="1250" y="231"/>
                </a:cubicBezTo>
                <a:cubicBezTo>
                  <a:pt x="870" y="383"/>
                  <a:pt x="555" y="601"/>
                  <a:pt x="335" y="864"/>
                </a:cubicBezTo>
                <a:cubicBezTo>
                  <a:pt x="116" y="1126"/>
                  <a:pt x="0" y="1424"/>
                  <a:pt x="0" y="1727"/>
                </a:cubicBezTo>
              </a:path>
            </a:pathLst>
          </a:custGeom>
          <a:ln w="12600">
            <a:solidFill>
              <a:srgbClr val="ef91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36280" y="1644480"/>
            <a:ext cx="4179600" cy="729000"/>
          </a:xfrm>
          <a:custGeom>
            <a:avLst/>
            <a:gdLst/>
            <a:ahLst/>
            <a:rect l="0" t="0" r="r" b="b"/>
            <a:pathLst>
              <a:path fill="none" w="11610" h="2025">
                <a:moveTo>
                  <a:pt x="11610" y="2025"/>
                </a:moveTo>
                <a:lnTo>
                  <a:pt x="11610" y="2025"/>
                </a:lnTo>
                <a:lnTo>
                  <a:pt x="11610" y="2025"/>
                </a:lnTo>
                <a:cubicBezTo>
                  <a:pt x="11610" y="1670"/>
                  <a:pt x="11074" y="1320"/>
                  <a:pt x="10055" y="1012"/>
                </a:cubicBezTo>
                <a:cubicBezTo>
                  <a:pt x="9036" y="705"/>
                  <a:pt x="7570" y="449"/>
                  <a:pt x="5805" y="271"/>
                </a:cubicBezTo>
                <a:cubicBezTo>
                  <a:pt x="4040" y="94"/>
                  <a:pt x="2038" y="0"/>
                  <a:pt x="0" y="0"/>
                </a:cubicBezTo>
              </a:path>
            </a:pathLst>
          </a:custGeom>
          <a:ln w="12600">
            <a:solidFill>
              <a:srgbClr val="ef91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49120" y="228600"/>
            <a:ext cx="8645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Extensions For LAN Mana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79400" y="1414440"/>
            <a:ext cx="7586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ing” can be done at the node level, allowing administration of which services will be offered (for example, server announcements, logon, etc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a node on every subnet, a hub for each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protect against duplicate names in the internet, nor offer internet resource lo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For Workgrou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55480" y="1457280"/>
            <a:ext cx="803268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basic transport architecture as LAN Manager, NetBIOS on top, NDIS at  the bottom.  Fully interoperable with LAN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or Workgroups offers both client and server over NetBIOS (both implemented as protect mode driv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for Windows for Workgroup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will offer repackaged LAN Manager real-mode MS-DO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nsport adding graphical installation and Windows Sockets sup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The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1973160"/>
            <a:ext cx="71629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networking designed on a transport-independent architecture much like LAN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hough redirector and server don’t interface via NetBIOS, NBT is still used for name registration and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mhos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ments made to networking software to be more “WAN awar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800600" y="1739880"/>
            <a:ext cx="1290600" cy="76356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port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805280" y="2662200"/>
            <a:ext cx="1265400" cy="66816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edir and 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26880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751800" y="3162240"/>
            <a:ext cx="149544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19400" y="5335560"/>
            <a:ext cx="3772080" cy="613080"/>
            <a:chOff x="2219400" y="5335560"/>
            <a:chExt cx="3772080" cy="613080"/>
          </a:xfrm>
        </p:grpSpPr>
        <p:sp>
          <p:nvSpPr>
            <p:cNvPr id="137" name=""/>
            <p:cNvSpPr/>
            <p:nvPr/>
          </p:nvSpPr>
          <p:spPr>
            <a:xfrm>
              <a:off x="2219400" y="533556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664000" y="5419800"/>
              <a:ext cx="2884320" cy="52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468680" y="3359160"/>
            <a:ext cx="1359000" cy="1782720"/>
            <a:chOff x="4468680" y="3359160"/>
            <a:chExt cx="1359000" cy="1782720"/>
          </a:xfrm>
        </p:grpSpPr>
        <p:sp>
          <p:nvSpPr>
            <p:cNvPr id="140" name=""/>
            <p:cNvSpPr/>
            <p:nvPr/>
          </p:nvSpPr>
          <p:spPr>
            <a:xfrm>
              <a:off x="4468680" y="3359160"/>
              <a:ext cx="1359000" cy="178272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4600440" y="4125960"/>
              <a:ext cx="1144440" cy="31608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55840" y="3736800"/>
            <a:ext cx="1031760" cy="1073160"/>
            <a:chOff x="3255840" y="3736800"/>
            <a:chExt cx="1031760" cy="1073160"/>
          </a:xfrm>
        </p:grpSpPr>
        <p:sp>
          <p:nvSpPr>
            <p:cNvPr id="143" name=""/>
            <p:cNvSpPr/>
            <p:nvPr/>
          </p:nvSpPr>
          <p:spPr>
            <a:xfrm>
              <a:off x="3255840" y="3736800"/>
              <a:ext cx="1031760" cy="10731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3379680" y="3975120"/>
              <a:ext cx="720720" cy="5907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CP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460600" y="3359160"/>
            <a:ext cx="1920960" cy="1868040"/>
            <a:chOff x="2460600" y="3359160"/>
            <a:chExt cx="1920960" cy="1868040"/>
          </a:xfrm>
        </p:grpSpPr>
        <p:sp>
          <p:nvSpPr>
            <p:cNvPr id="146" name=""/>
            <p:cNvSpPr/>
            <p:nvPr/>
          </p:nvSpPr>
          <p:spPr>
            <a:xfrm>
              <a:off x="2460600" y="3359160"/>
              <a:ext cx="1908000" cy="2872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0600" y="4897440"/>
              <a:ext cx="1920960" cy="24624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60600" y="3359160"/>
              <a:ext cx="663480" cy="178452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2619360" y="3586320"/>
              <a:ext cx="334800" cy="16408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055960" y="2662200"/>
            <a:ext cx="1303200" cy="530280"/>
            <a:chOff x="2055960" y="2662200"/>
            <a:chExt cx="1303200" cy="530280"/>
          </a:xfrm>
        </p:grpSpPr>
        <p:sp>
          <p:nvSpPr>
            <p:cNvPr id="151" name=""/>
            <p:cNvSpPr/>
            <p:nvPr/>
          </p:nvSpPr>
          <p:spPr>
            <a:xfrm>
              <a:off x="2055960" y="2662200"/>
              <a:ext cx="1303200" cy="530280"/>
            </a:xfrm>
            <a:prstGeom prst="rect">
              <a:avLst/>
            </a:prstGeom>
            <a:solidFill>
              <a:srgbClr val="1f43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2057400" y="2674800"/>
              <a:ext cx="1293840" cy="473040"/>
            </a:xfrm>
            <a:prstGeom prst="rect">
              <a:avLst/>
            </a:prstGeom>
            <a:solidFill>
              <a:srgbClr val="1f43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IOS 3.0  Interfa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427560" y="2662200"/>
            <a:ext cx="1314360" cy="703440"/>
            <a:chOff x="3427560" y="2662200"/>
            <a:chExt cx="1314360" cy="703440"/>
          </a:xfrm>
        </p:grpSpPr>
        <p:sp>
          <p:nvSpPr>
            <p:cNvPr id="154" name=""/>
            <p:cNvSpPr/>
            <p:nvPr/>
          </p:nvSpPr>
          <p:spPr>
            <a:xfrm>
              <a:off x="3427560" y="2664000"/>
              <a:ext cx="1314360" cy="525600"/>
            </a:xfrm>
            <a:prstGeom prst="rect">
              <a:avLst/>
            </a:prstGeom>
            <a:solidFill>
              <a:srgbClr val="71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3430440" y="2662200"/>
              <a:ext cx="1311120" cy="703440"/>
            </a:xfrm>
            <a:prstGeom prst="rect">
              <a:avLst/>
            </a:prstGeom>
            <a:solidFill>
              <a:srgbClr val="712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ockets 16/3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852560" y="329256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76240" y="5241960"/>
            <a:ext cx="4878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684840" y="5075280"/>
            <a:ext cx="16351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54360" y="2585880"/>
            <a:ext cx="48909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68560" y="1738440"/>
            <a:ext cx="2687760" cy="752400"/>
            <a:chOff x="2068560" y="1738440"/>
            <a:chExt cx="2687760" cy="752400"/>
          </a:xfrm>
        </p:grpSpPr>
        <p:sp>
          <p:nvSpPr>
            <p:cNvPr id="161" name=""/>
            <p:cNvSpPr/>
            <p:nvPr/>
          </p:nvSpPr>
          <p:spPr>
            <a:xfrm>
              <a:off x="2068560" y="1738440"/>
              <a:ext cx="2687760" cy="75240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2649600" y="186228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 txBox="1"/>
          <p:nvPr/>
        </p:nvSpPr>
        <p:spPr>
          <a:xfrm>
            <a:off x="1190520" y="2308320"/>
            <a:ext cx="7826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92760" y="1841400"/>
            <a:ext cx="114300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port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97040" y="2031840"/>
            <a:ext cx="755028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Driver Interface (TD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Streams-compatible environment for integration of existing transpor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level transport APIs (NetBIOS, Windows Sockets) libraries utilize T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1733400"/>
            <a:ext cx="716292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90720" y="151776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specification which defines a Windows programming interface to TCP/IP (WOS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“freedom of choice”, allowing any compliant stack to host any compatible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s a familiar interface to UN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twork programmers plus Windows-based extens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ing Forces Behind 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81200" y="1941480"/>
            <a:ext cx="75834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nd corporate developer frustration in authoring applications over multiple TCP/IP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vendors’ desire for third-party applica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essity of a user-mode transport interface for TCP/IP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7308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7680" y="1814400"/>
            <a:ext cx="8110440" cy="35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inary compatibility across all major TCP/IP implem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 development paradigm for corporate and applications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 functions allow for more “friendly” Windows-based network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versions will add support for multiple trans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728640" y="1252440"/>
            <a:ext cx="7686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TCP/I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based networking and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irections of Microsoft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vendors’ offe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 and ans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ypical Windows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ckets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06520" y="1835280"/>
            <a:ext cx="813276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connectivity utilities (ftp, talk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emulation (Telnet, TN3270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/MIME electronic mail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inting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/ODBC client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client-serv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2468520" y="5808600"/>
            <a:ext cx="3765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tom line:  Windows Sockets i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2860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br>
              <a:rPr sz="4800"/>
            </a:b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evelopment perspe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92280" y="1366920"/>
            <a:ext cx="79977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D derived, adding asynchronous select and database routines for Windows-based “friendlines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 Set up for incoming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15920" y="1428840"/>
            <a:ext cx="7162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1000" y="3801960"/>
            <a:ext cx="61023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 = socket ( AF_INET, SOCK_STREAM, 0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d ( s, addr, addrLen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sten ( s, backLog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SAAsyncSelect ( s, hWnd, ACCEPT_MS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D_ACCEP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85640" y="22860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br>
              <a:rPr sz="4800"/>
            </a:b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evelopment perspe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90720" y="1528920"/>
            <a:ext cx="71629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connect, set up r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733400"/>
            <a:ext cx="716292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81160" y="2235240"/>
            <a:ext cx="67834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NG APIENTRY ServerWndProc ( ...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witch ( message ) 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se  WM_PAI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se  ACCEPT_MS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 = accept ( s, newAddr, newAddrLen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SAAsyncSelect ( conn, hWn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_MSG, FD_REA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Directions Of    Microsoft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54760" y="3780000"/>
            <a:ext cx="2811600" cy="2486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990720" y="212256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d resource consumption, bette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configuration, centralized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 Windows-based            networking na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w Microsoft TCP/IP Sta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23960" y="1577880"/>
            <a:ext cx="7697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stack will reduce memory requirements, freeing valuable memory in MS-DOS for Windows-based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stack which can be used efficiently by current and future versions of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e to customer demand will result in richer feature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88840" y="2038320"/>
            <a:ext cx="73677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Require no more configuration for TCP/IP clients than NetBEUI, AppleTalk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r IP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:  Managing IP addresses and TCP/IP configuration information is cumbersome for both end users and administ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:  Dynamic Host Configuration Protocol (DHC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HCP:  Dynamic Configuration And Centralized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ynamic Host Configuration Protocol (DHCP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43080" y="2174760"/>
            <a:ext cx="84596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working with the IETF and vendors to define a centralized and dynamic configuration mechanism for TCP/IP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 facilitates centralized configuration and manag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sing” allows IP addresses to be reclaimed and re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HCP 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429680" y="3157560"/>
            <a:ext cx="1050840" cy="1181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382760" y="4597560"/>
            <a:ext cx="1150920" cy="1042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992840" y="3300480"/>
            <a:ext cx="1150920" cy="1042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344600" y="573264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941720" y="4432320"/>
            <a:ext cx="1276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238880" y="2746440"/>
            <a:ext cx="1568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Configu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537000" y="4727520"/>
            <a:ext cx="825480" cy="61272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9760" y="1239840"/>
            <a:ext cx="61563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nitializes stack queries for a configuration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server(s) respond with appropriate configuration information for the particular sub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chooses one of the configu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s responsible to renew the “lease” on the IP address and configuration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“releases” lease when shut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91080" y="4413240"/>
            <a:ext cx="481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3200" y="5691240"/>
            <a:ext cx="34988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30480" y="5348160"/>
            <a:ext cx="0" cy="333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943440" y="4424400"/>
            <a:ext cx="0" cy="3078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nefits Of DHC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2720" y="1595520"/>
            <a:ext cx="7918560" cy="3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 specifies only global and “per-subnet” parameters centrally for the entire internetwork - no individual (workstation) configuration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 require no manual configuration whatsoever, mechanism facilitates IP addr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ing a workstation from one subnet to another frees the old IP address for reuse and client is automatically reconfigured at initi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routers capable of forwarding configuration requests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270000" y="228600"/>
            <a:ext cx="8604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Windows-Based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06480" y="2062080"/>
            <a:ext cx="73328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Maintain the flexibility of NetBIOS naming while minimizing management overhead of IP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: B-node NBT does not scale well in internetworked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:  Scalable Windows-based Network Naming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tement Of Dir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22360" y="2433600"/>
            <a:ext cx="8099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Microsoft’s strategic protocol for scalable Windows-based networ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TCP/IP  Technology Time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560" y="3292560"/>
            <a:ext cx="71215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302904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35440" y="302436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86520" y="320688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64320" y="3089160"/>
            <a:ext cx="0" cy="4111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35080" y="2490840"/>
            <a:ext cx="27525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d  with LAN Manager 2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16080" y="2490840"/>
            <a:ext cx="18493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for Windows for Workgrou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387680" y="3527280"/>
            <a:ext cx="20559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ff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TCP/IP suppor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6960" y="2490840"/>
            <a:ext cx="1838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-mode TCP/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avail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546960" y="3527280"/>
            <a:ext cx="24811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HCP and scalable Windows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Network Nam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587600" y="3527280"/>
            <a:ext cx="16318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Exten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LAN 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27400" y="318132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12800" y="2066760"/>
            <a:ext cx="771840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 NOS solutions (for example, NetW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ppleSh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are written to a specific transp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of these NOS’ offer “IP encapsulation” of their particular protocols for internet rou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hasis on TCP/IP support from these vendors is connectivity and encaps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5640" y="1792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P Encapsulation 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788000" y="3848040"/>
            <a:ext cx="425304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 can communicate over “protocol x” via IP encapsu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psulation nodes pick up “protocol x” packets, “wrap” them in IP frames, and ship them to other encapsulation node(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s are then routed through the IP 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ing nodes “unwrap” IP packets and redistribute as “protocol x” packets local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22920" y="2841480"/>
            <a:ext cx="38732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840" y="5187960"/>
            <a:ext cx="4516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2520" y="42670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7169040" y="1582560"/>
            <a:ext cx="15080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rotocol X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7445520" y="1943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163440" y="3941640"/>
            <a:ext cx="14698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rotocol X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5135400" y="1614600"/>
            <a:ext cx="1050840" cy="1181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270320" y="1492200"/>
            <a:ext cx="1581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Encaps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623960" y="2049480"/>
            <a:ext cx="3005640" cy="1305360"/>
            <a:chOff x="1623960" y="2049480"/>
            <a:chExt cx="3005640" cy="1305360"/>
          </a:xfrm>
        </p:grpSpPr>
        <p:sp>
          <p:nvSpPr>
            <p:cNvPr id="262" name=""/>
            <p:cNvSpPr/>
            <p:nvPr/>
          </p:nvSpPr>
          <p:spPr>
            <a:xfrm>
              <a:off x="3143160" y="2049480"/>
              <a:ext cx="756000" cy="505080"/>
            </a:xfrm>
            <a:custGeom>
              <a:avLst/>
              <a:gdLst/>
              <a:ahLst/>
              <a:rect l="0" t="0" r="r" b="b"/>
              <a:pathLst>
                <a:path fill="none" w="2100" h="1403">
                  <a:moveTo>
                    <a:pt x="2100" y="1403"/>
                  </a:moveTo>
                  <a:lnTo>
                    <a:pt x="2100" y="1403"/>
                  </a:lnTo>
                  <a:lnTo>
                    <a:pt x="2100" y="1403"/>
                  </a:lnTo>
                  <a:cubicBezTo>
                    <a:pt x="2100" y="1157"/>
                    <a:pt x="2003" y="915"/>
                    <a:pt x="1819" y="701"/>
                  </a:cubicBezTo>
                  <a:cubicBezTo>
                    <a:pt x="1634" y="488"/>
                    <a:pt x="1369" y="311"/>
                    <a:pt x="1050" y="188"/>
                  </a:cubicBezTo>
                  <a:cubicBezTo>
                    <a:pt x="731" y="65"/>
                    <a:pt x="369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98800" y="2554200"/>
              <a:ext cx="595800" cy="273240"/>
            </a:xfrm>
            <a:custGeom>
              <a:avLst/>
              <a:gdLst/>
              <a:ahLst/>
              <a:rect l="0" t="0" r="r" b="b"/>
              <a:pathLst>
                <a:path fill="none" w="1655" h="759">
                  <a:moveTo>
                    <a:pt x="1655" y="759"/>
                  </a:moveTo>
                  <a:lnTo>
                    <a:pt x="1655" y="759"/>
                  </a:lnTo>
                  <a:lnTo>
                    <a:pt x="1655" y="759"/>
                  </a:lnTo>
                  <a:cubicBezTo>
                    <a:pt x="1655" y="626"/>
                    <a:pt x="1579" y="495"/>
                    <a:pt x="1433" y="379"/>
                  </a:cubicBezTo>
                  <a:cubicBezTo>
                    <a:pt x="1288" y="264"/>
                    <a:pt x="1079" y="168"/>
                    <a:pt x="827" y="102"/>
                  </a:cubicBezTo>
                  <a:cubicBezTo>
                    <a:pt x="576" y="35"/>
                    <a:pt x="291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94240" y="2827440"/>
              <a:ext cx="135360" cy="173520"/>
            </a:xfrm>
            <a:custGeom>
              <a:avLst/>
              <a:gdLst/>
              <a:ahLst/>
              <a:rect l="0" t="0" r="r" b="b"/>
              <a:pathLst>
                <a:path fill="none" w="376" h="482">
                  <a:moveTo>
                    <a:pt x="376" y="482"/>
                  </a:moveTo>
                  <a:lnTo>
                    <a:pt x="376" y="482"/>
                  </a:lnTo>
                  <a:lnTo>
                    <a:pt x="376" y="482"/>
                  </a:lnTo>
                  <a:cubicBezTo>
                    <a:pt x="376" y="397"/>
                    <a:pt x="359" y="314"/>
                    <a:pt x="326" y="241"/>
                  </a:cubicBezTo>
                  <a:cubicBezTo>
                    <a:pt x="293" y="168"/>
                    <a:pt x="245" y="107"/>
                    <a:pt x="188" y="65"/>
                  </a:cubicBezTo>
                  <a:cubicBezTo>
                    <a:pt x="131" y="22"/>
                    <a:pt x="66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08400" y="3011400"/>
              <a:ext cx="411480" cy="147960"/>
            </a:xfrm>
            <a:custGeom>
              <a:avLst/>
              <a:gdLst/>
              <a:ahLst/>
              <a:rect l="0" t="0" r="r" b="b"/>
              <a:pathLst>
                <a:path fill="none" w="1143" h="411">
                  <a:moveTo>
                    <a:pt x="0" y="411"/>
                  </a:moveTo>
                  <a:lnTo>
                    <a:pt x="0" y="411"/>
                  </a:lnTo>
                  <a:cubicBezTo>
                    <a:pt x="201" y="411"/>
                    <a:pt x="398" y="392"/>
                    <a:pt x="572" y="356"/>
                  </a:cubicBezTo>
                  <a:cubicBezTo>
                    <a:pt x="745" y="320"/>
                    <a:pt x="890" y="268"/>
                    <a:pt x="990" y="205"/>
                  </a:cubicBezTo>
                  <a:cubicBezTo>
                    <a:pt x="1090" y="143"/>
                    <a:pt x="1143" y="72"/>
                    <a:pt x="1143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22600" y="3147840"/>
              <a:ext cx="662400" cy="138600"/>
            </a:xfrm>
            <a:custGeom>
              <a:avLst/>
              <a:gdLst/>
              <a:ahLst/>
              <a:rect l="0" t="0" r="r" b="b"/>
              <a:pathLst>
                <a:path fill="none" w="1840" h="385">
                  <a:moveTo>
                    <a:pt x="0" y="385"/>
                  </a:moveTo>
                  <a:lnTo>
                    <a:pt x="0" y="385"/>
                  </a:lnTo>
                  <a:cubicBezTo>
                    <a:pt x="323" y="385"/>
                    <a:pt x="640" y="367"/>
                    <a:pt x="920" y="333"/>
                  </a:cubicBezTo>
                  <a:cubicBezTo>
                    <a:pt x="1200" y="300"/>
                    <a:pt x="1432" y="251"/>
                    <a:pt x="1593" y="192"/>
                  </a:cubicBezTo>
                  <a:cubicBezTo>
                    <a:pt x="1755" y="134"/>
                    <a:pt x="1840" y="68"/>
                    <a:pt x="184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85920" y="3133800"/>
              <a:ext cx="604800" cy="221040"/>
            </a:xfrm>
            <a:custGeom>
              <a:avLst/>
              <a:gdLst/>
              <a:ahLst/>
              <a:rect l="0" t="0" r="r" b="b"/>
              <a:pathLst>
                <a:path fill="none" w="1680" h="6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08"/>
                    <a:pt x="70" y="214"/>
                    <a:pt x="204" y="307"/>
                  </a:cubicBezTo>
                  <a:cubicBezTo>
                    <a:pt x="338" y="401"/>
                    <a:pt x="530" y="478"/>
                    <a:pt x="761" y="532"/>
                  </a:cubicBezTo>
                  <a:cubicBezTo>
                    <a:pt x="993" y="586"/>
                    <a:pt x="1256" y="614"/>
                    <a:pt x="1523" y="614"/>
                  </a:cubicBezTo>
                  <a:cubicBezTo>
                    <a:pt x="1575" y="614"/>
                    <a:pt x="1628" y="613"/>
                    <a:pt x="1680" y="611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06480" y="2781360"/>
              <a:ext cx="367200" cy="356040"/>
            </a:xfrm>
            <a:custGeom>
              <a:avLst/>
              <a:gdLst/>
              <a:ahLst/>
              <a:rect l="0" t="0" r="r" b="b"/>
              <a:pathLst>
                <a:path fill="none" w="1020" h="989">
                  <a:moveTo>
                    <a:pt x="0" y="0"/>
                  </a:moveTo>
                  <a:lnTo>
                    <a:pt x="0" y="0"/>
                  </a:lnTo>
                  <a:cubicBezTo>
                    <a:pt x="0" y="174"/>
                    <a:pt x="47" y="344"/>
                    <a:pt x="137" y="495"/>
                  </a:cubicBezTo>
                  <a:cubicBezTo>
                    <a:pt x="226" y="645"/>
                    <a:pt x="355" y="770"/>
                    <a:pt x="510" y="856"/>
                  </a:cubicBezTo>
                  <a:cubicBezTo>
                    <a:pt x="665" y="943"/>
                    <a:pt x="841" y="989"/>
                    <a:pt x="1020" y="989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23960" y="2567520"/>
              <a:ext cx="170280" cy="225360"/>
            </a:xfrm>
            <a:custGeom>
              <a:avLst/>
              <a:gdLst/>
              <a:ahLst/>
              <a:rect l="0" t="0" r="r" b="b"/>
              <a:pathLst>
                <a:path fill="none" w="473" h="626">
                  <a:moveTo>
                    <a:pt x="5" y="0"/>
                  </a:moveTo>
                  <a:lnTo>
                    <a:pt x="5" y="0"/>
                  </a:lnTo>
                  <a:cubicBezTo>
                    <a:pt x="2" y="29"/>
                    <a:pt x="0" y="58"/>
                    <a:pt x="0" y="88"/>
                  </a:cubicBezTo>
                  <a:cubicBezTo>
                    <a:pt x="0" y="182"/>
                    <a:pt x="18" y="275"/>
                    <a:pt x="51" y="357"/>
                  </a:cubicBezTo>
                  <a:cubicBezTo>
                    <a:pt x="85" y="439"/>
                    <a:pt x="133" y="506"/>
                    <a:pt x="192" y="554"/>
                  </a:cubicBezTo>
                  <a:cubicBezTo>
                    <a:pt x="250" y="601"/>
                    <a:pt x="316" y="626"/>
                    <a:pt x="384" y="626"/>
                  </a:cubicBezTo>
                  <a:cubicBezTo>
                    <a:pt x="414" y="626"/>
                    <a:pt x="444" y="621"/>
                    <a:pt x="473" y="611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23960" y="2221200"/>
              <a:ext cx="687600" cy="333720"/>
            </a:xfrm>
            <a:custGeom>
              <a:avLst/>
              <a:gdLst/>
              <a:ahLst/>
              <a:rect l="0" t="0" r="r" b="b"/>
              <a:pathLst>
                <a:path fill="none" w="1910" h="927">
                  <a:moveTo>
                    <a:pt x="1910" y="0"/>
                  </a:moveTo>
                  <a:lnTo>
                    <a:pt x="1910" y="0"/>
                  </a:lnTo>
                  <a:cubicBezTo>
                    <a:pt x="1584" y="5"/>
                    <a:pt x="1266" y="47"/>
                    <a:pt x="984" y="124"/>
                  </a:cubicBezTo>
                  <a:cubicBezTo>
                    <a:pt x="685" y="205"/>
                    <a:pt x="436" y="323"/>
                    <a:pt x="264" y="464"/>
                  </a:cubicBezTo>
                  <a:cubicBezTo>
                    <a:pt x="91" y="604"/>
                    <a:pt x="0" y="764"/>
                    <a:pt x="0" y="927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09760" y="2117880"/>
              <a:ext cx="538560" cy="103680"/>
            </a:xfrm>
            <a:custGeom>
              <a:avLst/>
              <a:gdLst/>
              <a:ahLst/>
              <a:rect l="0" t="0" r="r" b="b"/>
              <a:pathLst>
                <a:path fill="none" w="1496" h="288">
                  <a:moveTo>
                    <a:pt x="1496" y="0"/>
                  </a:moveTo>
                  <a:lnTo>
                    <a:pt x="1496" y="0"/>
                  </a:lnTo>
                  <a:cubicBezTo>
                    <a:pt x="1233" y="0"/>
                    <a:pt x="975" y="13"/>
                    <a:pt x="748" y="39"/>
                  </a:cubicBezTo>
                  <a:cubicBezTo>
                    <a:pt x="521" y="64"/>
                    <a:pt x="332" y="100"/>
                    <a:pt x="200" y="144"/>
                  </a:cubicBezTo>
                  <a:cubicBezTo>
                    <a:pt x="69" y="188"/>
                    <a:pt x="0" y="237"/>
                    <a:pt x="0" y="288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57680" y="2060640"/>
              <a:ext cx="276480" cy="46440"/>
            </a:xfrm>
            <a:custGeom>
              <a:avLst/>
              <a:gdLst/>
              <a:ahLst/>
              <a:rect l="0" t="0" r="r" b="b"/>
              <a:pathLst>
                <a:path fill="none" w="768" h="129">
                  <a:moveTo>
                    <a:pt x="768" y="0"/>
                  </a:moveTo>
                  <a:lnTo>
                    <a:pt x="768" y="0"/>
                  </a:lnTo>
                  <a:cubicBezTo>
                    <a:pt x="633" y="0"/>
                    <a:pt x="501" y="6"/>
                    <a:pt x="384" y="17"/>
                  </a:cubicBezTo>
                  <a:cubicBezTo>
                    <a:pt x="267" y="29"/>
                    <a:pt x="170" y="45"/>
                    <a:pt x="103" y="65"/>
                  </a:cubicBezTo>
                  <a:cubicBezTo>
                    <a:pt x="35" y="84"/>
                    <a:pt x="0" y="106"/>
                    <a:pt x="0" y="129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2406600" y="2577960"/>
              <a:ext cx="11271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 intern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90720" y="3273480"/>
              <a:ext cx="708480" cy="81360"/>
            </a:xfrm>
            <a:custGeom>
              <a:avLst/>
              <a:gdLst/>
              <a:ahLst/>
              <a:rect l="0" t="0" r="r" b="b"/>
              <a:pathLst>
                <a:path fill="none" w="1968" h="226">
                  <a:moveTo>
                    <a:pt x="0" y="226"/>
                  </a:moveTo>
                  <a:lnTo>
                    <a:pt x="0" y="226"/>
                  </a:lnTo>
                  <a:cubicBezTo>
                    <a:pt x="345" y="226"/>
                    <a:pt x="685" y="216"/>
                    <a:pt x="984" y="196"/>
                  </a:cubicBezTo>
                  <a:cubicBezTo>
                    <a:pt x="1283" y="176"/>
                    <a:pt x="1532" y="147"/>
                    <a:pt x="1704" y="113"/>
                  </a:cubicBezTo>
                  <a:cubicBezTo>
                    <a:pt x="1877" y="79"/>
                    <a:pt x="1968" y="40"/>
                    <a:pt x="1968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516040" y="3841920"/>
            <a:ext cx="1916280" cy="1303200"/>
            <a:chOff x="2516040" y="3841920"/>
            <a:chExt cx="1916280" cy="1303200"/>
          </a:xfrm>
        </p:grpSpPr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3381480" y="3963960"/>
              <a:ext cx="10508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 txBox="1"/>
            <p:nvPr/>
          </p:nvSpPr>
          <p:spPr>
            <a:xfrm>
              <a:off x="2516040" y="3841920"/>
              <a:ext cx="15811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Encapsul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Nod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H="1">
            <a:off x="3909960" y="2195640"/>
            <a:ext cx="1189080" cy="306360"/>
          </a:xfrm>
          <a:prstGeom prst="line">
            <a:avLst/>
          </a:prstGeom>
          <a:ln w="12600">
            <a:solidFill>
              <a:srgbClr val="14d3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17880" y="3373560"/>
            <a:ext cx="1279440" cy="569880"/>
          </a:xfrm>
          <a:prstGeom prst="line">
            <a:avLst/>
          </a:prstGeom>
          <a:ln w="12600">
            <a:solidFill>
              <a:srgbClr val="14d3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58960" y="1862280"/>
            <a:ext cx="742788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-based TCP/IP vendors focus on foreign host connectivity.  Products generally include a TCP/IP stack plus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ndors offer NBT support, allowing their stack to offer support LAN Manager and Windows for Workgroups networking as well as 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90720" y="1881360"/>
            <a:ext cx="7162920" cy="38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-based TCP/IP implementations are based on TSR technology, “robbing” MS-DOS-based application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ndors have (or plan to) offer DLL or VxD-based TCP/IP stacks for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veat:  DLL stacks offer no support for MS-DOS-based applications, must be used exclusively in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627200" y="1965240"/>
            <a:ext cx="58910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third parties provide specialized applications only (written to Windows Socke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e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ic mail packa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90720" y="130644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committed to build an extremely scalable Windows-based networking fra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committed to meeting customer requirements for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has taken an industry leading role in solving TCP/IP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olutions will adhere to open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61920" y="1455840"/>
            <a:ext cx="72198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ill provide basic connectivity utilities and is working closely with other vendors to ensure that quality Windows connectivity utilities and other TCP/IP technologies (for example, NFS) are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direction and focus:  offering a scalable Windows-based networking framework on all current and future Windows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-34920" y="14400"/>
            <a:ext cx="9418680" cy="63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TCP/IP?   TCP/IP?   TCP/IP?  TCP/I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TCP/IP?   TCP/IP?   TCP/IP?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?   TCP/IP?   TCP/IP?   TCP/IP?   TCP/IP?  TCP/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P?   TCP/IP?   TCP/IP?   TCP/IP?   TCP/IP?  TCP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P?    TCP/IP?   TCP/IP?   TCP/IP?   TCP/IP?  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/IP?      TCP/IP?   TCP/IP?   TCP/IP?   TCP/IP?  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P/IP?      TCP/IP?   TCP/IP?   TCP/IP?   TCP/IP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P/IP?      TCP/IP?   TCP/IP?   TCP/IP?   TCP/IP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   TCP/IP?   TCP/IP?   TCP/IP? 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    TCP/IP?   TCP/IP?   TCP/IP? 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?  TCP/IP?      TCP/IP?   TCP/IP?   TCP/IP?   TCP/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85640" y="23050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 And Answ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Did Microsoft            Choose TCP/IP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1480" y="1847880"/>
            <a:ext cx="81406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CP/IP suite of protocols represents robust solutions to real internetworking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 the “common denominator” protocol on most large corporate and public netwo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ly all networking vendors (both hardware and software) support TCP/I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212256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over TCP/IP (RFCs 1001/ 1002) provides a routable transport support for LAN Manager-based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ility of TCP/IP on all major OS platforms provides a foundation for foreign host connectiv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98440" y="228600"/>
            <a:ext cx="85485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TCP/IP Fit Into Microsoft’s Networking Strateg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Products Leveraging TCP/IP Techn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44720" y="1928880"/>
            <a:ext cx="573264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2.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Work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vance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Microsoft platform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85640" y="22860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 Manager 2.1 Archite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494000"/>
            <a:ext cx="716292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is based on a flexible, protocol-independent architectur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0560" y="4159080"/>
            <a:ext cx="2629080" cy="561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4724280"/>
            <a:ext cx="2629080" cy="561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52840" y="4834080"/>
            <a:ext cx="1619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/ICMP/A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38680" y="4286160"/>
            <a:ext cx="117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U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349800" y="5311800"/>
            <a:ext cx="2316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 Driver(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00400" y="3610080"/>
            <a:ext cx="12952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o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(N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6120" y="361152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33800" y="5292720"/>
            <a:ext cx="2625840" cy="343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0560" y="3532320"/>
            <a:ext cx="1360440" cy="628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491000" y="3532320"/>
            <a:ext cx="1270080" cy="628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2908440"/>
            <a:ext cx="1360440" cy="628560"/>
          </a:xfrm>
          <a:prstGeom prst="rect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92800" y="2908440"/>
            <a:ext cx="1270080" cy="628560"/>
          </a:xfrm>
          <a:prstGeom prst="rect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19440" y="3543480"/>
            <a:ext cx="1771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1000" y="3543480"/>
            <a:ext cx="1714680" cy="0"/>
          </a:xfrm>
          <a:prstGeom prst="line">
            <a:avLst/>
          </a:prstGeom>
          <a:ln w="12600">
            <a:solidFill>
              <a:srgbClr val="b760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05120" y="3279600"/>
            <a:ext cx="876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NetBI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70760" y="327960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Socke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662200" y="5299200"/>
            <a:ext cx="3111480" cy="144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052720" y="507348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ND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406680" y="2984400"/>
            <a:ext cx="874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49680" y="2981160"/>
            <a:ext cx="1152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646600" y="3200400"/>
            <a:ext cx="10494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399360" y="4264200"/>
            <a:ext cx="1162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 Manager 2.1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0960" y="1871640"/>
            <a:ext cx="76420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unctionality facilitated by NetBIOS over TCP/IP (NBT) specified in RFCs 1001/1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-node NBT implementation relies on  IP-level broadcasts for resource registration and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mhos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le allows static NetBIOS/name address mappings to be specifi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1001/1002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tBIOSOver TCP/IP) Works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b-no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4019400"/>
            <a:ext cx="71629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”, “Client B”, and “Server X” all broadcast to their local subnets to “register” their names with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registration reques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ckets.  Workstations are required to defend “registered” names by issuing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ative name registration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s during confli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” locates “Server X” by broadcasting 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query reques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cket to the local subnet, “Server X” responds with 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ve name query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B” locates “Server X” by broadcast (if the router passes port 137/138 traffic), or vi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mhosts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which overrides the local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query request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83000" y="2841480"/>
            <a:ext cx="52131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1920" y="3736800"/>
            <a:ext cx="4516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625920" y="3089160"/>
            <a:ext cx="1187280" cy="398520"/>
          </a:xfrm>
          <a:prstGeom prst="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Ro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60240" y="2816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408800" y="1582560"/>
            <a:ext cx="100476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445520" y="1943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35040" y="2490840"/>
            <a:ext cx="99540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957920" y="1504800"/>
            <a:ext cx="1526760" cy="1303560"/>
            <a:chOff x="4957920" y="1504800"/>
            <a:chExt cx="1526760" cy="1303560"/>
          </a:xfrm>
        </p:grpSpPr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5433840" y="1627200"/>
              <a:ext cx="10508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 txBox="1"/>
            <p:nvPr/>
          </p:nvSpPr>
          <p:spPr>
            <a:xfrm>
              <a:off x="4957920" y="1504800"/>
              <a:ext cx="1054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Server 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213080" y="2844720"/>
            <a:ext cx="0" cy="21744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4880" y="3508200"/>
            <a:ext cx="0" cy="2160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