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87374E5-469E-4F32-B1E2-777EEDF227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G also defining embedded SQL.  This is an alternative programming method.  Makes more sense for apps talking to multiple DB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 is based on SQL, but in no way means that only talks to SQL or relational dbms.  Just a good choice of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data is remote, need comm /networking (asynch, 3270, named pipes, net bios)....ODBC spec designe d to work with vendor-supplied communication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hancements for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does ODBC get implemented in Applications?  Again, let's go back to the printer analogy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YF vision means ability to browse, manipulate all data from you PC. It's the main "window" to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tta get to it.  Many different kinds of data, different formats, from SQL to file-based, to hierarchical to home-brew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data, server-based, mini, or mainframe-b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d on different OS's, communication/net to get there......it's a complicated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s to be easy for u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s to be easy for application developers, corporate developers (lots of proprietary data), and people who need to install, support, and main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% of S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turnout given that design review last we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tion what support mea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applications that make ODBC calls to 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ing, insta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tion that Microsoft is developing a few drivers ourselves to bootstrap the driver effort, but expect lots of third-party work (reference lessons of early Win/OS/2 printer driv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ed in an open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utral to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utral to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about other environmen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about Macintos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s  talk to dBase, SQL Server, Oracle, Paradox, but not alot of support for others.  Far from getting at all data within enterp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ase API's and APP api's for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pp vendor, each database is a new, unique exper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QL is the beginning of a standard, but are differences  in synt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ces in dbms functi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ngs SQL doesn't add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existing solutions: DAL, EDA, Datalens, SQL-Link.  All do about same thing,  but suffer from one or more problem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Not open (not a system SW minds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Haven't generated critical mass (resources, commitment, strateg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Is  ultimately a sys sw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700600" y="33480"/>
            <a:ext cx="34815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ian Moran93101 Xhibition ‘93 (2rd talk) 6/93 </a:t>
            </a:r>
            <a:fld id="{DF7088AC-43C2-4F58-BF7B-4701B8428112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6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6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6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0.wmf"/><Relationship Id="rId8" Type="http://schemas.openxmlformats.org/officeDocument/2006/relationships/image" Target="../media/image14.wmf"/><Relationship Id="rId9" Type="http://schemas.openxmlformats.org/officeDocument/2006/relationships/image" Target="../media/image13.wmf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2.wmf"/><Relationship Id="rId6" Type="http://schemas.openxmlformats.org/officeDocument/2006/relationships/image" Target="../media/image10.wmf"/><Relationship Id="rId7" Type="http://schemas.openxmlformats.org/officeDocument/2006/relationships/image" Target="../media/image17.wm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85640" y="1174680"/>
            <a:ext cx="8172360" cy="37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 Database Connectivity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verview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rian Moran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07800" y="228600"/>
            <a:ext cx="8529480" cy="65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 Database Connectivity (ODBC)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19040" y="1943280"/>
            <a:ext cx="716292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for connecting to datab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d on SQL Access Group (SAG) CL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ad industry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Access API in a future version of Window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808680" y="1293840"/>
            <a:ext cx="20210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2035080" y="228600"/>
            <a:ext cx="50734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Provides 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 Connectiv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122480" y="1436760"/>
            <a:ext cx="6821640" cy="48862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>
            <a:off x="3362400" y="3532320"/>
            <a:ext cx="2257560" cy="879480"/>
          </a:xfrm>
          <a:prstGeom prst="rect">
            <a:avLst/>
          </a:prstGeom>
          <a:solidFill>
            <a:srgbClr val="00279f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584360" y="2824200"/>
            <a:ext cx="259704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eadshee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527800" y="2631960"/>
            <a:ext cx="141912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or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r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113360" y="2438280"/>
            <a:ext cx="82872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70040" y="1366920"/>
            <a:ext cx="120960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427800" y="1409760"/>
            <a:ext cx="183996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ktop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shing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984480" y="1389240"/>
            <a:ext cx="1133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390680" y="5481720"/>
            <a:ext cx="117144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AM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570040" y="6167520"/>
            <a:ext cx="128592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SAM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770280" y="5289480"/>
            <a:ext cx="151452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DBM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927680" y="6167520"/>
            <a:ext cx="170496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-tim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127920" y="5524560"/>
            <a:ext cx="150480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at Fil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955800" y="228600"/>
            <a:ext cx="7232760" cy="13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5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</a:t>
            </a:r>
            <a:br>
              <a:rPr sz="4500"/>
            </a:br>
            <a:r>
              <a:rPr b="1" lang="en-US" sz="45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enefits Of A Standard API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990720" y="1924200"/>
            <a:ext cx="7162920" cy="33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al database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Scalability for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adens application support for datab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es development bur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ifies API conf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80960" y="228600"/>
            <a:ext cx="81835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Technical 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238400" y="1333440"/>
            <a:ext cx="6667560" cy="43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Level Interface (CL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-ba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SQL and non-SQL datab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G spec plus enhancements f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ty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ror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rollable curs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1538280" y="228600"/>
            <a:ext cx="60688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822240" y="1589040"/>
            <a:ext cx="3254400" cy="811080"/>
          </a:xfrm>
          <a:prstGeom prst="rect">
            <a:avLst/>
          </a:prstGeom>
          <a:gradFill rotWithShape="0">
            <a:gsLst>
              <a:gs pos="0">
                <a:srgbClr val="001b6f"/>
              </a:gs>
              <a:gs pos="100000">
                <a:srgbClr val="00279f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812880" y="3386160"/>
            <a:ext cx="3262320" cy="880920"/>
          </a:xfrm>
          <a:prstGeom prst="rect">
            <a:avLst/>
          </a:prstGeom>
          <a:solidFill>
            <a:srgbClr val="bc37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 drive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822240" y="2486160"/>
            <a:ext cx="3244680" cy="814320"/>
          </a:xfrm>
          <a:prstGeom prst="rect">
            <a:avLst/>
          </a:prstGeom>
          <a:gradFill rotWithShape="0">
            <a:gsLst>
              <a:gs pos="0">
                <a:srgbClr val="007900"/>
              </a:gs>
              <a:gs pos="100000">
                <a:srgbClr val="00ae00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 Manage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803160" y="2443320"/>
            <a:ext cx="4538880" cy="7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6160" bIns="-56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00280" y="3341520"/>
            <a:ext cx="44956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75240" y="2214720"/>
            <a:ext cx="193356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 API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553000" y="3033720"/>
            <a:ext cx="187164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 SPI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798480" y="4348080"/>
            <a:ext cx="3257640" cy="817560"/>
          </a:xfrm>
          <a:prstGeom prst="rect">
            <a:avLst/>
          </a:prstGeom>
          <a:solidFill>
            <a:srgbClr val="004e4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98480" y="4305240"/>
            <a:ext cx="44956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484960" y="4011480"/>
            <a:ext cx="303696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Interfac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386400" y="5819760"/>
            <a:ext cx="1946160" cy="6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b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633840" y="5448240"/>
            <a:ext cx="2572200" cy="1075320"/>
            <a:chOff x="3633840" y="5448240"/>
            <a:chExt cx="2572200" cy="1075320"/>
          </a:xfrm>
        </p:grpSpPr>
        <p:sp>
          <p:nvSpPr>
            <p:cNvPr id="200" name=""/>
            <p:cNvSpPr/>
            <p:nvPr/>
          </p:nvSpPr>
          <p:spPr>
            <a:xfrm>
              <a:off x="3633840" y="5448240"/>
              <a:ext cx="2572200" cy="1065600"/>
            </a:xfrm>
            <a:custGeom>
              <a:avLst/>
              <a:gdLst/>
              <a:ahLst/>
              <a:rect l="0" t="0" r="r" b="b"/>
              <a:pathLst>
                <a:path w="7145" h="2960">
                  <a:moveTo>
                    <a:pt x="0" y="0"/>
                  </a:moveTo>
                  <a:lnTo>
                    <a:pt x="0" y="189"/>
                  </a:lnTo>
                  <a:lnTo>
                    <a:pt x="123" y="332"/>
                  </a:lnTo>
                  <a:lnTo>
                    <a:pt x="224" y="447"/>
                  </a:lnTo>
                  <a:lnTo>
                    <a:pt x="371" y="587"/>
                  </a:lnTo>
                  <a:lnTo>
                    <a:pt x="550" y="744"/>
                  </a:lnTo>
                  <a:lnTo>
                    <a:pt x="715" y="850"/>
                  </a:lnTo>
                  <a:lnTo>
                    <a:pt x="937" y="1009"/>
                  </a:lnTo>
                  <a:lnTo>
                    <a:pt x="1161" y="1160"/>
                  </a:lnTo>
                  <a:lnTo>
                    <a:pt x="1386" y="1298"/>
                  </a:lnTo>
                  <a:lnTo>
                    <a:pt x="1679" y="1465"/>
                  </a:lnTo>
                  <a:lnTo>
                    <a:pt x="1904" y="1576"/>
                  </a:lnTo>
                  <a:lnTo>
                    <a:pt x="2219" y="1714"/>
                  </a:lnTo>
                  <a:lnTo>
                    <a:pt x="2568" y="1865"/>
                  </a:lnTo>
                  <a:lnTo>
                    <a:pt x="2916" y="2003"/>
                  </a:lnTo>
                  <a:lnTo>
                    <a:pt x="3183" y="2100"/>
                  </a:lnTo>
                  <a:lnTo>
                    <a:pt x="3565" y="2198"/>
                  </a:lnTo>
                  <a:lnTo>
                    <a:pt x="3883" y="2269"/>
                  </a:lnTo>
                  <a:lnTo>
                    <a:pt x="4221" y="2323"/>
                  </a:lnTo>
                  <a:lnTo>
                    <a:pt x="4577" y="2364"/>
                  </a:lnTo>
                  <a:lnTo>
                    <a:pt x="4787" y="2370"/>
                  </a:lnTo>
                  <a:lnTo>
                    <a:pt x="5038" y="2364"/>
                  </a:lnTo>
                  <a:lnTo>
                    <a:pt x="5229" y="2350"/>
                  </a:lnTo>
                  <a:lnTo>
                    <a:pt x="5417" y="2337"/>
                  </a:lnTo>
                  <a:lnTo>
                    <a:pt x="5567" y="2309"/>
                  </a:lnTo>
                  <a:lnTo>
                    <a:pt x="5567" y="2960"/>
                  </a:lnTo>
                  <a:lnTo>
                    <a:pt x="5755" y="2795"/>
                  </a:lnTo>
                  <a:lnTo>
                    <a:pt x="5991" y="2606"/>
                  </a:lnTo>
                  <a:lnTo>
                    <a:pt x="6238" y="2418"/>
                  </a:lnTo>
                  <a:lnTo>
                    <a:pt x="6531" y="2242"/>
                  </a:lnTo>
                  <a:lnTo>
                    <a:pt x="6752" y="2139"/>
                  </a:lnTo>
                  <a:lnTo>
                    <a:pt x="7145" y="2037"/>
                  </a:lnTo>
                  <a:lnTo>
                    <a:pt x="7142" y="1892"/>
                  </a:lnTo>
                  <a:lnTo>
                    <a:pt x="6823" y="1798"/>
                  </a:lnTo>
                  <a:lnTo>
                    <a:pt x="6489" y="1689"/>
                  </a:lnTo>
                  <a:lnTo>
                    <a:pt x="6152" y="1533"/>
                  </a:lnTo>
                  <a:lnTo>
                    <a:pt x="5882" y="1382"/>
                  </a:lnTo>
                  <a:lnTo>
                    <a:pt x="5725" y="1284"/>
                  </a:lnTo>
                  <a:lnTo>
                    <a:pt x="5556" y="1126"/>
                  </a:lnTo>
                  <a:lnTo>
                    <a:pt x="5556" y="1680"/>
                  </a:lnTo>
                  <a:lnTo>
                    <a:pt x="5229" y="1714"/>
                  </a:lnTo>
                  <a:lnTo>
                    <a:pt x="4937" y="1727"/>
                  </a:lnTo>
                  <a:lnTo>
                    <a:pt x="4599" y="1714"/>
                  </a:lnTo>
                  <a:lnTo>
                    <a:pt x="4266" y="1687"/>
                  </a:lnTo>
                  <a:lnTo>
                    <a:pt x="3883" y="1630"/>
                  </a:lnTo>
                  <a:lnTo>
                    <a:pt x="3542" y="1576"/>
                  </a:lnTo>
                  <a:lnTo>
                    <a:pt x="3063" y="1472"/>
                  </a:lnTo>
                  <a:lnTo>
                    <a:pt x="2669" y="1368"/>
                  </a:lnTo>
                  <a:lnTo>
                    <a:pt x="2321" y="1257"/>
                  </a:lnTo>
                  <a:lnTo>
                    <a:pt x="1949" y="1119"/>
                  </a:lnTo>
                  <a:lnTo>
                    <a:pt x="1772" y="1054"/>
                  </a:lnTo>
                  <a:lnTo>
                    <a:pt x="1611" y="995"/>
                  </a:lnTo>
                  <a:lnTo>
                    <a:pt x="1472" y="934"/>
                  </a:lnTo>
                  <a:lnTo>
                    <a:pt x="1341" y="871"/>
                  </a:lnTo>
                  <a:lnTo>
                    <a:pt x="1094" y="760"/>
                  </a:lnTo>
                  <a:lnTo>
                    <a:pt x="929" y="666"/>
                  </a:lnTo>
                  <a:lnTo>
                    <a:pt x="802" y="594"/>
                  </a:lnTo>
                  <a:lnTo>
                    <a:pt x="674" y="519"/>
                  </a:lnTo>
                  <a:lnTo>
                    <a:pt x="554" y="440"/>
                  </a:lnTo>
                  <a:lnTo>
                    <a:pt x="453" y="372"/>
                  </a:lnTo>
                  <a:lnTo>
                    <a:pt x="333" y="291"/>
                  </a:lnTo>
                  <a:lnTo>
                    <a:pt x="213" y="192"/>
                  </a:lnTo>
                  <a:lnTo>
                    <a:pt x="97" y="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633840" y="5513400"/>
              <a:ext cx="2572200" cy="1010160"/>
            </a:xfrm>
            <a:custGeom>
              <a:avLst/>
              <a:gdLst/>
              <a:ahLst/>
              <a:rect l="0" t="0" r="r" b="b"/>
              <a:pathLst>
                <a:path w="7145" h="2806">
                  <a:moveTo>
                    <a:pt x="0" y="0"/>
                  </a:moveTo>
                  <a:lnTo>
                    <a:pt x="93" y="158"/>
                  </a:lnTo>
                  <a:lnTo>
                    <a:pt x="179" y="284"/>
                  </a:lnTo>
                  <a:lnTo>
                    <a:pt x="269" y="391"/>
                  </a:lnTo>
                  <a:lnTo>
                    <a:pt x="382" y="513"/>
                  </a:lnTo>
                  <a:lnTo>
                    <a:pt x="543" y="680"/>
                  </a:lnTo>
                  <a:lnTo>
                    <a:pt x="719" y="833"/>
                  </a:lnTo>
                  <a:lnTo>
                    <a:pt x="941" y="989"/>
                  </a:lnTo>
                  <a:lnTo>
                    <a:pt x="1166" y="1138"/>
                  </a:lnTo>
                  <a:lnTo>
                    <a:pt x="1391" y="1274"/>
                  </a:lnTo>
                  <a:lnTo>
                    <a:pt x="1683" y="1437"/>
                  </a:lnTo>
                  <a:lnTo>
                    <a:pt x="1909" y="1545"/>
                  </a:lnTo>
                  <a:lnTo>
                    <a:pt x="2224" y="1681"/>
                  </a:lnTo>
                  <a:lnTo>
                    <a:pt x="2573" y="1830"/>
                  </a:lnTo>
                  <a:lnTo>
                    <a:pt x="2922" y="1966"/>
                  </a:lnTo>
                  <a:lnTo>
                    <a:pt x="3188" y="2061"/>
                  </a:lnTo>
                  <a:lnTo>
                    <a:pt x="3570" y="2157"/>
                  </a:lnTo>
                  <a:lnTo>
                    <a:pt x="3889" y="2225"/>
                  </a:lnTo>
                  <a:lnTo>
                    <a:pt x="4227" y="2279"/>
                  </a:lnTo>
                  <a:lnTo>
                    <a:pt x="4583" y="2320"/>
                  </a:lnTo>
                  <a:lnTo>
                    <a:pt x="4793" y="2327"/>
                  </a:lnTo>
                  <a:lnTo>
                    <a:pt x="5044" y="2320"/>
                  </a:lnTo>
                  <a:lnTo>
                    <a:pt x="5235" y="2306"/>
                  </a:lnTo>
                  <a:lnTo>
                    <a:pt x="5424" y="2293"/>
                  </a:lnTo>
                  <a:lnTo>
                    <a:pt x="5574" y="2266"/>
                  </a:lnTo>
                  <a:lnTo>
                    <a:pt x="5574" y="2806"/>
                  </a:lnTo>
                  <a:lnTo>
                    <a:pt x="5776" y="2636"/>
                  </a:lnTo>
                  <a:lnTo>
                    <a:pt x="5979" y="2480"/>
                  </a:lnTo>
                  <a:lnTo>
                    <a:pt x="6249" y="2279"/>
                  </a:lnTo>
                  <a:lnTo>
                    <a:pt x="6541" y="2116"/>
                  </a:lnTo>
                  <a:lnTo>
                    <a:pt x="6808" y="1980"/>
                  </a:lnTo>
                  <a:lnTo>
                    <a:pt x="7145" y="1857"/>
                  </a:lnTo>
                  <a:lnTo>
                    <a:pt x="6830" y="1762"/>
                  </a:lnTo>
                  <a:lnTo>
                    <a:pt x="6500" y="1652"/>
                  </a:lnTo>
                  <a:lnTo>
                    <a:pt x="6159" y="1505"/>
                  </a:lnTo>
                  <a:lnTo>
                    <a:pt x="5889" y="1355"/>
                  </a:lnTo>
                  <a:lnTo>
                    <a:pt x="5731" y="1260"/>
                  </a:lnTo>
                  <a:lnTo>
                    <a:pt x="5563" y="1104"/>
                  </a:lnTo>
                  <a:lnTo>
                    <a:pt x="5563" y="1647"/>
                  </a:lnTo>
                  <a:lnTo>
                    <a:pt x="5235" y="1681"/>
                  </a:lnTo>
                  <a:lnTo>
                    <a:pt x="4943" y="1695"/>
                  </a:lnTo>
                  <a:lnTo>
                    <a:pt x="4605" y="1681"/>
                  </a:lnTo>
                  <a:lnTo>
                    <a:pt x="4272" y="1654"/>
                  </a:lnTo>
                  <a:lnTo>
                    <a:pt x="3889" y="1600"/>
                  </a:lnTo>
                  <a:lnTo>
                    <a:pt x="3548" y="1545"/>
                  </a:lnTo>
                  <a:lnTo>
                    <a:pt x="3064" y="1444"/>
                  </a:lnTo>
                  <a:lnTo>
                    <a:pt x="2674" y="1342"/>
                  </a:lnTo>
                  <a:lnTo>
                    <a:pt x="2326" y="1233"/>
                  </a:lnTo>
                  <a:lnTo>
                    <a:pt x="1954" y="1097"/>
                  </a:lnTo>
                  <a:lnTo>
                    <a:pt x="1777" y="1034"/>
                  </a:lnTo>
                  <a:lnTo>
                    <a:pt x="1616" y="975"/>
                  </a:lnTo>
                  <a:lnTo>
                    <a:pt x="1477" y="917"/>
                  </a:lnTo>
                  <a:lnTo>
                    <a:pt x="1346" y="853"/>
                  </a:lnTo>
                  <a:lnTo>
                    <a:pt x="1098" y="745"/>
                  </a:lnTo>
                  <a:lnTo>
                    <a:pt x="933" y="653"/>
                  </a:lnTo>
                  <a:lnTo>
                    <a:pt x="806" y="581"/>
                  </a:lnTo>
                  <a:lnTo>
                    <a:pt x="678" y="506"/>
                  </a:lnTo>
                  <a:lnTo>
                    <a:pt x="558" y="429"/>
                  </a:lnTo>
                  <a:lnTo>
                    <a:pt x="457" y="364"/>
                  </a:lnTo>
                  <a:lnTo>
                    <a:pt x="337" y="284"/>
                  </a:lnTo>
                  <a:lnTo>
                    <a:pt x="217" y="187"/>
                  </a:lnTo>
                  <a:lnTo>
                    <a:pt x="101" y="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57240" y="228600"/>
            <a:ext cx="90313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Architecture Examp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822240" y="1389240"/>
            <a:ext cx="3297240" cy="833400"/>
          </a:xfrm>
          <a:prstGeom prst="rect">
            <a:avLst/>
          </a:prstGeom>
          <a:gradFill rotWithShape="0">
            <a:gsLst>
              <a:gs pos="0">
                <a:srgbClr val="001b6f"/>
              </a:gs>
              <a:gs pos="100000">
                <a:srgbClr val="00279f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812880" y="3108240"/>
            <a:ext cx="3305160" cy="752400"/>
          </a:xfrm>
          <a:prstGeom prst="rect">
            <a:avLst/>
          </a:prstGeom>
          <a:solidFill>
            <a:srgbClr val="bc37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Server drive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822240" y="2293920"/>
            <a:ext cx="3287880" cy="757080"/>
          </a:xfrm>
          <a:prstGeom prst="rect">
            <a:avLst/>
          </a:prstGeom>
          <a:gradFill rotWithShape="0">
            <a:gsLst>
              <a:gs pos="0">
                <a:srgbClr val="007900"/>
              </a:gs>
              <a:gs pos="100000">
                <a:srgbClr val="00ae00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 Manage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803160" y="2251080"/>
            <a:ext cx="4538880" cy="64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22240" y="3084480"/>
            <a:ext cx="449604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518080" y="2021040"/>
            <a:ext cx="20257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  API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532480" y="2797200"/>
            <a:ext cx="187164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 SPI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812880" y="3875040"/>
            <a:ext cx="3305160" cy="70164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lib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833400" y="4656240"/>
            <a:ext cx="3286080" cy="701640"/>
          </a:xfrm>
          <a:prstGeom prst="rect">
            <a:avLst/>
          </a:prstGeom>
          <a:solidFill>
            <a:srgbClr val="004e4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41320" y="3898800"/>
            <a:ext cx="44956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33400" y="4608360"/>
            <a:ext cx="4567320" cy="64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5551560" y="4264200"/>
            <a:ext cx="219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d Pipe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570640" y="3540240"/>
            <a:ext cx="183024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lib API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386400" y="5911920"/>
            <a:ext cx="2467080" cy="6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Serv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633840" y="5448240"/>
            <a:ext cx="2572200" cy="1075320"/>
            <a:chOff x="3633840" y="5448240"/>
            <a:chExt cx="2572200" cy="1075320"/>
          </a:xfrm>
        </p:grpSpPr>
        <p:sp>
          <p:nvSpPr>
            <p:cNvPr id="218" name=""/>
            <p:cNvSpPr/>
            <p:nvPr/>
          </p:nvSpPr>
          <p:spPr>
            <a:xfrm>
              <a:off x="3633840" y="5448240"/>
              <a:ext cx="2572200" cy="1065600"/>
            </a:xfrm>
            <a:custGeom>
              <a:avLst/>
              <a:gdLst/>
              <a:ahLst/>
              <a:rect l="0" t="0" r="r" b="b"/>
              <a:pathLst>
                <a:path w="7145" h="2960">
                  <a:moveTo>
                    <a:pt x="0" y="0"/>
                  </a:moveTo>
                  <a:lnTo>
                    <a:pt x="0" y="189"/>
                  </a:lnTo>
                  <a:lnTo>
                    <a:pt x="123" y="332"/>
                  </a:lnTo>
                  <a:lnTo>
                    <a:pt x="224" y="447"/>
                  </a:lnTo>
                  <a:lnTo>
                    <a:pt x="371" y="587"/>
                  </a:lnTo>
                  <a:lnTo>
                    <a:pt x="550" y="744"/>
                  </a:lnTo>
                  <a:lnTo>
                    <a:pt x="715" y="850"/>
                  </a:lnTo>
                  <a:lnTo>
                    <a:pt x="937" y="1009"/>
                  </a:lnTo>
                  <a:lnTo>
                    <a:pt x="1161" y="1160"/>
                  </a:lnTo>
                  <a:lnTo>
                    <a:pt x="1386" y="1298"/>
                  </a:lnTo>
                  <a:lnTo>
                    <a:pt x="1679" y="1465"/>
                  </a:lnTo>
                  <a:lnTo>
                    <a:pt x="1904" y="1576"/>
                  </a:lnTo>
                  <a:lnTo>
                    <a:pt x="2219" y="1714"/>
                  </a:lnTo>
                  <a:lnTo>
                    <a:pt x="2568" y="1865"/>
                  </a:lnTo>
                  <a:lnTo>
                    <a:pt x="2916" y="2003"/>
                  </a:lnTo>
                  <a:lnTo>
                    <a:pt x="3183" y="2100"/>
                  </a:lnTo>
                  <a:lnTo>
                    <a:pt x="3565" y="2198"/>
                  </a:lnTo>
                  <a:lnTo>
                    <a:pt x="3883" y="2269"/>
                  </a:lnTo>
                  <a:lnTo>
                    <a:pt x="4221" y="2323"/>
                  </a:lnTo>
                  <a:lnTo>
                    <a:pt x="4577" y="2364"/>
                  </a:lnTo>
                  <a:lnTo>
                    <a:pt x="4787" y="2370"/>
                  </a:lnTo>
                  <a:lnTo>
                    <a:pt x="5038" y="2364"/>
                  </a:lnTo>
                  <a:lnTo>
                    <a:pt x="5229" y="2350"/>
                  </a:lnTo>
                  <a:lnTo>
                    <a:pt x="5417" y="2337"/>
                  </a:lnTo>
                  <a:lnTo>
                    <a:pt x="5567" y="2309"/>
                  </a:lnTo>
                  <a:lnTo>
                    <a:pt x="5567" y="2960"/>
                  </a:lnTo>
                  <a:lnTo>
                    <a:pt x="5755" y="2795"/>
                  </a:lnTo>
                  <a:lnTo>
                    <a:pt x="5991" y="2606"/>
                  </a:lnTo>
                  <a:lnTo>
                    <a:pt x="6238" y="2418"/>
                  </a:lnTo>
                  <a:lnTo>
                    <a:pt x="6531" y="2242"/>
                  </a:lnTo>
                  <a:lnTo>
                    <a:pt x="6752" y="2139"/>
                  </a:lnTo>
                  <a:lnTo>
                    <a:pt x="7145" y="2037"/>
                  </a:lnTo>
                  <a:lnTo>
                    <a:pt x="7142" y="1892"/>
                  </a:lnTo>
                  <a:lnTo>
                    <a:pt x="6823" y="1798"/>
                  </a:lnTo>
                  <a:lnTo>
                    <a:pt x="6489" y="1689"/>
                  </a:lnTo>
                  <a:lnTo>
                    <a:pt x="6152" y="1533"/>
                  </a:lnTo>
                  <a:lnTo>
                    <a:pt x="5882" y="1382"/>
                  </a:lnTo>
                  <a:lnTo>
                    <a:pt x="5725" y="1284"/>
                  </a:lnTo>
                  <a:lnTo>
                    <a:pt x="5556" y="1126"/>
                  </a:lnTo>
                  <a:lnTo>
                    <a:pt x="5556" y="1680"/>
                  </a:lnTo>
                  <a:lnTo>
                    <a:pt x="5229" y="1714"/>
                  </a:lnTo>
                  <a:lnTo>
                    <a:pt x="4937" y="1727"/>
                  </a:lnTo>
                  <a:lnTo>
                    <a:pt x="4599" y="1714"/>
                  </a:lnTo>
                  <a:lnTo>
                    <a:pt x="4266" y="1687"/>
                  </a:lnTo>
                  <a:lnTo>
                    <a:pt x="3883" y="1630"/>
                  </a:lnTo>
                  <a:lnTo>
                    <a:pt x="3542" y="1576"/>
                  </a:lnTo>
                  <a:lnTo>
                    <a:pt x="3063" y="1472"/>
                  </a:lnTo>
                  <a:lnTo>
                    <a:pt x="2669" y="1368"/>
                  </a:lnTo>
                  <a:lnTo>
                    <a:pt x="2321" y="1257"/>
                  </a:lnTo>
                  <a:lnTo>
                    <a:pt x="1949" y="1119"/>
                  </a:lnTo>
                  <a:lnTo>
                    <a:pt x="1772" y="1054"/>
                  </a:lnTo>
                  <a:lnTo>
                    <a:pt x="1611" y="995"/>
                  </a:lnTo>
                  <a:lnTo>
                    <a:pt x="1472" y="934"/>
                  </a:lnTo>
                  <a:lnTo>
                    <a:pt x="1341" y="871"/>
                  </a:lnTo>
                  <a:lnTo>
                    <a:pt x="1094" y="760"/>
                  </a:lnTo>
                  <a:lnTo>
                    <a:pt x="929" y="666"/>
                  </a:lnTo>
                  <a:lnTo>
                    <a:pt x="802" y="594"/>
                  </a:lnTo>
                  <a:lnTo>
                    <a:pt x="674" y="519"/>
                  </a:lnTo>
                  <a:lnTo>
                    <a:pt x="554" y="440"/>
                  </a:lnTo>
                  <a:lnTo>
                    <a:pt x="453" y="372"/>
                  </a:lnTo>
                  <a:lnTo>
                    <a:pt x="333" y="291"/>
                  </a:lnTo>
                  <a:lnTo>
                    <a:pt x="213" y="192"/>
                  </a:lnTo>
                  <a:lnTo>
                    <a:pt x="97" y="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33840" y="5513400"/>
              <a:ext cx="2572200" cy="1010160"/>
            </a:xfrm>
            <a:custGeom>
              <a:avLst/>
              <a:gdLst/>
              <a:ahLst/>
              <a:rect l="0" t="0" r="r" b="b"/>
              <a:pathLst>
                <a:path w="7145" h="2806">
                  <a:moveTo>
                    <a:pt x="0" y="0"/>
                  </a:moveTo>
                  <a:lnTo>
                    <a:pt x="93" y="158"/>
                  </a:lnTo>
                  <a:lnTo>
                    <a:pt x="179" y="284"/>
                  </a:lnTo>
                  <a:lnTo>
                    <a:pt x="269" y="391"/>
                  </a:lnTo>
                  <a:lnTo>
                    <a:pt x="382" y="513"/>
                  </a:lnTo>
                  <a:lnTo>
                    <a:pt x="543" y="680"/>
                  </a:lnTo>
                  <a:lnTo>
                    <a:pt x="719" y="833"/>
                  </a:lnTo>
                  <a:lnTo>
                    <a:pt x="941" y="989"/>
                  </a:lnTo>
                  <a:lnTo>
                    <a:pt x="1166" y="1138"/>
                  </a:lnTo>
                  <a:lnTo>
                    <a:pt x="1391" y="1274"/>
                  </a:lnTo>
                  <a:lnTo>
                    <a:pt x="1683" y="1437"/>
                  </a:lnTo>
                  <a:lnTo>
                    <a:pt x="1909" y="1545"/>
                  </a:lnTo>
                  <a:lnTo>
                    <a:pt x="2224" y="1681"/>
                  </a:lnTo>
                  <a:lnTo>
                    <a:pt x="2573" y="1830"/>
                  </a:lnTo>
                  <a:lnTo>
                    <a:pt x="2922" y="1966"/>
                  </a:lnTo>
                  <a:lnTo>
                    <a:pt x="3188" y="2061"/>
                  </a:lnTo>
                  <a:lnTo>
                    <a:pt x="3570" y="2157"/>
                  </a:lnTo>
                  <a:lnTo>
                    <a:pt x="3889" y="2225"/>
                  </a:lnTo>
                  <a:lnTo>
                    <a:pt x="4227" y="2279"/>
                  </a:lnTo>
                  <a:lnTo>
                    <a:pt x="4583" y="2320"/>
                  </a:lnTo>
                  <a:lnTo>
                    <a:pt x="4793" y="2327"/>
                  </a:lnTo>
                  <a:lnTo>
                    <a:pt x="5044" y="2320"/>
                  </a:lnTo>
                  <a:lnTo>
                    <a:pt x="5235" y="2306"/>
                  </a:lnTo>
                  <a:lnTo>
                    <a:pt x="5424" y="2293"/>
                  </a:lnTo>
                  <a:lnTo>
                    <a:pt x="5574" y="2266"/>
                  </a:lnTo>
                  <a:lnTo>
                    <a:pt x="5574" y="2806"/>
                  </a:lnTo>
                  <a:lnTo>
                    <a:pt x="5776" y="2636"/>
                  </a:lnTo>
                  <a:lnTo>
                    <a:pt x="5979" y="2480"/>
                  </a:lnTo>
                  <a:lnTo>
                    <a:pt x="6249" y="2279"/>
                  </a:lnTo>
                  <a:lnTo>
                    <a:pt x="6541" y="2116"/>
                  </a:lnTo>
                  <a:lnTo>
                    <a:pt x="6808" y="1980"/>
                  </a:lnTo>
                  <a:lnTo>
                    <a:pt x="7145" y="1857"/>
                  </a:lnTo>
                  <a:lnTo>
                    <a:pt x="6830" y="1762"/>
                  </a:lnTo>
                  <a:lnTo>
                    <a:pt x="6500" y="1652"/>
                  </a:lnTo>
                  <a:lnTo>
                    <a:pt x="6159" y="1505"/>
                  </a:lnTo>
                  <a:lnTo>
                    <a:pt x="5889" y="1355"/>
                  </a:lnTo>
                  <a:lnTo>
                    <a:pt x="5731" y="1260"/>
                  </a:lnTo>
                  <a:lnTo>
                    <a:pt x="5563" y="1104"/>
                  </a:lnTo>
                  <a:lnTo>
                    <a:pt x="5563" y="1647"/>
                  </a:lnTo>
                  <a:lnTo>
                    <a:pt x="5235" y="1681"/>
                  </a:lnTo>
                  <a:lnTo>
                    <a:pt x="4943" y="1695"/>
                  </a:lnTo>
                  <a:lnTo>
                    <a:pt x="4605" y="1681"/>
                  </a:lnTo>
                  <a:lnTo>
                    <a:pt x="4272" y="1654"/>
                  </a:lnTo>
                  <a:lnTo>
                    <a:pt x="3889" y="1600"/>
                  </a:lnTo>
                  <a:lnTo>
                    <a:pt x="3548" y="1545"/>
                  </a:lnTo>
                  <a:lnTo>
                    <a:pt x="3064" y="1444"/>
                  </a:lnTo>
                  <a:lnTo>
                    <a:pt x="2674" y="1342"/>
                  </a:lnTo>
                  <a:lnTo>
                    <a:pt x="2326" y="1233"/>
                  </a:lnTo>
                  <a:lnTo>
                    <a:pt x="1954" y="1097"/>
                  </a:lnTo>
                  <a:lnTo>
                    <a:pt x="1777" y="1034"/>
                  </a:lnTo>
                  <a:lnTo>
                    <a:pt x="1616" y="975"/>
                  </a:lnTo>
                  <a:lnTo>
                    <a:pt x="1477" y="917"/>
                  </a:lnTo>
                  <a:lnTo>
                    <a:pt x="1346" y="853"/>
                  </a:lnTo>
                  <a:lnTo>
                    <a:pt x="1098" y="745"/>
                  </a:lnTo>
                  <a:lnTo>
                    <a:pt x="933" y="653"/>
                  </a:lnTo>
                  <a:lnTo>
                    <a:pt x="806" y="581"/>
                  </a:lnTo>
                  <a:lnTo>
                    <a:pt x="678" y="506"/>
                  </a:lnTo>
                  <a:lnTo>
                    <a:pt x="558" y="429"/>
                  </a:lnTo>
                  <a:lnTo>
                    <a:pt x="457" y="364"/>
                  </a:lnTo>
                  <a:lnTo>
                    <a:pt x="337" y="284"/>
                  </a:lnTo>
                  <a:lnTo>
                    <a:pt x="217" y="187"/>
                  </a:lnTo>
                  <a:lnTo>
                    <a:pt x="101" y="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14320" y="228600"/>
            <a:ext cx="7515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ree Tier Driver Mode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09520" y="1143000"/>
            <a:ext cx="872496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e tier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llig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ically for file access (dBASE,    Paradox) "Engine in a Driver"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 and three tier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ically for database servers, intelligent backends, gateways (Oracle, SQL Server, DEC Rdb, Ingres, Teradata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Passthru" logic (where applicab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317600" y="700200"/>
            <a:ext cx="6462720" cy="48322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2017800" y="4191120"/>
            <a:ext cx="153828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575160" y="2608200"/>
            <a:ext cx="987480" cy="1382760"/>
          </a:xfrm>
          <a:prstGeom prst="rect">
            <a:avLst/>
          </a:prstGeom>
          <a:gradFill rotWithShape="0">
            <a:gsLst>
              <a:gs pos="0">
                <a:srgbClr val="36001f"/>
              </a:gs>
              <a:gs pos="100000">
                <a:srgbClr val="b5006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D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036960" y="1508040"/>
            <a:ext cx="2952720" cy="487440"/>
          </a:xfrm>
          <a:prstGeom prst="rect">
            <a:avLst/>
          </a:prstGeom>
          <a:gradFill rotWithShape="0">
            <a:gsLst>
              <a:gs pos="0">
                <a:srgbClr val="063f39"/>
              </a:gs>
              <a:gs pos="100000">
                <a:srgbClr val="14d3c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1400040" y="4546440"/>
            <a:ext cx="1193760" cy="15303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1860480" y="5494320"/>
            <a:ext cx="1371600" cy="657360"/>
          </a:xfrm>
          <a:prstGeom prst="rect">
            <a:avLst/>
          </a:prstGeom>
          <a:gradFill rotWithShape="0">
            <a:gsLst>
              <a:gs pos="0">
                <a:srgbClr val="081d58"/>
              </a:gs>
              <a:gs pos="100000">
                <a:srgbClr val="394a79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</a:t>
            </a:r>
            <a:r>
              <a:rPr b="1" lang="en-US" sz="1800" spc="-1" strike="noStrike" baseline="4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D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VAX</a:t>
            </a:r>
            <a:r>
              <a:rPr b="1" lang="en-US" sz="1800" spc="-1" strike="noStrike" baseline="4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10080" y="2608200"/>
            <a:ext cx="1003320" cy="1382760"/>
          </a:xfrm>
          <a:prstGeom prst="rect">
            <a:avLst/>
          </a:prstGeom>
          <a:gradFill rotWithShape="0">
            <a:gsLst>
              <a:gs pos="0">
                <a:srgbClr val="00201d"/>
              </a:gs>
              <a:gs pos="100000">
                <a:srgbClr val="006b6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6634080" y="4876920"/>
            <a:ext cx="760320" cy="13478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5562720" y="5613480"/>
            <a:ext cx="1943280" cy="349200"/>
          </a:xfrm>
          <a:prstGeom prst="rect">
            <a:avLst/>
          </a:prstGeom>
          <a:gradFill rotWithShape="0">
            <a:gsLst>
              <a:gs pos="0">
                <a:srgbClr val="081d58"/>
              </a:gs>
              <a:gs pos="100000">
                <a:srgbClr val="394a79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046320" y="2025720"/>
            <a:ext cx="2954160" cy="625320"/>
          </a:xfrm>
          <a:prstGeom prst="rect">
            <a:avLst/>
          </a:prstGeom>
          <a:gradFill rotWithShape="0">
            <a:gsLst>
              <a:gs pos="0">
                <a:srgbClr val="003400"/>
              </a:gs>
              <a:gs pos="100000">
                <a:srgbClr val="00a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 DLL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243160" y="1440"/>
            <a:ext cx="47163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86400" y="4133880"/>
            <a:ext cx="1143000" cy="68580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2552760" y="4133880"/>
            <a:ext cx="1143000" cy="68580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614520" y="228600"/>
            <a:ext cx="79153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OSA Architecture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rvice Provider Interfa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871560" y="1947960"/>
            <a:ext cx="3247920" cy="148104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861840" y="4732200"/>
            <a:ext cx="3233880" cy="98748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abase driver 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860400" y="5695920"/>
            <a:ext cx="3254400" cy="784080"/>
          </a:xfrm>
          <a:prstGeom prst="rect">
            <a:avLst/>
          </a:prstGeom>
          <a:solidFill>
            <a:srgbClr val="006b6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abas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888840" y="3443400"/>
            <a:ext cx="3214800" cy="1282680"/>
          </a:xfrm>
          <a:prstGeom prst="rect">
            <a:avLst/>
          </a:prstGeom>
          <a:solidFill>
            <a:srgbClr val="00ae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652320" indent="-652320" algn="ctr">
              <a:lnSpc>
                <a:spcPct val="85000"/>
              </a:lnSpc>
            </a:pPr>
            <a:r>
              <a:rPr b="1" lang="en-US" sz="29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DL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52320" indent="-652320" algn="ctr">
              <a:lnSpc>
                <a:spcPct val="85000"/>
              </a:lnSpc>
            </a:pPr>
            <a:r>
              <a:rPr b="1" lang="en-US" sz="29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.k.a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52320" indent="-652320" algn="ctr">
              <a:lnSpc>
                <a:spcPct val="85000"/>
              </a:lnSpc>
            </a:pPr>
            <a:r>
              <a:rPr b="1" lang="en-US" sz="29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er Manage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60400" y="3457440"/>
            <a:ext cx="448164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60400" y="4694400"/>
            <a:ext cx="44956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96040" y="3241800"/>
            <a:ext cx="31212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9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Client API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546880" y="4402080"/>
            <a:ext cx="20048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9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SPI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627440" y="2073240"/>
            <a:ext cx="416880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Processing - calls ODBC fns - to submit SQL stmts/retrieve result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676760" y="4959360"/>
            <a:ext cx="41702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es ODBC fn calls, submits SQL requests to a specific database &amp; returns results to an application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13320" y="3716280"/>
            <a:ext cx="41688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ads the ODBC Driver for application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272120" y="5122800"/>
            <a:ext cx="45072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1562040" y="1179360"/>
            <a:ext cx="2448000" cy="62532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008000" y="1876320"/>
            <a:ext cx="3565440" cy="625320"/>
          </a:xfrm>
          <a:prstGeom prst="rect">
            <a:avLst/>
          </a:prstGeom>
          <a:solidFill>
            <a:srgbClr val="78297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 DLL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038240" y="2565360"/>
            <a:ext cx="1174680" cy="135252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Bas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038240" y="3936960"/>
            <a:ext cx="1174680" cy="135252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Bas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276200" y="228600"/>
            <a:ext cx="65930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-Tier ODBC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923760" y="228600"/>
            <a:ext cx="7296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formation At Your Fingertip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6680" y="4243320"/>
            <a:ext cx="1992240" cy="10717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90440" y="3152880"/>
            <a:ext cx="1903320" cy="569880"/>
          </a:xfrm>
          <a:prstGeom prst="rect">
            <a:avLst/>
          </a:prstGeom>
          <a:solidFill>
            <a:srgbClr val="05068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erv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9080" y="1076400"/>
            <a:ext cx="1847880" cy="56988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 VAX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300640" y="990720"/>
            <a:ext cx="1343160" cy="56988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/40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004160" y="2533680"/>
            <a:ext cx="1752480" cy="56988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BM 309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60240" y="3765600"/>
            <a:ext cx="866880" cy="1535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6320" y="3898800"/>
            <a:ext cx="3668760" cy="2154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095640" y="5627520"/>
            <a:ext cx="2567160" cy="758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 flipH="1" flipV="1">
            <a:off x="3314880" y="3479760"/>
            <a:ext cx="836280" cy="585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336840" y="3457440"/>
            <a:ext cx="335160" cy="42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8280" bIns="-8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2443320" y="2808360"/>
            <a:ext cx="1228680" cy="691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4214880" y="3429000"/>
            <a:ext cx="671400" cy="636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4857840" y="3414600"/>
            <a:ext cx="42840" cy="171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4857840" y="2814480"/>
            <a:ext cx="771480" cy="771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4986360" y="4243320"/>
            <a:ext cx="1042920" cy="171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815080" y="4243320"/>
            <a:ext cx="214200" cy="142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5815080" y="4143240"/>
            <a:ext cx="1271520" cy="243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524560" y="1494000"/>
            <a:ext cx="861840" cy="1533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7089840" y="3117960"/>
            <a:ext cx="1476360" cy="2781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1293840" y="1503360"/>
            <a:ext cx="119232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1670040" y="1201680"/>
            <a:ext cx="2448000" cy="62532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2370240" y="5232240"/>
            <a:ext cx="758880" cy="134784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 txBox="1"/>
          <p:nvPr/>
        </p:nvSpPr>
        <p:spPr>
          <a:xfrm>
            <a:off x="1152360" y="5904000"/>
            <a:ext cx="1951200" cy="74304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Serv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071720" y="1898640"/>
            <a:ext cx="3546360" cy="625320"/>
          </a:xfrm>
          <a:prstGeom prst="rect">
            <a:avLst/>
          </a:prstGeom>
          <a:solidFill>
            <a:srgbClr val="78297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 DLL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2670120" y="3946680"/>
            <a:ext cx="85680" cy="12286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2295360" y="2565360"/>
            <a:ext cx="1174680" cy="135252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038240" y="2565360"/>
            <a:ext cx="1174680" cy="135252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xBas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038240" y="3936960"/>
            <a:ext cx="1174680" cy="135252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xBas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Fil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238400" y="228600"/>
            <a:ext cx="6669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2-Tier ODBC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3589200" y="5232240"/>
            <a:ext cx="758880" cy="134784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 txBox="1"/>
          <p:nvPr/>
        </p:nvSpPr>
        <p:spPr>
          <a:xfrm>
            <a:off x="3591000" y="5904000"/>
            <a:ext cx="1951200" cy="74304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db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514680" y="2562120"/>
            <a:ext cx="1108080" cy="133344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db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3889440" y="3946680"/>
            <a:ext cx="85680" cy="12286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 flipH="1">
            <a:off x="3989520" y="4191120"/>
            <a:ext cx="1199880" cy="123804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5075280" y="3546360"/>
            <a:ext cx="1657440" cy="106380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300320" y="228600"/>
            <a:ext cx="65451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3-Tier ODBC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217520" y="1208160"/>
            <a:ext cx="2448000" cy="62532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1917720" y="5238720"/>
            <a:ext cx="762120" cy="13478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3103560" y="2571840"/>
            <a:ext cx="1171440" cy="135252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teway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703440" y="5910120"/>
            <a:ext cx="1947960" cy="74304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SQL Serv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3403440" y="5267160"/>
            <a:ext cx="762120" cy="134784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 flipH="1">
            <a:off x="4046400" y="5272200"/>
            <a:ext cx="1271880" cy="21420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55480" y="1892160"/>
            <a:ext cx="3700440" cy="625320"/>
          </a:xfrm>
          <a:prstGeom prst="rect">
            <a:avLst/>
          </a:prstGeom>
          <a:solidFill>
            <a:srgbClr val="78297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 DLL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722760" y="3924360"/>
            <a:ext cx="75960" cy="13618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2303640" y="3924360"/>
            <a:ext cx="180720" cy="13240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5199120" y="5286240"/>
            <a:ext cx="90360" cy="2080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5189400" y="5124600"/>
            <a:ext cx="1343160" cy="3999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3"/>
          <a:stretch/>
        </p:blipFill>
        <p:spPr>
          <a:xfrm>
            <a:off x="6280200" y="4691160"/>
            <a:ext cx="833400" cy="158112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 txBox="1"/>
          <p:nvPr/>
        </p:nvSpPr>
        <p:spPr>
          <a:xfrm>
            <a:off x="6823080" y="4632480"/>
            <a:ext cx="1695600" cy="66348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BM 3090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4"/>
          <a:stretch/>
        </p:blipFill>
        <p:spPr>
          <a:xfrm>
            <a:off x="6289560" y="2798640"/>
            <a:ext cx="838080" cy="158112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 txBox="1"/>
          <p:nvPr/>
        </p:nvSpPr>
        <p:spPr>
          <a:xfrm>
            <a:off x="6894360" y="2981160"/>
            <a:ext cx="1695600" cy="66528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/400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5075280" y="4222800"/>
            <a:ext cx="95040" cy="3873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322800" y="6024600"/>
            <a:ext cx="2438280" cy="64296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teway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846440" y="2571840"/>
            <a:ext cx="1171440" cy="135252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SQL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Ser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588960" y="2571840"/>
            <a:ext cx="1171440" cy="135252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xBas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88960" y="3943440"/>
            <a:ext cx="1171440" cy="135252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xBas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Fil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1236600" y="228600"/>
            <a:ext cx="66708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Connectivity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1600200" y="3205080"/>
            <a:ext cx="0" cy="210024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1400040" y="917640"/>
            <a:ext cx="6370560" cy="512136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951200" y="4151160"/>
            <a:ext cx="167148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2122560" y="2570040"/>
            <a:ext cx="1001880" cy="1382760"/>
          </a:xfrm>
          <a:prstGeom prst="rect">
            <a:avLst/>
          </a:prstGeom>
          <a:solidFill>
            <a:srgbClr val="05068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xBas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122640" y="2570040"/>
            <a:ext cx="1001880" cy="138276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C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D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2446200" y="1476360"/>
            <a:ext cx="4487760" cy="56988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Applicat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2122560" y="3970440"/>
            <a:ext cx="1001880" cy="1139760"/>
          </a:xfrm>
          <a:prstGeom prst="rect">
            <a:avLst/>
          </a:prstGeom>
          <a:solidFill>
            <a:srgbClr val="05068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xBas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200160" y="5060880"/>
            <a:ext cx="1193760" cy="153036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 txBox="1"/>
          <p:nvPr/>
        </p:nvSpPr>
        <p:spPr>
          <a:xfrm>
            <a:off x="660240" y="6008760"/>
            <a:ext cx="1371600" cy="65736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C RDB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n Vax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728640" y="4229280"/>
            <a:ext cx="1400040" cy="95724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1914480" y="4229280"/>
            <a:ext cx="20016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1928880" y="3371760"/>
            <a:ext cx="1285920" cy="85752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343400" y="3586320"/>
            <a:ext cx="185760" cy="17859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071960" y="2570040"/>
            <a:ext cx="1003320" cy="1382760"/>
          </a:xfrm>
          <a:prstGeom prst="rect">
            <a:avLst/>
          </a:prstGeom>
          <a:solidFill>
            <a:srgbClr val="006b6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Q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r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3929040" y="5315040"/>
            <a:ext cx="760320" cy="134784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 flipH="1" flipV="1">
            <a:off x="5557680" y="3657600"/>
            <a:ext cx="614520" cy="182880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 flipV="1">
            <a:off x="7365960" y="4314960"/>
            <a:ext cx="1220760" cy="10000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7386480" y="4214880"/>
            <a:ext cx="228600" cy="11412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6520" bIns="56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 flipV="1">
            <a:off x="6900840" y="3629160"/>
            <a:ext cx="714240" cy="59364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091120" y="2570040"/>
            <a:ext cx="1003320" cy="138276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2857680" y="6051600"/>
            <a:ext cx="1943280" cy="38124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QL Serv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4"/>
          <a:stretch/>
        </p:blipFill>
        <p:spPr>
          <a:xfrm>
            <a:off x="5757840" y="5457960"/>
            <a:ext cx="760320" cy="134784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 flipH="1">
            <a:off x="6280200" y="5462640"/>
            <a:ext cx="1392120" cy="2937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7551720" y="5477040"/>
            <a:ext cx="92160" cy="20772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7594560" y="5315040"/>
            <a:ext cx="949320" cy="3268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108840" y="2570040"/>
            <a:ext cx="1001880" cy="1382760"/>
          </a:xfrm>
          <a:prstGeom prst="rect">
            <a:avLst/>
          </a:prstGeom>
          <a:solidFill>
            <a:srgbClr val="bc37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DA/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Q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5"/>
          <a:stretch/>
        </p:blipFill>
        <p:spPr>
          <a:xfrm>
            <a:off x="8290080" y="4881600"/>
            <a:ext cx="835200" cy="158112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7234200" y="5965920"/>
            <a:ext cx="1695600" cy="66348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BM 3090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5148360" y="6051600"/>
            <a:ext cx="1709640" cy="34920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ateway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2914560" y="2030400"/>
            <a:ext cx="3470400" cy="708120"/>
          </a:xfrm>
          <a:prstGeom prst="rect">
            <a:avLst/>
          </a:prstGeom>
          <a:solidFill>
            <a:srgbClr val="00ae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DLL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1125360" y="228600"/>
            <a:ext cx="689292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Applic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1600200" y="3205080"/>
            <a:ext cx="0" cy="210024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1400040" y="895320"/>
            <a:ext cx="6370560" cy="512280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1951200" y="4151160"/>
            <a:ext cx="167148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2122560" y="2570040"/>
            <a:ext cx="1001880" cy="1382760"/>
          </a:xfrm>
          <a:prstGeom prst="rect">
            <a:avLst/>
          </a:prstGeom>
          <a:solidFill>
            <a:srgbClr val="05068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xBas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122640" y="2570040"/>
            <a:ext cx="1001880" cy="138276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d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r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2238480" y="1476360"/>
            <a:ext cx="1123920" cy="56988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Exc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2122560" y="3970440"/>
            <a:ext cx="1001880" cy="1139760"/>
          </a:xfrm>
          <a:prstGeom prst="rect">
            <a:avLst/>
          </a:prstGeom>
          <a:solidFill>
            <a:srgbClr val="05068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xBas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200160" y="5060880"/>
            <a:ext cx="1193760" cy="15303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660240" y="6008760"/>
            <a:ext cx="1371600" cy="65736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C RDB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n Vax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728640" y="4229280"/>
            <a:ext cx="1400040" cy="95724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1914480" y="4229280"/>
            <a:ext cx="20016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1928880" y="3371760"/>
            <a:ext cx="1285920" cy="85752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4343400" y="3586320"/>
            <a:ext cx="185760" cy="17859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071960" y="2570040"/>
            <a:ext cx="1003320" cy="1382760"/>
          </a:xfrm>
          <a:prstGeom prst="rect">
            <a:avLst/>
          </a:prstGeom>
          <a:solidFill>
            <a:srgbClr val="006b6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Q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r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3"/>
          <a:stretch/>
        </p:blipFill>
        <p:spPr>
          <a:xfrm>
            <a:off x="3929040" y="5315040"/>
            <a:ext cx="760320" cy="134784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 flipH="1" flipV="1">
            <a:off x="5557680" y="3657600"/>
            <a:ext cx="614520" cy="182880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 flipV="1">
            <a:off x="7365960" y="4314960"/>
            <a:ext cx="1220760" cy="10000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7386480" y="4214880"/>
            <a:ext cx="228600" cy="11412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6520" bIns="56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 flipV="1">
            <a:off x="6900840" y="3629160"/>
            <a:ext cx="714240" cy="59364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5091120" y="2570040"/>
            <a:ext cx="1003320" cy="138276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2857680" y="6051600"/>
            <a:ext cx="1943280" cy="38124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QL Serv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4"/>
          <a:stretch/>
        </p:blipFill>
        <p:spPr>
          <a:xfrm>
            <a:off x="5757840" y="5457960"/>
            <a:ext cx="760320" cy="13478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 flipH="1">
            <a:off x="6280200" y="5462640"/>
            <a:ext cx="1392120" cy="2937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7551720" y="5477040"/>
            <a:ext cx="92160" cy="20772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7594560" y="5315040"/>
            <a:ext cx="949320" cy="3268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108840" y="2570040"/>
            <a:ext cx="1001880" cy="1382760"/>
          </a:xfrm>
          <a:prstGeom prst="rect">
            <a:avLst/>
          </a:prstGeom>
          <a:solidFill>
            <a:srgbClr val="bc37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DA/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Q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5"/>
          <a:stretch/>
        </p:blipFill>
        <p:spPr>
          <a:xfrm>
            <a:off x="8290080" y="4881600"/>
            <a:ext cx="835200" cy="158112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7234200" y="5965920"/>
            <a:ext cx="1695600" cy="66348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BM 3090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148360" y="6051600"/>
            <a:ext cx="1709640" cy="34920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ateway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303800" y="1481040"/>
            <a:ext cx="1281240" cy="56988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Wor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373560" y="1476360"/>
            <a:ext cx="928800" cy="56988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VB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5559480" y="1476360"/>
            <a:ext cx="1415880" cy="56988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Acces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2914560" y="2030400"/>
            <a:ext cx="3470400" cy="708120"/>
          </a:xfrm>
          <a:prstGeom prst="rect">
            <a:avLst/>
          </a:prstGeom>
          <a:solidFill>
            <a:srgbClr val="00ae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DLL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3032280" y="228600"/>
            <a:ext cx="30798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chedu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990720" y="1276200"/>
            <a:ext cx="716292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 Preview held November '9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liminary Spec available now (in SD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-release SDK shipped March ‘9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al SDK shipped September '9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r's Conference March 9-10, '9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packaged product Windows in '9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1185840" y="228600"/>
            <a:ext cx="67737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Drivers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Microsoft Commitment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514520" y="2038320"/>
            <a:ext cx="6114960" cy="33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7050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acl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Btrie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7050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Server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d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7050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Fox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7050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dox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X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7050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S driver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Text (ASCII delimit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85680" y="228600"/>
            <a:ext cx="89740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mitted ODBC Support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571680" y="1162080"/>
            <a:ext cx="800100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e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Andyn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Br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ll H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Cincom System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C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omande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DEC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Eas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ifield Softwar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Fulcrum Technologie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Gup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wlett-Packard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Information Builder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Informi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gre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IQ Softwar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Lot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db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MicroDecisionwar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Microsof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rim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Must Softwar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NC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on System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Novel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Ora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ge Ahead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Pioneer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Powersof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es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Raima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Reti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chester Softwar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Seimen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Software A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bas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Tandem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Unif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f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Vertisoft Research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Wat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2527200" y="228600"/>
            <a:ext cx="40892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y ODBC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876320" y="1733400"/>
            <a:ext cx="53910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ndor neut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ve technical re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ing reviewed by AN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onsored by X/O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API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ndo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49280" y="228600"/>
            <a:ext cx="82472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ed Access To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formation Resources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734080" y="4886280"/>
            <a:ext cx="1157400" cy="8859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648400" y="1790640"/>
            <a:ext cx="666720" cy="14288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012000" y="2343240"/>
            <a:ext cx="1541520" cy="12193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2297160" y="4145040"/>
            <a:ext cx="1362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7078680" y="3676680"/>
            <a:ext cx="565200" cy="11653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5635800" y="5600520"/>
            <a:ext cx="1542960" cy="9288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7257960" y="4414680"/>
            <a:ext cx="1714680" cy="1143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7586640" y="4711680"/>
            <a:ext cx="1195560" cy="3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bas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821200" y="5724360"/>
            <a:ext cx="113508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335640" y="3156120"/>
            <a:ext cx="1017720" cy="6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5022720"/>
            <a:ext cx="124308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2476440" y="3290760"/>
            <a:ext cx="930240" cy="7318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171360" y="2657520"/>
            <a:ext cx="299736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23880" indent="-623880">
              <a:lnSpc>
                <a:spcPct val="109000"/>
              </a:lnSpc>
              <a:spcAft>
                <a:spcPts val="791"/>
              </a:spcAft>
            </a:pPr>
            <a:r>
              <a:rPr b="1" lang="en-US" sz="2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05040" y="2981160"/>
            <a:ext cx="2292480" cy="22003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6920" y="3300480"/>
            <a:ext cx="757080" cy="7221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5520" y="3529080"/>
            <a:ext cx="757080" cy="7221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54120" y="3757680"/>
            <a:ext cx="757080" cy="7221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297480" y="2595600"/>
            <a:ext cx="96192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21320" y="3486240"/>
            <a:ext cx="1143360" cy="1200600"/>
          </a:xfrm>
          <a:custGeom>
            <a:avLst/>
            <a:gdLst/>
            <a:ahLst/>
            <a:rect l="0" t="0" r="r" b="b"/>
            <a:pathLst>
              <a:path w="3176" h="3335">
                <a:moveTo>
                  <a:pt x="0" y="841"/>
                </a:moveTo>
                <a:lnTo>
                  <a:pt x="1012" y="841"/>
                </a:lnTo>
                <a:lnTo>
                  <a:pt x="1342" y="549"/>
                </a:lnTo>
                <a:lnTo>
                  <a:pt x="1150" y="357"/>
                </a:lnTo>
                <a:lnTo>
                  <a:pt x="2461" y="0"/>
                </a:lnTo>
                <a:lnTo>
                  <a:pt x="1826" y="1032"/>
                </a:lnTo>
                <a:lnTo>
                  <a:pt x="1634" y="841"/>
                </a:lnTo>
                <a:lnTo>
                  <a:pt x="1342" y="1079"/>
                </a:lnTo>
                <a:lnTo>
                  <a:pt x="1342" y="1462"/>
                </a:lnTo>
                <a:lnTo>
                  <a:pt x="1826" y="1462"/>
                </a:lnTo>
                <a:lnTo>
                  <a:pt x="1826" y="1171"/>
                </a:lnTo>
                <a:lnTo>
                  <a:pt x="3176" y="1734"/>
                </a:lnTo>
                <a:lnTo>
                  <a:pt x="1826" y="2137"/>
                </a:lnTo>
                <a:lnTo>
                  <a:pt x="1826" y="1846"/>
                </a:lnTo>
                <a:lnTo>
                  <a:pt x="1342" y="1846"/>
                </a:lnTo>
                <a:lnTo>
                  <a:pt x="1342" y="2183"/>
                </a:lnTo>
                <a:lnTo>
                  <a:pt x="1634" y="2468"/>
                </a:lnTo>
                <a:lnTo>
                  <a:pt x="1826" y="2276"/>
                </a:lnTo>
                <a:lnTo>
                  <a:pt x="2342" y="3335"/>
                </a:lnTo>
                <a:lnTo>
                  <a:pt x="1111" y="2899"/>
                </a:lnTo>
                <a:lnTo>
                  <a:pt x="1342" y="2713"/>
                </a:lnTo>
                <a:lnTo>
                  <a:pt x="1012" y="2375"/>
                </a:lnTo>
                <a:lnTo>
                  <a:pt x="0" y="2375"/>
                </a:lnTo>
                <a:lnTo>
                  <a:pt x="0" y="841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200480" y="3776760"/>
            <a:ext cx="754560" cy="536760"/>
          </a:xfrm>
          <a:custGeom>
            <a:avLst/>
            <a:gdLst/>
            <a:ahLst/>
            <a:rect l="0" t="0" r="r" b="b"/>
            <a:pathLst>
              <a:path w="2096" h="1491">
                <a:moveTo>
                  <a:pt x="1332" y="351"/>
                </a:moveTo>
                <a:lnTo>
                  <a:pt x="0" y="351"/>
                </a:lnTo>
                <a:lnTo>
                  <a:pt x="0" y="1140"/>
                </a:lnTo>
                <a:lnTo>
                  <a:pt x="1367" y="1140"/>
                </a:lnTo>
                <a:lnTo>
                  <a:pt x="1367" y="1491"/>
                </a:lnTo>
                <a:lnTo>
                  <a:pt x="2096" y="760"/>
                </a:lnTo>
                <a:lnTo>
                  <a:pt x="1332" y="0"/>
                </a:lnTo>
                <a:lnTo>
                  <a:pt x="1332" y="351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1050840" y="228600"/>
            <a:ext cx="70423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ivity Today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876240" y="1790640"/>
            <a:ext cx="739152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terogeneity is a re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 are not widely conn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 development is expens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98520" y="228600"/>
            <a:ext cx="83487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ed For An Open Services Architectur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584680" y="4965840"/>
            <a:ext cx="1157400" cy="8859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456160" y="2790720"/>
            <a:ext cx="666720" cy="1428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819760" y="3343320"/>
            <a:ext cx="1541520" cy="12193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2190600" y="4245120"/>
            <a:ext cx="1362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415280" y="4591080"/>
            <a:ext cx="565200" cy="1165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5508720" y="5637240"/>
            <a:ext cx="1542960" cy="9288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6237360" y="3433680"/>
            <a:ext cx="676440" cy="3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A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7380360" y="5522760"/>
            <a:ext cx="1714680" cy="1143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7655040" y="5626080"/>
            <a:ext cx="138744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-In-On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db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586480" y="5888160"/>
            <a:ext cx="1305000" cy="3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8086680" y="2212920"/>
            <a:ext cx="565200" cy="11635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8"/>
          <a:stretch/>
        </p:blipFill>
        <p:spPr>
          <a:xfrm>
            <a:off x="7548480" y="3257640"/>
            <a:ext cx="1565280" cy="10573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8105760" y="3505320"/>
            <a:ext cx="706320" cy="3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066160" y="3905280"/>
            <a:ext cx="646200" cy="3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F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051760" y="2833560"/>
            <a:ext cx="63036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UNIX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404120" y="5119560"/>
            <a:ext cx="56664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VM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229440" y="3768840"/>
            <a:ext cx="101772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B2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43640" y="4757760"/>
            <a:ext cx="124308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9"/>
          <a:stretch/>
        </p:blipFill>
        <p:spPr>
          <a:xfrm>
            <a:off x="2370240" y="3390840"/>
            <a:ext cx="930240" cy="7318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1357200" y="1246320"/>
            <a:ext cx="643104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23880" indent="-623880">
              <a:lnSpc>
                <a:spcPct val="106000"/>
              </a:lnSpc>
              <a:spcAft>
                <a:spcPts val="768"/>
              </a:spcAft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-  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 need standard API to access services!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623880" indent="-623880">
              <a:lnSpc>
                <a:spcPct val="106000"/>
              </a:lnSpc>
              <a:spcAft>
                <a:spcPts val="768"/>
              </a:spcAft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-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But systems have to work in a heterogeneous world!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5160" y="2757600"/>
            <a:ext cx="299736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23880" indent="-623880">
              <a:lnSpc>
                <a:spcPct val="109000"/>
              </a:lnSpc>
              <a:spcAft>
                <a:spcPts val="791"/>
              </a:spcAft>
            </a:pPr>
            <a:r>
              <a:rPr b="1" lang="en-US" sz="2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98480" y="3081240"/>
            <a:ext cx="2292480" cy="22003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0360" y="3400560"/>
            <a:ext cx="757080" cy="7221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8960" y="3629160"/>
            <a:ext cx="757080" cy="7221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47560" y="3857760"/>
            <a:ext cx="757080" cy="7221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67360" y="3990960"/>
            <a:ext cx="957600" cy="462240"/>
          </a:xfrm>
          <a:custGeom>
            <a:avLst/>
            <a:gdLst/>
            <a:ahLst/>
            <a:rect l="0" t="0" r="r" b="b"/>
            <a:pathLst>
              <a:path w="2660" h="1284">
                <a:moveTo>
                  <a:pt x="1688" y="302"/>
                </a:moveTo>
                <a:lnTo>
                  <a:pt x="0" y="302"/>
                </a:lnTo>
                <a:lnTo>
                  <a:pt x="0" y="982"/>
                </a:lnTo>
                <a:lnTo>
                  <a:pt x="1739" y="982"/>
                </a:lnTo>
                <a:lnTo>
                  <a:pt x="1739" y="1284"/>
                </a:lnTo>
                <a:lnTo>
                  <a:pt x="2660" y="655"/>
                </a:lnTo>
                <a:lnTo>
                  <a:pt x="1688" y="0"/>
                </a:lnTo>
                <a:lnTo>
                  <a:pt x="1688" y="302"/>
                </a:lnTo>
                <a:close/>
              </a:path>
            </a:pathLst>
          </a:custGeom>
          <a:solidFill>
            <a:srgbClr val="ffbb52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17560" y="228600"/>
            <a:ext cx="7510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Open Services Architec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642000" y="3755880"/>
            <a:ext cx="0" cy="9115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85880" y="4908600"/>
            <a:ext cx="1442880" cy="658800"/>
          </a:xfrm>
          <a:prstGeom prst="rect">
            <a:avLst/>
          </a:prstGeom>
          <a:solidFill>
            <a:srgbClr val="782977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365120" y="2789280"/>
            <a:ext cx="6386400" cy="906480"/>
          </a:xfrm>
          <a:prstGeom prst="rect">
            <a:avLst/>
          </a:prstGeom>
          <a:solidFill>
            <a:srgbClr val="8901f3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685880" y="1008000"/>
            <a:ext cx="1722600" cy="85716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14440" indent="-514440">
              <a:lnSpc>
                <a:spcPct val="100000"/>
              </a:lnSpc>
              <a:spcAft>
                <a:spcPts val="1199"/>
              </a:spcAf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94240" y="1000080"/>
            <a:ext cx="1778040" cy="85716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14440" indent="-514440">
              <a:lnSpc>
                <a:spcPct val="100000"/>
              </a:lnSpc>
              <a:spcAft>
                <a:spcPts val="1199"/>
              </a:spcAf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247760" y="4680000"/>
            <a:ext cx="1566720" cy="744480"/>
          </a:xfrm>
          <a:prstGeom prst="rect">
            <a:avLst/>
          </a:prstGeom>
          <a:solidFill>
            <a:srgbClr val="78297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14440" indent="-514440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70440" y="4900680"/>
            <a:ext cx="1463760" cy="60336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741840" y="4672080"/>
            <a:ext cx="1463760" cy="7174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14440" indent="-514440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1200" y="4965840"/>
            <a:ext cx="1608120" cy="571680"/>
          </a:xfrm>
          <a:prstGeom prst="rect">
            <a:avLst/>
          </a:prstGeom>
          <a:solidFill>
            <a:srgbClr val="bc37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8680" y="6033960"/>
            <a:ext cx="851364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527720" y="5541840"/>
            <a:ext cx="0" cy="47304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550960" y="1914480"/>
            <a:ext cx="0" cy="91296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4456080" y="3784680"/>
            <a:ext cx="0" cy="91116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427640" y="1886040"/>
            <a:ext cx="0" cy="9126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6394320" y="1884240"/>
            <a:ext cx="0" cy="9115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048040" y="3772080"/>
            <a:ext cx="0" cy="9126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41400" y="2184480"/>
            <a:ext cx="733428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1000"/>
              </a:lnSpc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Interfa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71640" y="3814920"/>
            <a:ext cx="7257960" cy="426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r Interfa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576760" y="1012680"/>
            <a:ext cx="1736640" cy="84312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14440" indent="-514440">
              <a:lnSpc>
                <a:spcPct val="100000"/>
              </a:lnSpc>
              <a:spcAft>
                <a:spcPts val="1199"/>
              </a:spcAf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354400" y="2959200"/>
            <a:ext cx="456732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rating System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indows/MS-DOS and Windows NT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262320" y="5800680"/>
            <a:ext cx="1395360" cy="8859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5905440" y="4657680"/>
            <a:ext cx="1574640" cy="717480"/>
          </a:xfrm>
          <a:prstGeom prst="rect">
            <a:avLst/>
          </a:prstGeom>
          <a:solidFill>
            <a:srgbClr val="bc37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Acces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2398680" y="5570640"/>
            <a:ext cx="1800" cy="4302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6684840" y="5484960"/>
            <a:ext cx="0" cy="5587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748480" y="5800680"/>
            <a:ext cx="1395360" cy="8859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861840" y="5772240"/>
            <a:ext cx="1395360" cy="8859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928800" y="5935680"/>
            <a:ext cx="141912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Ma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271680" y="5935680"/>
            <a:ext cx="138096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043680" y="5992920"/>
            <a:ext cx="86688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782640" y="228600"/>
            <a:ext cx="75801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ed Access To Heterogeneou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841320" y="3559320"/>
            <a:ext cx="1362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019160" y="2705040"/>
            <a:ext cx="932040" cy="7318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47760" y="2395440"/>
            <a:ext cx="2293920" cy="22003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356080" y="1355760"/>
            <a:ext cx="982800" cy="16286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6319800" y="1136520"/>
            <a:ext cx="1541520" cy="12193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5979960" y="3398760"/>
            <a:ext cx="738360" cy="13669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6572160" y="3129120"/>
            <a:ext cx="1714680" cy="1143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6375240" y="5659560"/>
            <a:ext cx="650880" cy="3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V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43600" y="1438200"/>
            <a:ext cx="79056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B2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994440" y="3367080"/>
            <a:ext cx="77148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db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4951440" y="5433840"/>
            <a:ext cx="480960" cy="9810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7"/>
          <a:stretch/>
        </p:blipFill>
        <p:spPr>
          <a:xfrm>
            <a:off x="5222880" y="4994280"/>
            <a:ext cx="171468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5427720" y="5208480"/>
            <a:ext cx="151776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bas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147840" y="2776680"/>
            <a:ext cx="1824480" cy="1729080"/>
          </a:xfrm>
          <a:custGeom>
            <a:avLst/>
            <a:gdLst/>
            <a:ahLst/>
            <a:rect l="0" t="0" r="r" b="b"/>
            <a:pathLst>
              <a:path w="5068" h="4803">
                <a:moveTo>
                  <a:pt x="3368" y="18"/>
                </a:moveTo>
                <a:lnTo>
                  <a:pt x="4464" y="0"/>
                </a:lnTo>
                <a:lnTo>
                  <a:pt x="4102" y="1033"/>
                </a:lnTo>
                <a:lnTo>
                  <a:pt x="3909" y="811"/>
                </a:lnTo>
                <a:lnTo>
                  <a:pt x="3644" y="1040"/>
                </a:lnTo>
                <a:lnTo>
                  <a:pt x="3325" y="1276"/>
                </a:lnTo>
                <a:lnTo>
                  <a:pt x="3085" y="1461"/>
                </a:lnTo>
                <a:lnTo>
                  <a:pt x="2780" y="1662"/>
                </a:lnTo>
                <a:lnTo>
                  <a:pt x="2397" y="1879"/>
                </a:lnTo>
                <a:lnTo>
                  <a:pt x="1985" y="2048"/>
                </a:lnTo>
                <a:lnTo>
                  <a:pt x="4188" y="2050"/>
                </a:lnTo>
                <a:lnTo>
                  <a:pt x="4185" y="1773"/>
                </a:lnTo>
                <a:lnTo>
                  <a:pt x="5068" y="2390"/>
                </a:lnTo>
                <a:lnTo>
                  <a:pt x="4185" y="3011"/>
                </a:lnTo>
                <a:lnTo>
                  <a:pt x="4190" y="2738"/>
                </a:lnTo>
                <a:lnTo>
                  <a:pt x="1959" y="2738"/>
                </a:lnTo>
                <a:lnTo>
                  <a:pt x="2383" y="2918"/>
                </a:lnTo>
                <a:lnTo>
                  <a:pt x="2716" y="3089"/>
                </a:lnTo>
                <a:lnTo>
                  <a:pt x="3023" y="3293"/>
                </a:lnTo>
                <a:lnTo>
                  <a:pt x="3339" y="3531"/>
                </a:lnTo>
                <a:lnTo>
                  <a:pt x="3589" y="3709"/>
                </a:lnTo>
                <a:lnTo>
                  <a:pt x="3909" y="3975"/>
                </a:lnTo>
                <a:lnTo>
                  <a:pt x="4102" y="3772"/>
                </a:lnTo>
                <a:lnTo>
                  <a:pt x="4471" y="4803"/>
                </a:lnTo>
                <a:lnTo>
                  <a:pt x="3368" y="4777"/>
                </a:lnTo>
                <a:lnTo>
                  <a:pt x="3530" y="4521"/>
                </a:lnTo>
                <a:lnTo>
                  <a:pt x="3220" y="4322"/>
                </a:lnTo>
                <a:lnTo>
                  <a:pt x="2890" y="4086"/>
                </a:lnTo>
                <a:lnTo>
                  <a:pt x="2585" y="3892"/>
                </a:lnTo>
                <a:lnTo>
                  <a:pt x="2304" y="3721"/>
                </a:lnTo>
                <a:lnTo>
                  <a:pt x="2040" y="3575"/>
                </a:lnTo>
                <a:lnTo>
                  <a:pt x="1762" y="3434"/>
                </a:lnTo>
                <a:lnTo>
                  <a:pt x="1417" y="3281"/>
                </a:lnTo>
                <a:lnTo>
                  <a:pt x="1063" y="3212"/>
                </a:lnTo>
                <a:lnTo>
                  <a:pt x="0" y="3210"/>
                </a:lnTo>
                <a:lnTo>
                  <a:pt x="0" y="1604"/>
                </a:lnTo>
                <a:lnTo>
                  <a:pt x="1061" y="1604"/>
                </a:lnTo>
                <a:lnTo>
                  <a:pt x="1417" y="1532"/>
                </a:lnTo>
                <a:lnTo>
                  <a:pt x="1845" y="1341"/>
                </a:lnTo>
                <a:lnTo>
                  <a:pt x="2126" y="1181"/>
                </a:lnTo>
                <a:lnTo>
                  <a:pt x="2364" y="1045"/>
                </a:lnTo>
                <a:lnTo>
                  <a:pt x="2642" y="878"/>
                </a:lnTo>
                <a:lnTo>
                  <a:pt x="2906" y="707"/>
                </a:lnTo>
                <a:lnTo>
                  <a:pt x="3197" y="506"/>
                </a:lnTo>
                <a:lnTo>
                  <a:pt x="3539" y="272"/>
                </a:lnTo>
                <a:lnTo>
                  <a:pt x="3368" y="1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17520" y="228600"/>
            <a:ext cx="85089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abase Connectivity, 199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990720" y="1733400"/>
            <a:ext cx="716292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proprietary database AP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to each database must be specially co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ndors support popular databases fir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 do not support all datab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abase Connectivity, 199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857240" y="1733400"/>
            <a:ext cx="542916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ing solu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op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ck critical m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ystem software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 limitation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