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73600" y="33480"/>
            <a:ext cx="3457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2nd talk) 6/93 </a:t>
            </a:r>
            <a:fld id="{4FF85A4C-61DA-4143-983C-4F5214321CE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249200"/>
            <a:ext cx="8172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62240" y="2227320"/>
            <a:ext cx="6419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ection dominates graphics performance issu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 of calls on client-side for amortizing cost of client-server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of values on client side to avoid client-server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9120" y="228600"/>
            <a:ext cx="8105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22800" y="5492880"/>
            <a:ext cx="3886200" cy="569880"/>
          </a:xfrm>
          <a:prstGeom prst="rect">
            <a:avLst/>
          </a:prstGeom>
          <a:gradFill rotWithShape="0">
            <a:gsLst>
              <a:gs pos="0">
                <a:srgbClr val="c55167"/>
              </a:gs>
              <a:gs pos="50000">
                <a:srgbClr val="f76681"/>
              </a:gs>
              <a:gs pos="100000">
                <a:srgbClr val="c551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2800" y="5492880"/>
            <a:ext cx="636480" cy="27936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7600" y="5492880"/>
            <a:ext cx="2905200" cy="56988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17600" y="4292640"/>
            <a:ext cx="6791400" cy="1200240"/>
          </a:xfrm>
          <a:prstGeom prst="rect">
            <a:avLst/>
          </a:prstGeom>
          <a:gradFill rotWithShape="0">
            <a:gsLst>
              <a:gs pos="0">
                <a:srgbClr val="b00067"/>
              </a:gs>
              <a:gs pos="50000">
                <a:srgbClr val="dc0081"/>
              </a:gs>
              <a:gs pos="100000">
                <a:srgbClr val="b000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17600" y="6058080"/>
            <a:ext cx="679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176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1090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7600" y="5492880"/>
            <a:ext cx="643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4600" y="54928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18120" y="5775480"/>
            <a:ext cx="63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8120" y="57754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49880" y="5646600"/>
            <a:ext cx="64944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33840" y="5140440"/>
            <a:ext cx="5375160" cy="352440"/>
          </a:xfrm>
          <a:prstGeom prst="rect">
            <a:avLst/>
          </a:prstGeom>
          <a:gradFill rotWithShape="0">
            <a:gsLst>
              <a:gs pos="0">
                <a:srgbClr val="c8ca00"/>
              </a:gs>
              <a:gs pos="50000">
                <a:srgbClr val="fafd00"/>
              </a:gs>
              <a:gs pos="100000">
                <a:srgbClr val="c8ca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87760" y="5195880"/>
            <a:ext cx="227952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ve support routin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40600" y="4422600"/>
            <a:ext cx="839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37160" y="4422600"/>
            <a:ext cx="13478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70240" y="4424400"/>
            <a:ext cx="1141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24200" y="4424400"/>
            <a:ext cx="11430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716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212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766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338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17600" y="4857840"/>
            <a:ext cx="920880" cy="6350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27200" y="4352760"/>
            <a:ext cx="655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  syst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57200" y="4927680"/>
            <a:ext cx="833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45120" y="3782880"/>
            <a:ext cx="889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17600" y="3992400"/>
            <a:ext cx="6791400" cy="282600"/>
            <a:chOff x="1317600" y="3992400"/>
            <a:chExt cx="6791400" cy="282600"/>
          </a:xfrm>
        </p:grpSpPr>
        <p:sp>
          <p:nvSpPr>
            <p:cNvPr id="98" name=""/>
            <p:cNvSpPr/>
            <p:nvPr/>
          </p:nvSpPr>
          <p:spPr>
            <a:xfrm>
              <a:off x="1317600" y="3992400"/>
              <a:ext cx="6791400" cy="282600"/>
            </a:xfrm>
            <a:prstGeom prst="rect">
              <a:avLst/>
            </a:prstGeom>
            <a:gradFill rotWithShape="0">
              <a:gsLst>
                <a:gs pos="0">
                  <a:srgbClr val="924cc7"/>
                </a:gs>
                <a:gs pos="50000">
                  <a:srgbClr val="b760f9"/>
                </a:gs>
                <a:gs pos="100000">
                  <a:srgbClr val="924cc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905280" y="4010040"/>
              <a:ext cx="175572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vileged bounda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1654200" y="5624640"/>
            <a:ext cx="24480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graphical device drive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35000" y="1708200"/>
            <a:ext cx="6954840" cy="2230560"/>
            <a:chOff x="1035000" y="1708200"/>
            <a:chExt cx="6954840" cy="2230560"/>
          </a:xfrm>
        </p:grpSpPr>
        <p:sp>
          <p:nvSpPr>
            <p:cNvPr id="102" name=""/>
            <p:cNvSpPr/>
            <p:nvPr/>
          </p:nvSpPr>
          <p:spPr>
            <a:xfrm>
              <a:off x="3440160" y="2455920"/>
              <a:ext cx="2617920" cy="988920"/>
            </a:xfrm>
            <a:prstGeom prst="ellipse">
              <a:avLst/>
            </a:prstGeom>
            <a:gradFill rotWithShape="0">
              <a:gsLst>
                <a:gs pos="0">
                  <a:srgbClr val="cc9e57"/>
                </a:gs>
                <a:gs pos="100000">
                  <a:srgbClr val="ffc66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457880" y="2560680"/>
              <a:ext cx="6033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SRS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3537000" y="2843280"/>
              <a:ext cx="41904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s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952880" y="2984400"/>
              <a:ext cx="3999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I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553080" y="2527200"/>
              <a:ext cx="1436760" cy="77616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phical devi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0760" y="1708200"/>
              <a:ext cx="887400" cy="4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5376960" y="3054240"/>
              <a:ext cx="4557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916600" y="3021120"/>
              <a:ext cx="636480" cy="141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103640" y="3125880"/>
              <a:ext cx="56520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RN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3120" y="3444840"/>
              <a:ext cx="0" cy="493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794040" y="2879640"/>
              <a:ext cx="567000" cy="424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84760" y="2951280"/>
              <a:ext cx="0" cy="493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784760" y="2809800"/>
              <a:ext cx="1203120" cy="141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2738520"/>
              <a:ext cx="1203480" cy="21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49960" y="3021120"/>
              <a:ext cx="63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49960" y="302112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035000" y="1820880"/>
              <a:ext cx="1839960" cy="2117880"/>
              <a:chOff x="1035000" y="1820880"/>
              <a:chExt cx="1839960" cy="2117880"/>
            </a:xfrm>
          </p:grpSpPr>
          <p:sp>
            <p:nvSpPr>
              <p:cNvPr id="119" name=""/>
              <p:cNvSpPr/>
              <p:nvPr/>
            </p:nvSpPr>
            <p:spPr>
              <a:xfrm>
                <a:off x="1035000" y="1820880"/>
                <a:ext cx="1414440" cy="127152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76480" y="1962000"/>
                <a:ext cx="141444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17600" y="210348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59080" y="224460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909800" y="2347920"/>
                <a:ext cx="45072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PP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343240" y="2984400"/>
                <a:ext cx="4190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Use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1981080" y="3195720"/>
                <a:ext cx="39996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GD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1486080" y="2984400"/>
                <a:ext cx="56520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KRNL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66840" y="3514680"/>
                <a:ext cx="0" cy="42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1743120" y="3092400"/>
                <a:ext cx="352440" cy="28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95560" y="3092400"/>
                <a:ext cx="566640" cy="21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238480" y="2951280"/>
                <a:ext cx="0" cy="18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38480" y="2951280"/>
                <a:ext cx="636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025720" y="2951280"/>
                <a:ext cx="0" cy="21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459080" y="2951280"/>
                <a:ext cx="566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30360" y="2668680"/>
                <a:ext cx="1273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698480" y="2706840"/>
                <a:ext cx="10382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Win 32</a:t>
                </a:r>
                <a:r>
                  <a:rPr b="1" lang="en-US" sz="13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™</a:t>
                </a: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AP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"/>
          <p:cNvSpPr txBox="1"/>
          <p:nvPr/>
        </p:nvSpPr>
        <p:spPr>
          <a:xfrm>
            <a:off x="779400" y="228600"/>
            <a:ext cx="7585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03360" y="2085840"/>
            <a:ext cx="613728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 functions that return a Boolean can be ba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Is GdiGetBatchLimit, GdiSetBatchLimit, Gdi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limit as high as possible while avoiding jerky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1720" y="228600"/>
            <a:ext cx="8080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57360" y="2263680"/>
            <a:ext cx="60292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user call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calls which return a handle or a number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the following do not flush the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fo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ru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p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8720" y="228600"/>
            <a:ext cx="7486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22320" y="2351160"/>
            <a:ext cx="54990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itmaps and region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WorldTransform, SetMapMode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8040" y="228600"/>
            <a:ext cx="738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19160" y="2351160"/>
            <a:ext cx="530532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batching to one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see error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profile API calls (covered later in 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6000" y="228600"/>
            <a:ext cx="7451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46160" y="2244600"/>
            <a:ext cx="525132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new poly...calls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Poly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 and PolyBezie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92000" y="228600"/>
            <a:ext cx="755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224460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private functions to anticipate the following new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itB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development now, then discard on release of Win3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8200" y="228600"/>
            <a:ext cx="7527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35120" y="228600"/>
            <a:ext cx="7674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600" y="2351160"/>
            <a:ext cx="8524800" cy="379728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07960" y="2682720"/>
            <a:ext cx="73119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 WINAPI  PolyTextO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ndle to the D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         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lpto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array of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trings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the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ptions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85800" y="4657680"/>
            <a:ext cx="715968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ETO_OPAQUE, ETO_CLIPPED, and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 ExtTextou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TRUE on success, FALSE otherwis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7360" y="228600"/>
            <a:ext cx="782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" y="2016000"/>
            <a:ext cx="8877240" cy="42735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05040" y="2151000"/>
            <a:ext cx="74073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 struct  _POLYT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x logical co-ord to start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y logical co-ord for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behavior controlled by SetTextAlign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these do not use nor affect the curr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posi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characters in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the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aqing/clipping rectangle for th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; ignored if doing neith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d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widths in logical co-ords of each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 char; ignored if no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19040" y="2494080"/>
            <a:ext cx="65055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ining high performance in Win32 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easurement tools for tuning applic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8240" y="22860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335320" y="2144880"/>
            <a:ext cx="4473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vo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following commo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forme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839960" y="2316240"/>
            <a:ext cx="546408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ea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, create, creat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0640" y="228600"/>
            <a:ext cx="7902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2044800"/>
            <a:ext cx="7162920" cy="34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ach DC, attempt to use the same attributes in a row as much as possibl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black, gray, black, g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gray, gray, black, 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avoids cache lookup for pens, fonts, colors, palettes, brus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8440" y="228600"/>
            <a:ext cx="8008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224460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wnDC as much as you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need for GetDC and Release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reateWindow, Get OwnDC, and proc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43040" y="228600"/>
            <a:ext cx="765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09840" y="2065320"/>
            <a:ext cx="61246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 are no longer pre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use PeekMessage as frequ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o UNICODE to avoid translation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3640" y="2286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Us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65400" y="2068560"/>
            <a:ext cx="661356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alig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s on word boundaries and double words on doubleword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r pragma for handling misaligned file or network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 for data alignment can destroy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228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MIP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2840" y="2014560"/>
            <a:ext cx="67183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you did all of the above, and performance is still an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ya gonna c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erformance Too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78040" y="1785960"/>
            <a:ext cx="55879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55920" y="228600"/>
            <a:ext cx="6032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tat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58840" y="1857240"/>
            <a:ext cx="68263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 which Win32 calls use time and/or are frequently c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 in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to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=&gt; Average time per API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min., max. call time p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127160" y="228600"/>
            <a:ext cx="688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90880" y="2076480"/>
            <a:ext cx="885960" cy="51444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414600" y="2678040"/>
            <a:ext cx="56520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47960" y="3595680"/>
            <a:ext cx="5400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4040" y="2678040"/>
            <a:ext cx="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34040" y="373680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7920" y="2678040"/>
            <a:ext cx="530280" cy="424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48480" y="3543480"/>
            <a:ext cx="212760" cy="406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27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371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73600" y="4019400"/>
            <a:ext cx="9208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46680" y="2502000"/>
            <a:ext cx="2193840" cy="635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503360" y="2430360"/>
            <a:ext cx="2317680" cy="51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36480" y="296064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4440" y="386064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288200" y="3878280"/>
            <a:ext cx="134316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R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3080" y="3490920"/>
            <a:ext cx="19548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58040" y="3595680"/>
            <a:ext cx="47772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325600" y="3049560"/>
            <a:ext cx="12924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49760" y="31719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29280" y="297828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27760" y="304956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62040" y="1828800"/>
            <a:ext cx="601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s have ch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nsive Win16 items are cheap on Win32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cheap Win16 items are expensive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79400" y="228600"/>
            <a:ext cx="7585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805040" y="1685880"/>
            <a:ext cx="55339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inter-module calls without recomp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application for complete dynamic call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ombine the above two methods in a single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89120" y="228600"/>
            <a:ext cx="75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33400" y="1576440"/>
            <a:ext cx="567684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dynamic program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each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functio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each calle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from each function to each cal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8268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8268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0384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60384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f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92360" y="2057400"/>
            <a:ext cx="77796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60760" y="3328920"/>
            <a:ext cx="336600" cy="917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68520" y="3346560"/>
            <a:ext cx="441360" cy="900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1880" y="2092320"/>
            <a:ext cx="88452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3960" y="3328920"/>
            <a:ext cx="584280" cy="93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95880" y="4352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95360" y="4352760"/>
            <a:ext cx="831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78640" y="4405320"/>
            <a:ext cx="1046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435720" y="28162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22560" y="1579680"/>
            <a:ext cx="992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755880" y="2498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5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38760" y="3451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597120" y="34876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241960" y="19335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7440" y="3505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38760" y="12556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280120" y="32860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53200" y="48402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627280" y="24210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627280" y="485784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51160" y="487512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1920" y="2646360"/>
            <a:ext cx="730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07960" y="228600"/>
            <a:ext cx="6327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911240" y="1517760"/>
            <a:ext cx="5321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running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prio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vs. privileged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49120" y="228600"/>
            <a:ext cx="8647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bugger Performance Comma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220968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 &lt;addr&gt; command for tracing calls and returns and the number of instructions between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kernel debugger:  wt, and also !time &lt;addr&gt; for timing sections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440000" y="228600"/>
            <a:ext cx="626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1976400"/>
            <a:ext cx="716292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resource ut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leneck detection and capacit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, alerts, logging, an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monitoring of multip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562040" y="228600"/>
            <a:ext cx="6019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53960" y="1857240"/>
            <a:ext cx="643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s maintained by system are polled at user selectabl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vailable through a registry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, memory, disk, cache, 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,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2 counters so f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795240" y="228600"/>
            <a:ext cx="7553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68560" y="2104920"/>
            <a:ext cx="1909800" cy="190188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84840" y="28116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01760" y="217152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5960" y="295272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67440" y="30942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281560" y="3178080"/>
            <a:ext cx="17035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363760" y="2865600"/>
            <a:ext cx="13082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005360" y="2881440"/>
            <a:ext cx="84924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4005360" y="3164040"/>
            <a:ext cx="99036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005360" y="3446640"/>
            <a:ext cx="1133280" cy="423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12880" y="228600"/>
            <a:ext cx="7518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92120" y="2475000"/>
            <a:ext cx="2038320" cy="167004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90840" y="255096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87880" y="2449440"/>
            <a:ext cx="3687840" cy="295272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19640" y="2546280"/>
            <a:ext cx="340992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nder 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89240" y="3282840"/>
            <a:ext cx="20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1000" y="3363840"/>
            <a:ext cx="17812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87880" y="3057480"/>
            <a:ext cx="2033640" cy="723960"/>
          </a:xfrm>
          <a:prstGeom prst="rect">
            <a:avLst/>
          </a:prstGeom>
          <a:gradFill rotWithShape="0">
            <a:gsLst>
              <a:gs pos="0">
                <a:srgbClr val="8901f3"/>
              </a:gs>
              <a:gs pos="100000">
                <a:srgbClr val="5f00aa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227480" y="3054240"/>
            <a:ext cx="13971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87880" y="4587840"/>
            <a:ext cx="1033560" cy="5284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332240" y="4578480"/>
            <a:ext cx="74772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27800" y="4594320"/>
            <a:ext cx="1285920" cy="5176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813280" y="4705200"/>
            <a:ext cx="72396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5240" y="3786120"/>
            <a:ext cx="690480" cy="6764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453360" y="3976560"/>
            <a:ext cx="54468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98600" y="4626000"/>
            <a:ext cx="1447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181560" y="3781440"/>
            <a:ext cx="185760" cy="326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491080" y="3852720"/>
            <a:ext cx="527040" cy="723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740120" y="3781440"/>
            <a:ext cx="398520" cy="795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3005280"/>
            <a:ext cx="212760" cy="10587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93552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016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22760" y="314640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2760" y="335916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22760" y="34988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22760" y="37814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368520" y="4064040"/>
            <a:ext cx="425520" cy="565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819680" y="3076560"/>
            <a:ext cx="106056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76960" y="3270240"/>
            <a:ext cx="7365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lib/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3400" y="228600"/>
            <a:ext cx="7478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20880" y="1892160"/>
            <a:ext cx="73026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ounters from multiple systems graph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graph, and histogram (for many items, for example, threa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value, avg., max., min. of selected i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90800" y="2144880"/>
            <a:ext cx="51624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virtual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ard old custom virtual memory sche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emory-mapping for read-only file ac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1440" y="228600"/>
            <a:ext cx="8061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08040" y="228600"/>
            <a:ext cx="7929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371600" y="1857240"/>
            <a:ext cx="64008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lerts from multiple systems monitor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for counter over/under value across polling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 can popup, beep, system event log, or network al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03360" y="228600"/>
            <a:ext cx="79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86080" y="1857240"/>
            <a:ext cx="61722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counters from multiple systems simultaneously to one lo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 log file back into Performance Monitor for graphing, alerting, reporting, or filtered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logged data for spreadsheet or data bas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65200" y="228600"/>
            <a:ext cx="80136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Performance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2720" y="1857240"/>
            <a:ext cx="6118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, threads, and file 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and batching influence choice and order of graphics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nput model  reduces PeekMessage ca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428840" y="228600"/>
            <a:ext cx="6286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90720" y="1790640"/>
            <a:ext cx="7162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53960" y="2158920"/>
            <a:ext cx="64357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large data address spaces, but only commit what you n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amed shared segments (faster than files or named pip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2840" y="2254320"/>
            <a:ext cx="67183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equential I/O, use 4K blocks and parse them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s to utilize multiple processors and enhance concur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09640" y="228600"/>
            <a:ext cx="7524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92280" y="1900080"/>
            <a:ext cx="595944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files open as opposed to repeated open/use/clo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and local allocation are the same (except  DDESH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-critical priority for data communicati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-locking API is provided for time-crit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0160" y="228600"/>
            <a:ext cx="748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17600" y="1849320"/>
            <a:ext cx="4708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ew data type MULTI_SZ in configuration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22160" y="228600"/>
            <a:ext cx="76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93760" y="3622680"/>
            <a:ext cx="6756480" cy="13431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92240" y="3686040"/>
            <a:ext cx="14130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\AppValu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240" y="4075200"/>
            <a:ext cx="53071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Properties = “Black border” “Red Pointer” “Inverted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240" y="4411800"/>
            <a:ext cx="4265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Timing = “Slow Blinking” “Rapid Update”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209680"/>
            <a:ext cx="716292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he application using UNICODE to avoid translation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skcache tuning required:  Pageable memory not in use by apps. is used for a single disk cache by all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3160" y="228600"/>
            <a:ext cx="7740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