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121360" y="76320"/>
            <a:ext cx="3478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 Martinez(2)93006 OLE 2.0 PDC 5/93 </a:t>
            </a:r>
            <a:fld id="{F5884095-9933-4890-9F44-1A6404FEB0AF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774720"/>
            <a:ext cx="817236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Simple Containers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 Martinez</a:t>
            </a: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046320" y="3424320"/>
            <a:ext cx="46512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645080" y="4859280"/>
            <a:ext cx="14508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08120" y="388800"/>
            <a:ext cx="1365120" cy="988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911240" y="565200"/>
            <a:ext cx="49860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do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8640" y="565200"/>
            <a:ext cx="1112760" cy="61596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docu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57280" y="1790640"/>
            <a:ext cx="62294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activ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object can exist in multiple in-place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465960" y="2760840"/>
            <a:ext cx="26719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13040" y="2751120"/>
            <a:ext cx="4449600" cy="246060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32120" y="2970360"/>
            <a:ext cx="4255920" cy="206532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16080" y="5092560"/>
            <a:ext cx="18241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s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06320" y="387360"/>
            <a:ext cx="1366920" cy="988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33320" y="619200"/>
            <a:ext cx="1063800" cy="51588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06320" y="1127160"/>
            <a:ext cx="49356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si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32120" y="2970360"/>
            <a:ext cx="4255920" cy="206532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16080" y="5092560"/>
            <a:ext cx="18241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32120" y="2970360"/>
            <a:ext cx="4255920" cy="206532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13040" y="2751120"/>
            <a:ext cx="4449600" cy="246060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4120" y="1479600"/>
            <a:ext cx="216216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041560"/>
            <a:ext cx="5460840" cy="394812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473880" y="2722680"/>
            <a:ext cx="26719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1600" y="5092560"/>
            <a:ext cx="18241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ainer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ck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5120" y="1733400"/>
            <a:ext cx="53341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tiating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aving and lo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p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00240" y="1638360"/>
            <a:ext cx="67438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to use both Compound File I/O and OpenFile 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your output streams and stor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object needs its own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84120" y="1479600"/>
            <a:ext cx="216216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2041560"/>
            <a:ext cx="5460840" cy="394812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47920" y="1714680"/>
            <a:ext cx="624852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MDI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s me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current activ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border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s menu status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s keyboard accel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76440" y="385920"/>
            <a:ext cx="1365120" cy="988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91960" y="222120"/>
            <a:ext cx="57960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fram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6440" y="385920"/>
            <a:ext cx="1365120" cy="98748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fr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1733400"/>
            <a:ext cx="716292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client must imple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InPlaceFr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76440" y="385920"/>
            <a:ext cx="1365120" cy="988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91960" y="222120"/>
            <a:ext cx="57960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fram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6440" y="385920"/>
            <a:ext cx="1365120" cy="98748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fr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22240" y="2870280"/>
            <a:ext cx="7475400" cy="371484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DECLARE_INTERFACE_(IOleInPlaceFrame, IOleInPlaceUIWindow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{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Unknown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QueryInterface) (THIS_ REFIID riid, LPVOID FAR* ppvObj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AddRef) (THIS) 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Release) (THI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OleWindow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GetWindow) (THIS_ HWND FAR* lphwnd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ContextSensitiveHelp) (THIS_ BOOL fEnterMode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OleInPlaceUIWindow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GetBorder) (THIS_ LPRECT lprectBorder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RequestBorderSpace) (THIS_ LPCBORDERWIDTHS lpborderwidth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BorderSpace) (THIS_ LPCBORDERWIDTHS lpborderwidth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ActiveObject) (THIS_ LPOLEINPLACEACTIVEOBJECT lpActiveObject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LPCSTR lpszObjName) PURE;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OleInPlaceFrame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InsertMenus) (THIS_ HMENU hmenuShared, LPOLEMENUGROUPWIDTHS lpMenuWidth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Menu) (THIS_ HMENU hmenuShared, HOLEMENU holemenu, HWND hwndActiveObject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RemoveMenus) (THIS_ HMENU hmenuShared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StatusText) (THIS_ LPCSTR lpszStatusText) PURE;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EnableModeless) (THIS_ BOOL fEnable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TranslateAccelerator) (THIS_ LPMSG lpmsg, WORD wID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84120" y="1479600"/>
            <a:ext cx="216216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2041560"/>
            <a:ext cx="5460840" cy="394812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6523200" y="2760840"/>
            <a:ext cx="26719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13040" y="2751120"/>
            <a:ext cx="4449600" cy="246060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