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121360" y="76320"/>
            <a:ext cx="33148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 Martinez 93006 OLE 2.0 PDC 5/93 </a:t>
            </a:r>
            <a:fld id="{23DCEAA1-0945-4B67-9B40-BC538A600B5C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952560"/>
            <a:ext cx="817236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Simple Containers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 Martinez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1738440"/>
            <a:ext cx="71629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ll keep the existing changes made to a storage.  File saves perform a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n the root level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an _lcl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turns a count of zero then the IStorage is no longer val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238560" y="1739880"/>
            <a:ext cx="2666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Unknown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Stream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iz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ock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Stream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238560" y="1739880"/>
            <a:ext cx="2666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Unknown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Query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AddR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Stream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tSiz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Copy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v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Lock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Unlock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t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Cl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ream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ream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738440"/>
            <a:ext cx="7162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 the same as _l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 the same as _lwr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 the same as _llsee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changes to disk, but won’t be physically there until parents comm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Looking a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88920" y="1336680"/>
            <a:ext cx="73915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Ole2.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Object creation APIs *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API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Crea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CLSID rclsid, REFIID riid, DWORD renderopt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FORMATETC pFormatEtc, LPOLECLIENTSITE pClientSit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STORAGE pStg, LPVOID FAR* ppvOb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2852640"/>
            <a:ext cx="7883640" cy="34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s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Reference ID of the server that will create and edit the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itial interface request.  Typically IID_IOle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derop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endering options.  Typically OLERENDER_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FormatEtc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Format for the rendered object.  Typically NU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☒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lientSit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ointer to the IOleClientSite.  Almost always a valid IOleClientSite interface poi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tg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Storage created by container within the containers root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vObj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terface drop for the requeste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Se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2286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Interface Grouping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81200" y="1344600"/>
            <a:ext cx="60912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asic Contain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81200" y="1344600"/>
            <a:ext cx="60912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OleClient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400480" y="1739880"/>
            <a:ext cx="4365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OleClientSite methods 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Moni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Cont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how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stNewObjectLay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OleClient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00480" y="1739880"/>
            <a:ext cx="4365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OleClientSite methods 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GetMoni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GetCont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how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questNewObjectLay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OleClient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1738440"/>
            <a:ext cx="7162920" cy="23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is requesting that the container save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the container call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Sav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this callb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ainer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Topical out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065320" y="1738440"/>
            <a:ext cx="50148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tiating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OleClient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49280" y="1738440"/>
            <a:ext cx="8247240" cy="36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is requesting that the container display the object.  The container typically gets the IViewObject from the IOleObject and performs a 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howWind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tes that the object has just been opened.  Good time to set the hatch border 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Advise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400480" y="1739880"/>
            <a:ext cx="41292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AdviseSink methods 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Data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View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Re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Advise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400480" y="1739880"/>
            <a:ext cx="41292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AdviseSink methods 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OnData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View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OnRe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OnS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On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Advise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90720" y="1733400"/>
            <a:ext cx="716292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AdviseSink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View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alidate client are where the object is visible to the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988920" y="1336680"/>
            <a:ext cx="73915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Ole2.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Object creation APIs *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API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Crea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CLSID rclsid, REFIID riid, DWORD renderopt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FORMATETC pFormatEtc, LPOLECLIENTSITE pClientSit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STORAGE pStg, LPVOID FAR* ppvOb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2852640"/>
            <a:ext cx="7883640" cy="34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s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Reference ID of the server that will create and edit the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itial interface request.  Typically IID_IOle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derop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endering options.  Typically OLERENDER_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FormatEtc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Format for the rendered object.  Typically NU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lientSit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ointer to the IOleClientSite.  Almost always a valid IOleClientSite interface poi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tg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Storage created by container within the containers root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vObj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terface drop for the requeste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Se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ntiating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ntiating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733400"/>
            <a:ext cx="716292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Cre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Advise 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IOle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is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IAdviseS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host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IOle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Host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the application name and objec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ntiating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733400"/>
            <a:ext cx="71629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Ve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IOle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Ver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OLEIVERB_S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 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IOleClientSite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the IViewObject interface by calling IOle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IView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the IViewObject by calling IView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ainer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41280" y="1738440"/>
            <a:ext cx="66610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imple container implements the absolute minimum number of interfaces required for an open mod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an OLE 1.0 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33280"/>
            <a:ext cx="81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oking ah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76240" y="1432080"/>
            <a:ext cx="73915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Ole2.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Object creation APIs *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API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Crea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CLSID rclsid, REFIID riid, DWORD renderopt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FORMATETC pFormatEtc, LPOLECLIENTSITE pClientSit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STORAGE pStg, LPVOID FAR* ppvOb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30360" y="3043080"/>
            <a:ext cx="7883640" cy="34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s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Reference id of the server that will create and edit th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itial interface request.  Typically IID_IOle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derop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endering options.  Typically OLERENDER_DRA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FormatEtc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Format for the rendered object.  Typically NU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☒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lientSit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ointer to the IOleClientSite.  Almost always a valid IOleClientSite interface poi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☒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tg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Storage created by container within the containers root stor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vObj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terface drop for the requeste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See abov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459080"/>
            <a:ext cx="71629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root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gCreateDocfi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s you would OpenFile(OF_CRE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the root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root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gOpenStorag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s you would OpenFile; similar fla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open and creat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oot stor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GM_TRANSACTED fl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87800" y="1395360"/>
            <a:ext cx="266688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Unknown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Storage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Element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El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El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ameEl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ElementTi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Cla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tateB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87800" y="1395360"/>
            <a:ext cx="266688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Unknown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Query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AddR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Storage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Copy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MoveElement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v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EnumEl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DestroyEl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nameEl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tElementTi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tCla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tStateB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t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85800" y="1738440"/>
            <a:ext cx="597384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named stream within a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an IStream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n existing named stream within a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an IStream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1738440"/>
            <a:ext cx="716292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new named storage within a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a child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 named storage within a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a child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