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761588-4178-48B9-A362-5A912FD4E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is IAdviseSink2; added late in the game; easy for containers to indicate they want the information; just respond properly to Q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w risk because all original scenarios still supported; no leap or wide gap to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compound documents and automation working to start; add other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 id doesn’t change with additions (changes with changes in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we can move past the generalities into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ter session goes into detail on vtables, initialization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inter to in-process implementation may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ce defined, only fully compatible changes (e.g., reserved -&gt; 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st verify reserved params are 0/N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have no data and no access to class with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in comp object, can have C++ classes used directl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.g., cache deals with internal cache node object; is C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data so remoting is trans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OMG interface similar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sed on DCE standard; different name; same meaning and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than enough bits to number every known molecule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iker registration likely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talk solely from component object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users, whether shipping with OLE2 or later, are equal in nature and val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as mantra: when skiing, biking, knitting, medit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inheritance: refinement, inverse dependency,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versally, frameworks ship with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bjec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cause of code, new versions can be very difficult to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ing hassle comes from inverse and ill specified dependency: operation of base class depends upon correct implementation in derived class (really a problem involving overrid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milar problems when chang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be general nature of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liminates problems due to protected and overr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binary standard no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interface is only way for interaction, n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s of aggregate know n in advance; rarely indirect creation of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 pointers (derived from IUnknown) are ref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pointer must have a reference; common use is get, use,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pointer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kinds of pointers not rul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 control life time of per-interface resources; special restrictions for aggregatabl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GC because no standard; no standard because no way to create one system which works for al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hing special; a little more expensive for each pointer copy (i.e., each addref); deletion costs defered until last use rel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on special cases to rules: in params; back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art pointers using templates in C++ worthy idea; argument passing can be ineffe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metimes a block of memory serves more than one object (i.e., there is more than one reference count); in that case, the mantra becomes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examples; more: enumerators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ttle bit of a chicken and egg problem; best examples overlap a bit with later tas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one interface to the component object model itself (the API on compobj.dll) and only one implementation (compobj.d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rting point is familiar (a.k.a. bootstr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sier to 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 if interface, need at least one call to get pointer to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lobal understanding; do not use what is not docu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use documented info; if you need to use, just ask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V info can be quite revealing; again, don’t code to it; may ch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on classes and simple data types no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e information may become clearer the day goe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ference counts buffered between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GetClassObject - may launch EXE or load DLL a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ly for 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l to pCF-&gt;CreateInstance is special because connection is via channel, not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eds more work; bett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ghtweight - enums, monikers; may have custom marshaling to move themselves from one process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osely releated to inter-process calls; object table, stub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chanis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arshal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OID directly (for class object; no custom marsha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ockObjectExternal - operator on stub mgr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SetContainedObject - internal mos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ortant for apps to call CoFreeUnusedLibraries even though it does nothing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lain why DLL can’t self un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der a little different because of compobj view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of vtable is an extra param and indirec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are fixed onc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nal to object can use inheritance or any other private scheme; e.g. for memory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access t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ngauges: M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9085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ig Wittenberg(1) 93006 OLE 2.0 PDC 5/93 </a:t>
            </a:r>
            <a:fld id="{53C92D52-6230-4EA1-A18D-3CE564326FC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25360"/>
            <a:ext cx="817236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aig Wittenberg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Developme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205080" y="3123360"/>
            <a:ext cx="1329480" cy="173160"/>
            <a:chOff x="3205080" y="3123360"/>
            <a:chExt cx="1329480" cy="173160"/>
          </a:xfrm>
        </p:grpSpPr>
        <p:sp>
          <p:nvSpPr>
            <p:cNvPr id="75" name=""/>
            <p:cNvSpPr/>
            <p:nvPr/>
          </p:nvSpPr>
          <p:spPr>
            <a:xfrm>
              <a:off x="3205080" y="3209760"/>
              <a:ext cx="114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32440" y="3123360"/>
              <a:ext cx="402120" cy="173160"/>
            </a:xfrm>
            <a:custGeom>
              <a:avLst/>
              <a:gdLst/>
              <a:ahLst/>
              <a:rect l="0" t="0" r="r" b="b"/>
              <a:pathLst>
                <a:path w="1117" h="481">
                  <a:moveTo>
                    <a:pt x="1117" y="238"/>
                  </a:moveTo>
                  <a:lnTo>
                    <a:pt x="39" y="0"/>
                  </a:lnTo>
                  <a:lnTo>
                    <a:pt x="39" y="0"/>
                  </a:lnTo>
                  <a:cubicBezTo>
                    <a:pt x="13" y="77"/>
                    <a:pt x="0" y="157"/>
                    <a:pt x="0" y="238"/>
                  </a:cubicBezTo>
                  <a:cubicBezTo>
                    <a:pt x="0" y="320"/>
                    <a:pt x="13" y="402"/>
                    <a:pt x="41" y="481"/>
                  </a:cubicBezTo>
                  <a:lnTo>
                    <a:pt x="1117" y="23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4857840" y="2630520"/>
            <a:ext cx="568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tb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54120" y="255420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82760" y="2994120"/>
            <a:ext cx="544680" cy="306360"/>
            <a:chOff x="482760" y="2994120"/>
            <a:chExt cx="544680" cy="306360"/>
          </a:xfrm>
        </p:grpSpPr>
        <p:sp>
          <p:nvSpPr>
            <p:cNvPr id="80" name=""/>
            <p:cNvSpPr/>
            <p:nvPr/>
          </p:nvSpPr>
          <p:spPr>
            <a:xfrm>
              <a:off x="482760" y="3036960"/>
              <a:ext cx="544680" cy="2635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92120" y="2994120"/>
              <a:ext cx="4968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pint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778360" y="3122640"/>
            <a:ext cx="1260000" cy="176040"/>
            <a:chOff x="5778360" y="3122640"/>
            <a:chExt cx="1260000" cy="176040"/>
          </a:xfrm>
        </p:grpSpPr>
        <p:sp>
          <p:nvSpPr>
            <p:cNvPr id="83" name=""/>
            <p:cNvSpPr/>
            <p:nvPr/>
          </p:nvSpPr>
          <p:spPr>
            <a:xfrm>
              <a:off x="5778360" y="3209760"/>
              <a:ext cx="10954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3920" y="31226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020000" y="2959200"/>
            <a:ext cx="1197000" cy="582480"/>
            <a:chOff x="7020000" y="2959200"/>
            <a:chExt cx="1197000" cy="582480"/>
          </a:xfrm>
        </p:grpSpPr>
        <p:sp>
          <p:nvSpPr>
            <p:cNvPr id="86" name=""/>
            <p:cNvSpPr/>
            <p:nvPr/>
          </p:nvSpPr>
          <p:spPr>
            <a:xfrm>
              <a:off x="7020000" y="295920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7211880" y="308772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548240" y="3013200"/>
            <a:ext cx="1255680" cy="13651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48240" y="3282840"/>
            <a:ext cx="1255680" cy="8254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48240" y="3552840"/>
            <a:ext cx="1255680" cy="2826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60800" y="299412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60800" y="325764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60800" y="354636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076400" y="3073680"/>
            <a:ext cx="1346760" cy="174600"/>
            <a:chOff x="1076400" y="3073680"/>
            <a:chExt cx="1346760" cy="174600"/>
          </a:xfrm>
        </p:grpSpPr>
        <p:sp>
          <p:nvSpPr>
            <p:cNvPr id="95" name=""/>
            <p:cNvSpPr/>
            <p:nvPr/>
          </p:nvSpPr>
          <p:spPr>
            <a:xfrm>
              <a:off x="1076400" y="3160800"/>
              <a:ext cx="10350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89080" y="3073680"/>
              <a:ext cx="334080" cy="174600"/>
            </a:xfrm>
            <a:custGeom>
              <a:avLst/>
              <a:gdLst/>
              <a:ahLst/>
              <a:rect l="0" t="0" r="r" b="b"/>
              <a:pathLst>
                <a:path w="928" h="485">
                  <a:moveTo>
                    <a:pt x="928" y="242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2" y="78"/>
                    <a:pt x="0" y="159"/>
                    <a:pt x="0" y="241"/>
                  </a:cubicBezTo>
                  <a:cubicBezTo>
                    <a:pt x="0" y="323"/>
                    <a:pt x="12" y="406"/>
                    <a:pt x="35" y="485"/>
                  </a:cubicBezTo>
                  <a:lnTo>
                    <a:pt x="928" y="24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195120" y="2611440"/>
            <a:ext cx="118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u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09840" y="2994120"/>
            <a:ext cx="992160" cy="1096920"/>
            <a:chOff x="2409840" y="2994120"/>
            <a:chExt cx="992160" cy="1096920"/>
          </a:xfrm>
        </p:grpSpPr>
        <p:grpSp>
          <p:nvGrpSpPr>
            <p:cNvPr id="99" name=""/>
            <p:cNvGrpSpPr/>
            <p:nvPr/>
          </p:nvGrpSpPr>
          <p:grpSpPr>
            <a:xfrm>
              <a:off x="2409840" y="2995560"/>
              <a:ext cx="992160" cy="1095480"/>
              <a:chOff x="2409840" y="2995560"/>
              <a:chExt cx="992160" cy="1095480"/>
            </a:xfrm>
          </p:grpSpPr>
          <p:sp>
            <p:nvSpPr>
              <p:cNvPr id="100" name=""/>
              <p:cNvSpPr/>
              <p:nvPr/>
            </p:nvSpPr>
            <p:spPr>
              <a:xfrm>
                <a:off x="2409840" y="2995560"/>
                <a:ext cx="982800" cy="109548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09840" y="3267000"/>
                <a:ext cx="982800" cy="55404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09840" y="3538440"/>
                <a:ext cx="992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 txBox="1"/>
            <p:nvPr/>
          </p:nvSpPr>
          <p:spPr>
            <a:xfrm>
              <a:off x="2643120" y="299412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vpt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03520" y="3303720"/>
              <a:ext cx="612720" cy="7365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538360" y="3333600"/>
              <a:ext cx="679320" cy="725760"/>
              <a:chOff x="2538360" y="3333600"/>
              <a:chExt cx="679320" cy="725760"/>
            </a:xfrm>
          </p:grpSpPr>
          <p:sp>
            <p:nvSpPr>
              <p:cNvPr id="106" name=""/>
              <p:cNvSpPr txBox="1"/>
              <p:nvPr/>
            </p:nvSpPr>
            <p:spPr>
              <a:xfrm>
                <a:off x="2538360" y="3333600"/>
                <a:ext cx="679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v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2538360" y="3549600"/>
                <a:ext cx="625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bject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2538360" y="3768840"/>
                <a:ext cx="54144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t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7020000" y="3720960"/>
            <a:ext cx="1197000" cy="582480"/>
            <a:chOff x="7020000" y="3720960"/>
            <a:chExt cx="1197000" cy="582480"/>
          </a:xfrm>
        </p:grpSpPr>
        <p:sp>
          <p:nvSpPr>
            <p:cNvPr id="110" name=""/>
            <p:cNvSpPr/>
            <p:nvPr/>
          </p:nvSpPr>
          <p:spPr>
            <a:xfrm>
              <a:off x="7020000" y="372096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211880" y="384984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816520" y="3400560"/>
            <a:ext cx="1221840" cy="583920"/>
            <a:chOff x="5816520" y="3400560"/>
            <a:chExt cx="1221840" cy="583920"/>
          </a:xfrm>
        </p:grpSpPr>
        <p:sp>
          <p:nvSpPr>
            <p:cNvPr id="113" name=""/>
            <p:cNvSpPr/>
            <p:nvPr/>
          </p:nvSpPr>
          <p:spPr>
            <a:xfrm>
              <a:off x="5816520" y="3400560"/>
              <a:ext cx="905040" cy="476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3920" y="38084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5006880" y="3813120"/>
            <a:ext cx="32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277040" y="4419720"/>
            <a:ext cx="685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ble;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00320" y="1405080"/>
            <a:ext cx="7013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and EXE extensions loaded based on CLSID (e.g., insert obj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oniker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“built-in” functionality (e.g., handler, task alloca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or replaced functionality indistinguishable from orig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; support old; low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fin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419200" y="1738440"/>
            <a:ext cx="43052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counting and po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nterface Is The Contra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36760" y="1598760"/>
            <a:ext cx="62704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s meaning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IID, parameters, error codes, memory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abstract class with certain calling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 of implementation is trans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ng new on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619280"/>
            <a:ext cx="87249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ClassFactory, IUnknow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THIS_ REFIID rii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(THIS) 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(THIS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ClassFactory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reateInstance)(THIS_ LPUNKNOWN pUnkOut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ect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LockServer)(THIS_ BOOL fLock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def       IClassFactory FAR* LPCLASSFACTOR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Objec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142884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one or mor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access via interfaces; no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notion of class; some objects have 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rect creation if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ementation inheritance; reuse via delegation and aggr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is class-specific (even if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With Three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74920" y="2309760"/>
            <a:ext cx="4305600" cy="3137040"/>
            <a:chOff x="2374920" y="2309760"/>
            <a:chExt cx="4305600" cy="3137040"/>
          </a:xfrm>
        </p:grpSpPr>
        <p:sp>
          <p:nvSpPr>
            <p:cNvPr id="129" name=""/>
            <p:cNvSpPr/>
            <p:nvPr/>
          </p:nvSpPr>
          <p:spPr>
            <a:xfrm>
              <a:off x="4646520" y="2309760"/>
              <a:ext cx="2031840" cy="3137040"/>
            </a:xfrm>
            <a:prstGeom prst="rect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3480" y="259236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3480" y="372420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3480" y="4856040"/>
              <a:ext cx="311040" cy="3189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22680" y="272736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22680" y="385920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22680" y="499104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381400" y="240048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374920" y="356076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374920" y="4686120"/>
              <a:ext cx="5875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4694400" y="2841480"/>
              <a:ext cx="19861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865760" y="3549600"/>
              <a:ext cx="164304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,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1585800"/>
            <a:ext cx="716292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-w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globally unique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bytes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for CLSID, IID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lloc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et card, run uuidgen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contact Microsoft for 256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result in {} for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FromIID, StringFrom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09800" y="1428840"/>
            <a:ext cx="71629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run of uuid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:&gt;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uuid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D04FB40-9813-1068-AC20-0080C70E55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 form of sa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* szGUID = “{DD04FB40-9813-1068-AC20-0080C70E55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INE_GUID(0xDD04FB40, 0x9813, 0x1068, 0xAC, 0x20, 0x00, 0x80, 0xC7, 0x0E, 0x55, 0x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nimal Regist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1738440"/>
            <a:ext cx="7162920" cy="37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need to lis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(when used) i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hard code info;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xample:  composite moni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 = CompositeMoni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\InprocServer = ole2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ys To Suc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36600" y="1738440"/>
            <a:ext cx="6670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global, act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; incremental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standard; open, exte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ok under the 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Inherit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82680" y="1422360"/>
            <a:ext cx="65786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fast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small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trivial cases require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ood for sensitiv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ing hass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enanc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ly a problem with languages: no way to define a strict contract between base and derived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733400"/>
            <a:ext cx="7162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lass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sed edit control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t differ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kill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Frameworks:  InterViews, MacApp, MFC, Object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abstract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9800" y="1390680"/>
            <a:ext cx="716292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this-&gt;M2()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2() 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Derived : public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Base::M1() 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 of  Base different in context of Deri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fication of call to Base::M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8920" y="1738440"/>
            <a:ext cx="60879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es all problems with implementation 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afe; completely encapsu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d at creation time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96960" y="1695600"/>
            <a:ext cx="5988240" cy="3601800"/>
            <a:chOff x="1596960" y="1695600"/>
            <a:chExt cx="5988240" cy="3601800"/>
          </a:xfrm>
        </p:grpSpPr>
        <p:sp>
          <p:nvSpPr>
            <p:cNvPr id="157" name=""/>
            <p:cNvSpPr/>
            <p:nvPr/>
          </p:nvSpPr>
          <p:spPr>
            <a:xfrm>
              <a:off x="2595600" y="2584440"/>
              <a:ext cx="4989600" cy="2712960"/>
            </a:xfrm>
            <a:prstGeom prst="rect">
              <a:avLst/>
            </a:prstGeom>
            <a:solidFill>
              <a:srgbClr val="0020a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8880" y="3030480"/>
              <a:ext cx="1274760" cy="146988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1480" y="3222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11480" y="3987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11480" y="4753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11280" y="33289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00480" y="4079880"/>
              <a:ext cx="7063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600200" y="307512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1596960" y="386064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596960" y="4621320"/>
              <a:ext cx="4586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23040" y="3867120"/>
              <a:ext cx="1900080" cy="122220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5481720" y="4275000"/>
              <a:ext cx="181440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13040" y="2328840"/>
              <a:ext cx="0" cy="693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13320" y="2114640"/>
              <a:ext cx="19836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917800" y="169560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40320" y="3481560"/>
              <a:ext cx="3240" cy="3744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40600" y="329724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5551560" y="286848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99000" y="3405240"/>
              <a:ext cx="2524320" cy="881280"/>
            </a:xfrm>
            <a:custGeom>
              <a:avLst/>
              <a:gdLst/>
              <a:ahLst/>
              <a:rect l="0" t="0" r="r" b="b"/>
              <a:pathLst>
                <a:path fill="none" w="7012" h="2448">
                  <a:moveTo>
                    <a:pt x="0" y="2448"/>
                  </a:moveTo>
                  <a:lnTo>
                    <a:pt x="2906" y="2439"/>
                  </a:lnTo>
                  <a:lnTo>
                    <a:pt x="3555" y="564"/>
                  </a:lnTo>
                  <a:lnTo>
                    <a:pt x="7012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16280" y="2774880"/>
              <a:ext cx="2202120" cy="1416240"/>
            </a:xfrm>
            <a:custGeom>
              <a:avLst/>
              <a:gdLst/>
              <a:ahLst/>
              <a:rect l="0" t="0" r="r" b="b"/>
              <a:pathLst>
                <a:path fill="none" w="6117" h="3934">
                  <a:moveTo>
                    <a:pt x="6117" y="3934"/>
                  </a:moveTo>
                  <a:lnTo>
                    <a:pt x="3846" y="3290"/>
                  </a:lnTo>
                  <a:lnTo>
                    <a:pt x="2368" y="2174"/>
                  </a:lnTo>
                  <a:lnTo>
                    <a:pt x="2368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360" y="2619360"/>
              <a:ext cx="122760" cy="308160"/>
            </a:xfrm>
            <a:custGeom>
              <a:avLst/>
              <a:gdLst/>
              <a:ahLst/>
              <a:rect l="0" t="0" r="r" b="b"/>
              <a:pathLst>
                <a:path w="341" h="856">
                  <a:moveTo>
                    <a:pt x="0" y="433"/>
                  </a:moveTo>
                  <a:lnTo>
                    <a:pt x="341" y="0"/>
                  </a:lnTo>
                  <a:lnTo>
                    <a:pt x="341" y="856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07040" y="3265560"/>
              <a:ext cx="127440" cy="327240"/>
            </a:xfrm>
            <a:custGeom>
              <a:avLst/>
              <a:gdLst/>
              <a:ahLst/>
              <a:rect l="0" t="0" r="r" b="b"/>
              <a:pathLst>
                <a:path w="354" h="909">
                  <a:moveTo>
                    <a:pt x="354" y="379"/>
                  </a:moveTo>
                  <a:lnTo>
                    <a:pt x="0" y="0"/>
                  </a:lnTo>
                  <a:lnTo>
                    <a:pt x="52" y="909"/>
                  </a:lnTo>
                  <a:lnTo>
                    <a:pt x="354" y="37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2997360" y="3306600"/>
              <a:ext cx="14335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289320" y="3745080"/>
              <a:ext cx="79848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03360" y="4879800"/>
              <a:ext cx="3019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954160" y="267660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840360" y="348948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4327560" y="189396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970680" y="311292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0080" y="4178160"/>
              <a:ext cx="1969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3760" y="4106880"/>
              <a:ext cx="19836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85640" y="214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Aggregate Or N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697040" y="1738440"/>
            <a:ext cx="62150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quired for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common for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imple to make optionally aggrega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s in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76320" y="1738440"/>
            <a:ext cx="53910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control that supports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ata Cac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6480" y="29718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487760" y="33037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345280" y="2401920"/>
            <a:ext cx="198360" cy="558720"/>
            <a:chOff x="5345280" y="2401920"/>
            <a:chExt cx="198360" cy="558720"/>
          </a:xfrm>
        </p:grpSpPr>
        <p:sp>
          <p:nvSpPr>
            <p:cNvPr id="196" name=""/>
            <p:cNvSpPr/>
            <p:nvPr/>
          </p:nvSpPr>
          <p:spPr>
            <a:xfrm>
              <a:off x="5445000" y="258588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45280" y="24019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543640" y="311616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608280" y="23544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65560" y="250344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87720" y="3127320"/>
            <a:ext cx="1089000" cy="212760"/>
            <a:chOff x="3087720" y="3127320"/>
            <a:chExt cx="1089000" cy="212760"/>
          </a:xfrm>
        </p:grpSpPr>
        <p:sp>
          <p:nvSpPr>
            <p:cNvPr id="202" name=""/>
            <p:cNvSpPr/>
            <p:nvPr/>
          </p:nvSpPr>
          <p:spPr>
            <a:xfrm>
              <a:off x="3087720" y="31273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87880" y="323388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1371600" y="28321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87720" y="3622680"/>
            <a:ext cx="1050840" cy="212760"/>
            <a:chOff x="3087720" y="3622680"/>
            <a:chExt cx="1050840" cy="212760"/>
          </a:xfrm>
        </p:grpSpPr>
        <p:sp>
          <p:nvSpPr>
            <p:cNvPr id="206" name=""/>
            <p:cNvSpPr/>
            <p:nvPr/>
          </p:nvSpPr>
          <p:spPr>
            <a:xfrm>
              <a:off x="3087720" y="36226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87880" y="3728880"/>
              <a:ext cx="850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1504800" y="33465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43640" y="2552760"/>
            <a:ext cx="362160" cy="572040"/>
          </a:xfrm>
          <a:custGeom>
            <a:avLst/>
            <a:gdLst/>
            <a:ahLst/>
            <a:rect l="0" t="0" r="r" b="b"/>
            <a:pathLst>
              <a:path fill="none" w="1006" h="1589">
                <a:moveTo>
                  <a:pt x="476" y="1589"/>
                </a:moveTo>
                <a:lnTo>
                  <a:pt x="1006" y="583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efault Hand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9240" y="1879560"/>
            <a:ext cx="4989600" cy="444672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6560" y="2325600"/>
            <a:ext cx="1332000" cy="146988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46680" y="3162240"/>
            <a:ext cx="1900080" cy="12222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805360" y="3608280"/>
            <a:ext cx="1814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mo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7040" y="16239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36960" y="14097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1800" y="9907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64320" y="2776680"/>
            <a:ext cx="3240" cy="374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64240" y="2592360"/>
            <a:ext cx="198360" cy="21420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875200" y="21636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22640" y="2700360"/>
            <a:ext cx="2524320" cy="881280"/>
          </a:xfrm>
          <a:custGeom>
            <a:avLst/>
            <a:gdLst/>
            <a:ahLst/>
            <a:rect l="0" t="0" r="r" b="b"/>
            <a:pathLst>
              <a:path fill="none" w="7012" h="2448">
                <a:moveTo>
                  <a:pt x="0" y="2448"/>
                </a:moveTo>
                <a:lnTo>
                  <a:pt x="2906" y="2439"/>
                </a:lnTo>
                <a:lnTo>
                  <a:pt x="3555" y="564"/>
                </a:lnTo>
                <a:lnTo>
                  <a:pt x="7012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40280" y="2070000"/>
            <a:ext cx="2202120" cy="1416240"/>
          </a:xfrm>
          <a:custGeom>
            <a:avLst/>
            <a:gdLst/>
            <a:ahLst/>
            <a:rect l="0" t="0" r="r" b="b"/>
            <a:pathLst>
              <a:path fill="none" w="6117" h="3934">
                <a:moveTo>
                  <a:pt x="6117" y="3934"/>
                </a:moveTo>
                <a:lnTo>
                  <a:pt x="3846" y="3290"/>
                </a:lnTo>
                <a:lnTo>
                  <a:pt x="2368" y="2174"/>
                </a:lnTo>
                <a:lnTo>
                  <a:pt x="2368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0080" y="63594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51200" y="11890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294680" y="24084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3720" y="3473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97760" y="340200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17920" y="47052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59200" y="50371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716360" y="4135320"/>
            <a:ext cx="198360" cy="559080"/>
            <a:chOff x="4716360" y="4135320"/>
            <a:chExt cx="198360" cy="559080"/>
          </a:xfrm>
        </p:grpSpPr>
        <p:sp>
          <p:nvSpPr>
            <p:cNvPr id="231" name=""/>
            <p:cNvSpPr/>
            <p:nvPr/>
          </p:nvSpPr>
          <p:spPr>
            <a:xfrm>
              <a:off x="4816440" y="431964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6360" y="41353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915080" y="484992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19400" y="2228760"/>
            <a:ext cx="1352880" cy="2667240"/>
          </a:xfrm>
          <a:custGeom>
            <a:avLst/>
            <a:gdLst/>
            <a:ahLst/>
            <a:rect l="0" t="0" r="r" b="b"/>
            <a:pathLst>
              <a:path fill="none" w="3758" h="7409">
                <a:moveTo>
                  <a:pt x="2911" y="7409"/>
                </a:moveTo>
                <a:lnTo>
                  <a:pt x="3758" y="4869"/>
                </a:lnTo>
                <a:lnTo>
                  <a:pt x="375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57560" y="3619440"/>
            <a:ext cx="686160" cy="533880"/>
          </a:xfrm>
          <a:custGeom>
            <a:avLst/>
            <a:gdLst/>
            <a:ahLst/>
            <a:rect l="0" t="0" r="r" b="b"/>
            <a:pathLst>
              <a:path fill="none" w="1906" h="1483">
                <a:moveTo>
                  <a:pt x="0" y="0"/>
                </a:moveTo>
                <a:lnTo>
                  <a:pt x="899" y="741"/>
                </a:lnTo>
                <a:lnTo>
                  <a:pt x="190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979720" y="408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37000" y="42372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325680" y="258300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440080" y="2460600"/>
            <a:ext cx="898560" cy="212760"/>
            <a:chOff x="2440080" y="2460600"/>
            <a:chExt cx="898560" cy="212760"/>
          </a:xfrm>
        </p:grpSpPr>
        <p:sp>
          <p:nvSpPr>
            <p:cNvPr id="240" name=""/>
            <p:cNvSpPr/>
            <p:nvPr/>
          </p:nvSpPr>
          <p:spPr>
            <a:xfrm>
              <a:off x="2440080" y="246060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39880" y="256716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952560" y="212724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440080" y="2994120"/>
            <a:ext cx="898560" cy="212760"/>
            <a:chOff x="2440080" y="2994120"/>
            <a:chExt cx="898560" cy="212760"/>
          </a:xfrm>
        </p:grpSpPr>
        <p:sp>
          <p:nvSpPr>
            <p:cNvPr id="244" name=""/>
            <p:cNvSpPr/>
            <p:nvPr/>
          </p:nvSpPr>
          <p:spPr>
            <a:xfrm>
              <a:off x="2440080" y="29941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39880" y="31003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440080" y="3489480"/>
            <a:ext cx="898560" cy="212760"/>
            <a:chOff x="2440080" y="3489480"/>
            <a:chExt cx="898560" cy="212760"/>
          </a:xfrm>
        </p:grpSpPr>
        <p:sp>
          <p:nvSpPr>
            <p:cNvPr id="247" name=""/>
            <p:cNvSpPr/>
            <p:nvPr/>
          </p:nvSpPr>
          <p:spPr>
            <a:xfrm>
              <a:off x="2440080" y="34894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39880" y="359568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857160" y="26989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23960" y="325116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440080" y="4861080"/>
            <a:ext cx="1089000" cy="212760"/>
            <a:chOff x="2440080" y="4861080"/>
            <a:chExt cx="1089000" cy="212760"/>
          </a:xfrm>
        </p:grpSpPr>
        <p:sp>
          <p:nvSpPr>
            <p:cNvPr id="252" name=""/>
            <p:cNvSpPr/>
            <p:nvPr/>
          </p:nvSpPr>
          <p:spPr>
            <a:xfrm>
              <a:off x="2440080" y="4861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9880" y="4967280"/>
              <a:ext cx="8892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"/>
          <p:cNvSpPr txBox="1"/>
          <p:nvPr/>
        </p:nvSpPr>
        <p:spPr>
          <a:xfrm>
            <a:off x="743040" y="45655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459160" y="5356080"/>
            <a:ext cx="1050840" cy="212760"/>
            <a:chOff x="2459160" y="5356080"/>
            <a:chExt cx="1050840" cy="212760"/>
          </a:xfrm>
        </p:grpSpPr>
        <p:sp>
          <p:nvSpPr>
            <p:cNvPr id="256" name=""/>
            <p:cNvSpPr/>
            <p:nvPr/>
          </p:nvSpPr>
          <p:spPr>
            <a:xfrm>
              <a:off x="2459160" y="5356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8960" y="5462640"/>
              <a:ext cx="8510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876240" y="50799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47680" y="6070680"/>
            <a:ext cx="2657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Item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47800" y="4381560"/>
            <a:ext cx="4001040" cy="2095920"/>
          </a:xfrm>
          <a:custGeom>
            <a:avLst/>
            <a:gdLst/>
            <a:ahLst/>
            <a:rect l="0" t="0" r="r" b="b"/>
            <a:pathLst>
              <a:path fill="none" w="11114" h="5822">
                <a:moveTo>
                  <a:pt x="0" y="5822"/>
                </a:moveTo>
                <a:lnTo>
                  <a:pt x="9103" y="5769"/>
                </a:lnTo>
                <a:lnTo>
                  <a:pt x="11114" y="2435"/>
                </a:lnTo>
                <a:lnTo>
                  <a:pt x="11114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Custom Hand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48040" y="3156120"/>
            <a:ext cx="3179880" cy="3227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5840" y="290052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65760" y="26859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70600" y="22669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06520" y="364176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6680" y="3747960"/>
            <a:ext cx="2222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19000" y="330840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06520" y="4175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6680" y="4281480"/>
            <a:ext cx="2236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23960" y="38797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90400" y="443232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278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361800" y="210816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60720" y="2192400"/>
            <a:ext cx="1389240" cy="112716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29160" y="2978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0200" y="244944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597640" y="4183200"/>
            <a:ext cx="151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faul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andl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809880" y="2800440"/>
            <a:ext cx="1981440" cy="266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62720" y="339732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53000" y="2038320"/>
            <a:ext cx="3715200" cy="1371960"/>
          </a:xfrm>
          <a:custGeom>
            <a:avLst/>
            <a:gdLst/>
            <a:ahLst/>
            <a:rect l="0" t="0" r="r" b="b"/>
            <a:pathLst>
              <a:path fill="none" w="10320" h="3811">
                <a:moveTo>
                  <a:pt x="10320" y="3811"/>
                </a:moveTo>
                <a:lnTo>
                  <a:pt x="878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83040" y="53560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2280" y="5462640"/>
            <a:ext cx="527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838600" y="492768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37240" y="24652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Produ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81000" y="3419640"/>
            <a:ext cx="7182000" cy="15746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ment, naming/enum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matching, activ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6040" y="202392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59000" y="2023920"/>
            <a:ext cx="1444680" cy="82692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55880" y="2004840"/>
            <a:ext cx="1258920" cy="85716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91120" y="2023920"/>
            <a:ext cx="1658880" cy="84780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04000" y="2023920"/>
            <a:ext cx="23274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Another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48040" y="3975120"/>
            <a:ext cx="3218040" cy="2408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8120" y="328140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18040" y="3067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222880" y="264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90400" y="4432320"/>
            <a:ext cx="18446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309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"/>
          <p:cNvSpPr txBox="1"/>
          <p:nvPr/>
        </p:nvSpPr>
        <p:spPr>
          <a:xfrm>
            <a:off x="361800" y="2108160"/>
            <a:ext cx="18954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60720" y="2192400"/>
            <a:ext cx="1655640" cy="160344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165480" y="2259000"/>
            <a:ext cx="1430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57720" y="341640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Pie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76800" y="4924440"/>
            <a:ext cx="2397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x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57880" y="3181320"/>
            <a:ext cx="144756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39040" y="42544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53000" y="2038320"/>
            <a:ext cx="3791160" cy="2248200"/>
          </a:xfrm>
          <a:custGeom>
            <a:avLst/>
            <a:gdLst/>
            <a:ahLst/>
            <a:rect l="0" t="0" r="r" b="b"/>
            <a:pathLst>
              <a:path fill="none" w="10531" h="6245">
                <a:moveTo>
                  <a:pt x="10531" y="6245"/>
                </a:moveTo>
                <a:lnTo>
                  <a:pt x="8785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689880" y="284652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0" y="3962520"/>
            <a:ext cx="212760" cy="19692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838600" y="412740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346560" y="3755880"/>
            <a:ext cx="38160" cy="203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90720" y="173844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lifetime of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utomatic garbage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cles:  avoid or br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to one process (more l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ules provide for optim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() returns object ref count; debug code can verify final rel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, Use,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23960" y="2362320"/>
            <a:ext cx="819144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DataObj-&gt;EnumFormatEtc(..., &amp;penum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Next(..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Releas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inter Lifeti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08440" y="312588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7040" y="254484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63800" y="3952800"/>
            <a:ext cx="2851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273640" y="4576680"/>
            <a:ext cx="3003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ing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606760" y="3533760"/>
            <a:ext cx="887760" cy="103680"/>
            <a:chOff x="2606760" y="3533760"/>
            <a:chExt cx="887760" cy="103680"/>
          </a:xfrm>
        </p:grpSpPr>
        <p:sp>
          <p:nvSpPr>
            <p:cNvPr id="339" name=""/>
            <p:cNvSpPr/>
            <p:nvPr/>
          </p:nvSpPr>
          <p:spPr>
            <a:xfrm>
              <a:off x="2606760" y="3584520"/>
              <a:ext cx="728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38640" y="3533760"/>
              <a:ext cx="155880" cy="103680"/>
            </a:xfrm>
            <a:custGeom>
              <a:avLst/>
              <a:gdLst/>
              <a:ahLst/>
              <a:rect l="0" t="0" r="r" b="b"/>
              <a:pathLst>
                <a:path w="433" h="288">
                  <a:moveTo>
                    <a:pt x="0" y="0"/>
                  </a:moveTo>
                  <a:lnTo>
                    <a:pt x="433" y="144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 txBox="1"/>
          <p:nvPr/>
        </p:nvSpPr>
        <p:spPr>
          <a:xfrm>
            <a:off x="679320" y="298944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79320" y="340056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654200" y="2752560"/>
            <a:ext cx="2764080" cy="103680"/>
            <a:chOff x="1654200" y="2752560"/>
            <a:chExt cx="2764080" cy="103680"/>
          </a:xfrm>
        </p:grpSpPr>
        <p:sp>
          <p:nvSpPr>
            <p:cNvPr id="344" name=""/>
            <p:cNvSpPr/>
            <p:nvPr/>
          </p:nvSpPr>
          <p:spPr>
            <a:xfrm>
              <a:off x="1654200" y="2803680"/>
              <a:ext cx="261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7080" y="2752560"/>
              <a:ext cx="151200" cy="103680"/>
            </a:xfrm>
            <a:custGeom>
              <a:avLst/>
              <a:gdLst/>
              <a:ahLst/>
              <a:rect l="0" t="0" r="r" b="b"/>
              <a:pathLst>
                <a:path w="420" h="288">
                  <a:moveTo>
                    <a:pt x="0" y="0"/>
                  </a:moveTo>
                  <a:lnTo>
                    <a:pt x="420" y="142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 txBox="1"/>
          <p:nvPr/>
        </p:nvSpPr>
        <p:spPr>
          <a:xfrm>
            <a:off x="976320" y="264492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3875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353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865160" y="3133800"/>
            <a:ext cx="2164320" cy="97200"/>
            <a:chOff x="1865160" y="3133800"/>
            <a:chExt cx="2164320" cy="97200"/>
          </a:xfrm>
        </p:grpSpPr>
        <p:sp>
          <p:nvSpPr>
            <p:cNvPr id="350" name=""/>
            <p:cNvSpPr/>
            <p:nvPr/>
          </p:nvSpPr>
          <p:spPr>
            <a:xfrm>
              <a:off x="1865160" y="3181320"/>
              <a:ext cx="2022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90880" y="3133800"/>
              <a:ext cx="138600" cy="97200"/>
            </a:xfrm>
            <a:custGeom>
              <a:avLst/>
              <a:gdLst/>
              <a:ahLst/>
              <a:rect l="0" t="0" r="r" b="b"/>
              <a:pathLst>
                <a:path w="385" h="270">
                  <a:moveTo>
                    <a:pt x="0" y="0"/>
                  </a:moveTo>
                  <a:lnTo>
                    <a:pt x="385" y="135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 txBox="1"/>
          <p:nvPr/>
        </p:nvSpPr>
        <p:spPr>
          <a:xfrm>
            <a:off x="164160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73392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797360" y="359244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797360" y="401940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76920" y="3406680"/>
            <a:ext cx="2595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64600" y="3352680"/>
            <a:ext cx="152640" cy="106560"/>
          </a:xfrm>
          <a:custGeom>
            <a:avLst/>
            <a:gdLst/>
            <a:ahLst/>
            <a:rect l="0" t="0" r="r" b="b"/>
            <a:pathLst>
              <a:path w="424" h="296">
                <a:moveTo>
                  <a:pt x="0" y="0"/>
                </a:moveTo>
                <a:lnTo>
                  <a:pt x="424" y="150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92560" y="3236760"/>
            <a:ext cx="7081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49620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57404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8244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612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16680" y="3797280"/>
            <a:ext cx="1003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942240" y="3741840"/>
            <a:ext cx="157680" cy="106560"/>
          </a:xfrm>
          <a:custGeom>
            <a:avLst/>
            <a:gdLst/>
            <a:ahLst/>
            <a:rect l="0" t="0" r="r" b="b"/>
            <a:pathLst>
              <a:path w="438" h="296">
                <a:moveTo>
                  <a:pt x="0" y="0"/>
                </a:moveTo>
                <a:lnTo>
                  <a:pt x="438" y="147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08600" y="4191120"/>
            <a:ext cx="100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4000" y="4130640"/>
            <a:ext cx="155880" cy="108360"/>
          </a:xfrm>
          <a:custGeom>
            <a:avLst/>
            <a:gdLst/>
            <a:ahLst/>
            <a:rect l="0" t="0" r="r" b="b"/>
            <a:pathLst>
              <a:path w="433" h="301">
                <a:moveTo>
                  <a:pt x="0" y="0"/>
                </a:moveTo>
                <a:lnTo>
                  <a:pt x="433" y="153"/>
                </a:lnTo>
                <a:lnTo>
                  <a:pt x="0" y="30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85840" y="1581120"/>
            <a:ext cx="857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XX::Release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77960" y="1752480"/>
            <a:ext cx="75880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IMP_(ULONG) CXX::Releas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--m_refs ==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te th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m_ref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258920" y="1308240"/>
            <a:ext cx="662616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ilt upon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s of RPC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, cach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 h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 source and tar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terface to component object system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247760" y="1574640"/>
            <a:ext cx="6648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, loc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 related to compound document scenarios in other tal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itial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71640" y="182880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BuildVersion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major and minor build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o determine if new 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(NULL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before most use of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s task allocator; can re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initialize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71680" y="990720"/>
            <a:ext cx="814068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FAR CDelayedRelease : public I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(QueryInterface) (REFIID iid, LPVOID FAR* ppvObj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AddRef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Release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(IUnknown FAR* pUnk);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CDelayedRelease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AR *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CDelayedRelease (IUnknown FAR* pUnk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 = 1;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 = pUnk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pUnk)   pUnk-&gt;AddRe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~CDelayedRelease (voi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m_pUnk)   m_pUnk-&gt;Release()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81200" y="201924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45080" y="2019240"/>
            <a:ext cx="1654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478480" y="2019240"/>
            <a:ext cx="1870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00080" y="3228840"/>
            <a:ext cx="289548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71880" y="3228840"/>
            <a:ext cx="173340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00680" y="3228840"/>
            <a:ext cx="2343240" cy="87948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600" y="4448160"/>
            <a:ext cx="9118440" cy="49536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85640" y="1922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04880" y="971640"/>
            <a:ext cx="7715160" cy="57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 CDelayedRelease::QueryInterface(REFIID iid, LPLPVOID pp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iid == IID_IUnknown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+m_ref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NOERRO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els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ResultFromScode(E_NOINTERFAC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AddRef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  return ++m_refs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Releas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--m_refs == 0) {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this;    return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328760" y="1063800"/>
            <a:ext cx="6486480" cy="54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uniqu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den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 and other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s - one proces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ieces are compon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16224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4324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033640" y="4367160"/>
            <a:ext cx="180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605560" y="321156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2685960"/>
            <a:ext cx="49536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00560" y="2190600"/>
            <a:ext cx="64764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5219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43000" y="3828960"/>
            <a:ext cx="762120" cy="1352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887480" y="3718080"/>
            <a:ext cx="441360" cy="98280"/>
            <a:chOff x="1887480" y="3718080"/>
            <a:chExt cx="441360" cy="98280"/>
          </a:xfrm>
        </p:grpSpPr>
        <p:sp>
          <p:nvSpPr>
            <p:cNvPr id="396" name=""/>
            <p:cNvSpPr/>
            <p:nvPr/>
          </p:nvSpPr>
          <p:spPr>
            <a:xfrm>
              <a:off x="1887480" y="37180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68480" y="376704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754440" y="2327400"/>
            <a:ext cx="98280" cy="365040"/>
            <a:chOff x="3754440" y="2327400"/>
            <a:chExt cx="98280" cy="365040"/>
          </a:xfrm>
        </p:grpSpPr>
        <p:sp>
          <p:nvSpPr>
            <p:cNvPr id="399" name=""/>
            <p:cNvSpPr/>
            <p:nvPr/>
          </p:nvSpPr>
          <p:spPr>
            <a:xfrm>
              <a:off x="3754440" y="25909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03760" y="23274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40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92760" y="2860560"/>
            <a:ext cx="98280" cy="289080"/>
            <a:chOff x="5792760" y="2860560"/>
            <a:chExt cx="98280" cy="289080"/>
          </a:xfrm>
        </p:grpSpPr>
        <p:sp>
          <p:nvSpPr>
            <p:cNvPr id="405" name=""/>
            <p:cNvSpPr/>
            <p:nvPr/>
          </p:nvSpPr>
          <p:spPr>
            <a:xfrm>
              <a:off x="5792760" y="286056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42080" y="294156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572160" y="390528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47640" y="12002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42960" y="1486080"/>
            <a:ext cx="1067040" cy="1409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592360" y="2936880"/>
            <a:ext cx="98280" cy="289080"/>
            <a:chOff x="2592360" y="2936880"/>
            <a:chExt cx="98280" cy="289080"/>
          </a:xfrm>
        </p:grpSpPr>
        <p:sp>
          <p:nvSpPr>
            <p:cNvPr id="412" name=""/>
            <p:cNvSpPr/>
            <p:nvPr/>
          </p:nvSpPr>
          <p:spPr>
            <a:xfrm>
              <a:off x="2592360" y="29368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41680" y="30178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905440" y="1657440"/>
            <a:ext cx="15242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0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8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35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43120" y="2628720"/>
            <a:ext cx="1581480" cy="2362680"/>
          </a:xfrm>
          <a:custGeom>
            <a:avLst/>
            <a:gdLst/>
            <a:ahLst/>
            <a:rect l="0" t="0" r="r" b="b"/>
            <a:pathLst>
              <a:path fill="none" w="4393" h="6563">
                <a:moveTo>
                  <a:pt x="4393" y="0"/>
                </a:moveTo>
                <a:lnTo>
                  <a:pt x="529" y="2964"/>
                </a:lnTo>
                <a:lnTo>
                  <a:pt x="0" y="5875"/>
                </a:lnTo>
                <a:lnTo>
                  <a:pt x="1481" y="6563"/>
                </a:lnTo>
                <a:lnTo>
                  <a:pt x="1481" y="656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42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49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52560" y="3524400"/>
            <a:ext cx="3124440" cy="1467360"/>
          </a:xfrm>
          <a:custGeom>
            <a:avLst/>
            <a:gdLst/>
            <a:ahLst/>
            <a:rect l="0" t="0" r="r" b="b"/>
            <a:pathLst>
              <a:path fill="none" w="8679" h="4076">
                <a:moveTo>
                  <a:pt x="0" y="0"/>
                </a:moveTo>
                <a:lnTo>
                  <a:pt x="4975" y="2276"/>
                </a:lnTo>
                <a:lnTo>
                  <a:pt x="7197" y="3388"/>
                </a:lnTo>
                <a:lnTo>
                  <a:pt x="8679" y="4076"/>
                </a:lnTo>
                <a:lnTo>
                  <a:pt x="8679" y="4076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1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Object created first, then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339920" y="1681200"/>
            <a:ext cx="64641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., &amp;pC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rom 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-side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68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7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474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477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96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99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02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05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13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7581960" y="3219480"/>
            <a:ext cx="76320" cy="971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30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33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3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3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5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705720" y="2362320"/>
            <a:ext cx="838440" cy="1848240"/>
          </a:xfrm>
          <a:custGeom>
            <a:avLst/>
            <a:gdLst/>
            <a:ahLst/>
            <a:rect l="0" t="0" r="r" b="b"/>
            <a:pathLst>
              <a:path fill="none" w="2329" h="5134">
                <a:moveTo>
                  <a:pt x="0" y="0"/>
                </a:moveTo>
                <a:lnTo>
                  <a:pt x="793" y="3652"/>
                </a:lnTo>
                <a:lnTo>
                  <a:pt x="2329" y="513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557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6076800" y="2381400"/>
            <a:ext cx="55260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Distance To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82680" y="1738440"/>
            <a:ext cx="657864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thin an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remote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ice made primarily by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7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7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8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8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0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0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62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6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5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5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664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860400" y="1738440"/>
            <a:ext cx="74246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and handler must be aware of the order of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, &amp;pC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, &amp;pObj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QI(IID_IPersistStorage, &amp;p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S-&gt;Load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’s process need not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76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057320" y="1922400"/>
            <a:ext cx="70293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Run (or pObj-&gt;DoVerb(...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class object; may ru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(spec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CF-&gt;CreateInstance(NULL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with marshaled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 to existing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8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9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9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1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1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2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3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4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4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5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6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7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77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8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8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95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7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0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04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12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18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8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837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840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4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5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5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6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69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Siz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1160" y="1738440"/>
            <a:ext cx="73216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weight objects - no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-weight objects -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vyweight - handler or local server fronts large network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e possible by transparent nature of remo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527120" y="1738440"/>
            <a:ext cx="60897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release of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same for both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Releas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gets last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cleans up and calls ProxyManager to disconn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 releases object if last connection, no table strong marshalings and no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9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9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903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1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1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24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3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33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3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4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4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69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74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81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84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96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0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0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1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2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4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4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1568520" y="1200240"/>
            <a:ext cx="60087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ake object available in other con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trol shut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vs. 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unningObjectTable::Register(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Drag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Acti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gisterClass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ckObjectExte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etContainedObject (less di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54348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067360" y="447660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125748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3586320" y="326880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162240" y="2133720"/>
            <a:ext cx="6098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5450040" y="4175280"/>
            <a:ext cx="98280" cy="288720"/>
            <a:chOff x="5450040" y="4175280"/>
            <a:chExt cx="98280" cy="288720"/>
          </a:xfrm>
        </p:grpSpPr>
        <p:sp>
          <p:nvSpPr>
            <p:cNvPr id="1064" name=""/>
            <p:cNvSpPr/>
            <p:nvPr/>
          </p:nvSpPr>
          <p:spPr>
            <a:xfrm>
              <a:off x="5450040" y="41752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499000" y="42559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754440" y="2879640"/>
            <a:ext cx="98280" cy="289080"/>
            <a:chOff x="3754440" y="2879640"/>
            <a:chExt cx="98280" cy="289080"/>
          </a:xfrm>
        </p:grpSpPr>
        <p:sp>
          <p:nvSpPr>
            <p:cNvPr id="1067" name=""/>
            <p:cNvSpPr/>
            <p:nvPr/>
          </p:nvSpPr>
          <p:spPr>
            <a:xfrm>
              <a:off x="3754440" y="287964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803760" y="296064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4514760" y="388620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1562040" y="14097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5014800" y="522432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3848040" y="1657440"/>
            <a:ext cx="35816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400040" y="192420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400040" y="322884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400040" y="474336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67200" y="2876400"/>
            <a:ext cx="628920" cy="495720"/>
          </a:xfrm>
          <a:custGeom>
            <a:avLst/>
            <a:gdLst/>
            <a:ahLst/>
            <a:rect l="0" t="0" r="r" b="b"/>
            <a:pathLst>
              <a:path fill="none" w="1747" h="1377">
                <a:moveTo>
                  <a:pt x="0" y="1377"/>
                </a:moveTo>
                <a:lnTo>
                  <a:pt x="52" y="0"/>
                </a:lnTo>
                <a:lnTo>
                  <a:pt x="1747" y="52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38560" y="2933640"/>
            <a:ext cx="514800" cy="1924560"/>
          </a:xfrm>
          <a:custGeom>
            <a:avLst/>
            <a:gdLst/>
            <a:ahLst/>
            <a:rect l="0" t="0" r="r" b="b"/>
            <a:pathLst>
              <a:path fill="none" w="1430" h="5346">
                <a:moveTo>
                  <a:pt x="0" y="5346"/>
                </a:moveTo>
                <a:lnTo>
                  <a:pt x="688" y="2911"/>
                </a:lnTo>
                <a:lnTo>
                  <a:pt x="688" y="476"/>
                </a:lnTo>
                <a:lnTo>
                  <a:pt x="143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378560" y="2362320"/>
            <a:ext cx="175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agD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tiv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ass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 flipV="1">
            <a:off x="7505640" y="1676520"/>
            <a:ext cx="266760" cy="628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6330960" y="3714840"/>
            <a:ext cx="175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k Ex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495680" y="2952720"/>
            <a:ext cx="2267280" cy="705240"/>
          </a:xfrm>
          <a:custGeom>
            <a:avLst/>
            <a:gdLst/>
            <a:ahLst/>
            <a:rect l="0" t="0" r="r" b="b"/>
            <a:pathLst>
              <a:path fill="none" w="6298" h="1959">
                <a:moveTo>
                  <a:pt x="6298" y="1959"/>
                </a:moveTo>
                <a:lnTo>
                  <a:pt x="2857" y="158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952560" y="6095880"/>
            <a:ext cx="285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 Contained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448080" y="4457880"/>
            <a:ext cx="343440" cy="1486440"/>
          </a:xfrm>
          <a:custGeom>
            <a:avLst/>
            <a:gdLst/>
            <a:ahLst/>
            <a:rect l="0" t="0" r="r" b="b"/>
            <a:pathLst>
              <a:path fill="none" w="954" h="4129">
                <a:moveTo>
                  <a:pt x="0" y="4129"/>
                </a:moveTo>
                <a:lnTo>
                  <a:pt x="954" y="2329"/>
                </a:lnTo>
                <a:lnTo>
                  <a:pt x="848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733320" y="1600200"/>
            <a:ext cx="76770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no more objects, can un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DLLs, via CoFreeUnusedLibrar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s pointers to class objects for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DllCanUnloadNow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FreeLibrary if allow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global counter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Es, PostQuitMessage, etc.; more detail in later s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58760" y="1219320"/>
            <a:ext cx="7027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with the minimum; add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 (embed/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s bett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1104840" y="1738440"/>
            <a:ext cx="6934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SCTXs (class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SHCTXs (marshal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 to understand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to generate remoting pi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990720" y="2295360"/>
            <a:ext cx="71629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C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7960" y="1341360"/>
            <a:ext cx="81280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function calls - no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 - small par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 objects - mos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network RPC - under 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overhead depending upon kind of objects (e.g., OLE objects which use the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delay creation of some resources until needed (e.g., IDispatch sup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6720" y="1424160"/>
            <a:ext cx="78105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 via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via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ndependent; C, C++ particularly well su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languages will 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source standard; never required or encouraged to ship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ion for code reuse; inheritance not supported betwee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