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200" spc="-1" strike="noStrike">
                <a:solidFill>
                  <a:srgbClr val="fafd00"/>
                </a:solidFill>
                <a:latin typeface="Arial"/>
                <a:ea typeface="Arial"/>
              </a:rPr>
              <a:t>Hamilton C shell</a:t>
            </a:r>
            <a:br>
              <a:rPr sz="4200"/>
            </a:br>
            <a:r>
              <a:rPr b="1" lang="en-US" sz="4200" spc="-1" strike="noStrike">
                <a:solidFill>
                  <a:srgbClr val="fafd00"/>
                </a:solidFill>
                <a:latin typeface="Arial"/>
                <a:ea typeface="Arial"/>
              </a:rPr>
              <a:t>for Windows 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990720" y="2666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00ff00"/>
                </a:solidFill>
                <a:latin typeface="Century Schoolbook"/>
                <a:ea typeface="Century Schoolbook"/>
              </a:rPr>
              <a:t>World’s Most Powerful Tool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amilton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3 Old Farm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yland, MA  01778-3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 508-358-57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X  508-358-11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net 3890321@mci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14400" y="8380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Hamilton C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14400" y="2590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recreation from scratch of the UNIX C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ludes over 130 commands and utilities including grep, fgrep, cut, diff, ls, mv, cp, rm, head, tail, more, tar, se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irtually all the tools (other than the compiler) that a developer might ever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09480" y="198108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  <a:ea typeface="Arial"/>
              </a:rPr>
              <a:t>Dramatically more powerful script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uilt-in and user-defined procedures (even a printf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Local variabl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nterrupt handling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ackground threads and process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mmand substituti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Powerful expression grammar (including FP and filesystem test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9072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Faster &amp; Easier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1447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  <a:ea typeface="Arial"/>
              </a:rPr>
              <a:t>Better usabilit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Full-screen command line editing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Unlimited command line siz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mmand and filename completi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etter wildcarding, including indefinite directori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mproved language defin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  <a:ea typeface="Arial"/>
              </a:rPr>
              <a:t>Improved performance &amp; responsivenes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Pathhashing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Extensive multi-threading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ncremental compilati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etter time/space tra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76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sign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2193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Recreate all the functionality in the UNIX origi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he union of all the functionality of both System V and BS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All the functions, all the command line switches -- Everything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Fix all the numerous defici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Do more than just a cosmetic look-alike of UN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arefully adhere to all Windows NT conventions for escape characters, file slashes, network naming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o the right thing,” e.g., in starting apps that will run in a new window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ake advantage of threads and other new technology to do a better j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Fanatical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ypical Cust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205740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ious developers at hard-core development shops like Microsoft, Lotus, Sybase, Parametric Technology, Tricord, and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ly about half are coming from a UNIX back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st typically have no UNIX experienc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out half buy it for the scripting 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other half buy it just for the interactive benef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Shipping To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9810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  <a:ea typeface="Arial"/>
              </a:rPr>
              <a:t>A stable, shipping produc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ntel x86: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July 19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MIPS R4x00: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August 19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EC Alpha: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ecember 19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  <a:ea typeface="Arial"/>
              </a:rPr>
              <a:t>Quantity 1 price, including shipping by ai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$350. U.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$365. 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$395. Elsew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  <a:ea typeface="Arial"/>
              </a:rPr>
              <a:t>Unconditional satisfaction guarante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Hamilton C shell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Bottom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3623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ypically, a customer can save an hour/d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nyone worth putting in front of a tube is worth $50/hou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  <a:ea typeface="Arial"/>
              </a:rPr>
              <a:t>Payback is about a we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